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9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3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6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3CE4-77C4-4267-BFB8-619F4277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DD23-EC0C-4FA3-9AFC-F642776D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FD35-9456-4E4D-BEA6-49F8AF0C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EDCD-437C-40D9-9A89-752E553C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2CD8-8384-4466-894C-CE3C3F5B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FDCB-E0FF-470E-99E4-AD27160D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7F35-F87B-482A-8439-F14338E8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1F23-31FF-422A-9356-7D547D77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D83B-7D64-48C7-AD04-4E0BBE7D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516C-999B-463E-BCB6-0B6C0EF4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7D23-9BAA-4651-9785-2DAA2E54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ACE-EF3D-4807-A413-C5FB842C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B746-72C7-4164-B06A-E80E23C1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311C-1712-4B3B-9EAE-2D0A6213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C652-D214-49E8-A93B-96A7BF59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3352-EB3C-4942-BDB4-3602912C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9888-66E1-494F-9841-70837C32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D1E1-369A-438D-B774-1B08430C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3AA-B2F6-4334-9A43-A92A6EA6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935-0EB2-4C8E-A203-EDDD710A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8613-5488-403D-AE82-78DFFCC5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A9C-28CD-477A-9D9C-5C6E536E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0D03-FC94-4ADA-97F2-AA71782E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255-F472-4ABD-9354-A1703657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378480"/>
            <a:ext cx="9144000" cy="47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3399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" descr="花纹1"/>
          <p:cNvPicPr/>
          <p:nvPr/>
        </p:nvPicPr>
        <p:blipFill>
          <a:blip r:embed="rId2"/>
          <a:stretch/>
        </p:blipFill>
        <p:spPr>
          <a:xfrm>
            <a:off x="7593120" y="5126040"/>
            <a:ext cx="155088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4"/>
          <p:cNvSpPr/>
          <p:nvPr/>
        </p:nvSpPr>
        <p:spPr>
          <a:xfrm>
            <a:off x="0" y="0"/>
            <a:ext cx="9144000" cy="65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3399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228600" y="171360"/>
            <a:ext cx="952560" cy="952560"/>
            <a:chOff x="228600" y="171360"/>
            <a:chExt cx="952560" cy="952560"/>
          </a:xfrm>
        </p:grpSpPr>
        <p:sp>
          <p:nvSpPr>
            <p:cNvPr id="4" name="Oval 6"/>
            <p:cNvSpPr/>
            <p:nvPr/>
          </p:nvSpPr>
          <p:spPr>
            <a:xfrm>
              <a:off x="228600" y="171360"/>
              <a:ext cx="952560" cy="952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289080" y="228960"/>
              <a:ext cx="825840" cy="8262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D2D3-358D-47E7-AC57-7BB2CC31174A}" type="datetime3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A44E-6362-49B3-8366-F644B2129A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主题背景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3"/>
          <p:cNvGrpSpPr/>
          <p:nvPr/>
        </p:nvGrpSpPr>
        <p:grpSpPr>
          <a:xfrm>
            <a:off x="1981080" y="0"/>
            <a:ext cx="3505320" cy="6858000"/>
            <a:chOff x="1981080" y="0"/>
            <a:chExt cx="3505320" cy="6858000"/>
          </a:xfrm>
        </p:grpSpPr>
        <p:sp>
          <p:nvSpPr>
            <p:cNvPr id="49" name="Rectangle 4"/>
            <p:cNvSpPr/>
            <p:nvPr/>
          </p:nvSpPr>
          <p:spPr>
            <a:xfrm>
              <a:off x="1981080" y="0"/>
              <a:ext cx="28195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"/>
            <p:cNvSpPr/>
            <p:nvPr/>
          </p:nvSpPr>
          <p:spPr>
            <a:xfrm>
              <a:off x="2666880" y="0"/>
              <a:ext cx="21337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3352680" y="0"/>
              <a:ext cx="14479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4038480" y="0"/>
              <a:ext cx="14479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8"/>
          <p:cNvGrpSpPr/>
          <p:nvPr/>
        </p:nvGrpSpPr>
        <p:grpSpPr>
          <a:xfrm>
            <a:off x="2008080" y="1170000"/>
            <a:ext cx="1494000" cy="1494000"/>
            <a:chOff x="2008080" y="1170000"/>
            <a:chExt cx="1494000" cy="1494000"/>
          </a:xfrm>
        </p:grpSpPr>
        <p:sp>
          <p:nvSpPr>
            <p:cNvPr id="54" name="Oval 9"/>
            <p:cNvSpPr/>
            <p:nvPr/>
          </p:nvSpPr>
          <p:spPr>
            <a:xfrm>
              <a:off x="2008080" y="1170000"/>
              <a:ext cx="1494000" cy="14940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0"/>
            <p:cNvSpPr/>
            <p:nvPr/>
          </p:nvSpPr>
          <p:spPr>
            <a:xfrm>
              <a:off x="2103480" y="1260360"/>
              <a:ext cx="1295280" cy="1295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1"/>
          <p:cNvGrpSpPr/>
          <p:nvPr/>
        </p:nvGrpSpPr>
        <p:grpSpPr>
          <a:xfrm>
            <a:off x="4268880" y="4643280"/>
            <a:ext cx="1066680" cy="1067040"/>
            <a:chOff x="4268880" y="4643280"/>
            <a:chExt cx="1066680" cy="1067040"/>
          </a:xfrm>
        </p:grpSpPr>
        <p:sp>
          <p:nvSpPr>
            <p:cNvPr id="57" name="Oval 12"/>
            <p:cNvSpPr/>
            <p:nvPr/>
          </p:nvSpPr>
          <p:spPr>
            <a:xfrm>
              <a:off x="4268880" y="4643280"/>
              <a:ext cx="1066680" cy="10670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3"/>
            <p:cNvSpPr/>
            <p:nvPr/>
          </p:nvSpPr>
          <p:spPr>
            <a:xfrm>
              <a:off x="4336920" y="4707720"/>
              <a:ext cx="924840" cy="9252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2712-48FD-4796-B98E-A5C9F572D108}" type="datetime3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96DF-7931-4415-A911-3DBA67EB16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aike.baidu.com/view/15155.htm" TargetMode="External"/><Relationship Id="rId2" Type="http://schemas.openxmlformats.org/officeDocument/2006/relationships/hyperlink" Target="http://baike.baidu.com/view/8093.htm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aike.baidu.com/view/5118331.htm" TargetMode="External"/><Relationship Id="rId2" Type="http://schemas.openxmlformats.org/officeDocument/2006/relationships/hyperlink" Target="http://baike.baidu.com/view/49653.htm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aike.baidu.com/view/5318.htm" TargetMode="External"/><Relationship Id="rId2" Type="http://schemas.openxmlformats.org/officeDocument/2006/relationships/hyperlink" Target="http://baike.baidu.com/view/415109.htm" TargetMode="External"/><Relationship Id="rId3" Type="http://schemas.openxmlformats.org/officeDocument/2006/relationships/hyperlink" Target="http://baike.baidu.com/view/2777.htm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aike.baidu.com/view/1698830.htm" TargetMode="External"/><Relationship Id="rId2" Type="http://schemas.openxmlformats.org/officeDocument/2006/relationships/hyperlink" Target="http://baike.baidu.com/view/288068.htm" TargetMode="External"/><Relationship Id="rId3" Type="http://schemas.openxmlformats.org/officeDocument/2006/relationships/hyperlink" Target="http://baike.baidu.com/view/8847.htm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cnkcnk.com/sh/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B08D-0D58-415E-861E-8C68A9FAEC09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DC53-5A6F-411C-BA9D-42EBA603BF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43120" y="914040"/>
            <a:ext cx="538308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从“教师”到“导师”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学校转型性变革的理论与实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417640" y="4466880"/>
            <a:ext cx="3506760" cy="13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信阳师院教育科学学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河南省基础教育研究中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程与教学改革研究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352680" y="3106800"/>
            <a:ext cx="3508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陈 天 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2AAF-FD7C-4118-990F-78D23611DFB8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C037-29FF-4CDA-ACF6-F356B42071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1141560" y="1086840"/>
            <a:ext cx="7419960" cy="1344240"/>
          </a:xfrm>
          <a:prstGeom prst="rect">
            <a:avLst/>
          </a:prstGeom>
          <a:solidFill>
            <a:srgbClr val="fffc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）事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吊瓶班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吊瓶班”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进入人们的视野， 指的是湖北孝感一中高三某班。该班同学在教室内一边打吊瓶注射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补充能量，一边学习备战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高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场面非常壮观。此举引起了网友的热议，支持者不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遗憾的是，一度被调侃为“史上最牛‘吊瓶班’全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名学生中，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高考中无一人达到一本线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32fa828ba61ea8d32fa5a1a0970a304e241f588b"/>
          <p:cNvPicPr/>
          <p:nvPr/>
        </p:nvPicPr>
        <p:blipFill>
          <a:blip r:embed="rId3"/>
          <a:stretch/>
        </p:blipFill>
        <p:spPr>
          <a:xfrm>
            <a:off x="2424240" y="3236760"/>
            <a:ext cx="475596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437B-B00A-4F10-8B0D-A66027026DDA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D543-A2B1-4EC4-B71D-4881774E61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1174680" y="525240"/>
            <a:ext cx="7440840" cy="1832040"/>
          </a:xfrm>
          <a:prstGeom prst="rect">
            <a:avLst/>
          </a:prstGeom>
          <a:solidFill>
            <a:srgbClr val="fffc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7632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）事件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五道杠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湖北武汉市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的少先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副总队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黄艺博，两岁开始看央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新闻联播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开始每天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民日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参考消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佩戴着全国罕见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五道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官相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蹿红网络，成为各路媒体评论的热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U_3377~1"/>
          <p:cNvPicPr/>
          <p:nvPr/>
        </p:nvPicPr>
        <p:blipFill>
          <a:blip r:embed="rId1"/>
          <a:stretch/>
        </p:blipFill>
        <p:spPr>
          <a:xfrm>
            <a:off x="2619360" y="3008160"/>
            <a:ext cx="43052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ED9B-E5E3-415D-8FC4-D32192FE7D3D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27DC-5E4B-461B-89AD-657C7D97A8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1243080" y="1298160"/>
            <a:ext cx="7018200" cy="1082520"/>
          </a:xfrm>
          <a:prstGeom prst="rect">
            <a:avLst/>
          </a:prstGeom>
          <a:solidFill>
            <a:srgbClr val="fffc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7632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）事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绿领巾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，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西安市未央区第一实验小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老师称学习、思想品德表现稍差的学生没有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红领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为教育其上进，该校便为这部分学生发放了绿领巾。这引起了家长和部分孩子的不满，认为这是一种歧视。但学校进一步解释这一做法是为了“激励上进，并非歧视”，他们也是借鉴了外地学校的做法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c9fcc3cec3fdfc031f11e9fbd43f8794a4c22603"/>
          <p:cNvPicPr/>
          <p:nvPr/>
        </p:nvPicPr>
        <p:blipFill>
          <a:blip r:embed="rId3"/>
          <a:stretch/>
        </p:blipFill>
        <p:spPr>
          <a:xfrm>
            <a:off x="2868480" y="3308400"/>
            <a:ext cx="36244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6216-EC72-4D5B-A87D-D15F02E3EC6B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8B12-7618-4D31-8D86-D527D0564F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285920" y="1121760"/>
            <a:ext cx="7183440" cy="1701360"/>
          </a:xfrm>
          <a:prstGeom prst="rect">
            <a:avLst/>
          </a:prstGeom>
          <a:solidFill>
            <a:srgbClr val="fffc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）事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红校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内蒙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头二十四中向初二、初三年级成绩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名学生发放红色校服，印有“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优秀生，翔锐房地产”字样。该校办公室人员证实，该校确实向考试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名学生发放红色“优秀生”校服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教育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已对此事作出处理，要求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包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十四中停止学生穿红校服的做法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b21c8701a18b87d6e4d5cc5b070828381e30fddb"/>
          <p:cNvPicPr/>
          <p:nvPr/>
        </p:nvPicPr>
        <p:blipFill>
          <a:blip r:embed="rId4"/>
          <a:stretch/>
        </p:blipFill>
        <p:spPr>
          <a:xfrm>
            <a:off x="2712960" y="3368520"/>
            <a:ext cx="4170600" cy="28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EBF4-42AF-4087-BD58-64A7DC35D5F2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C025-78AE-4887-9223-3D042D4902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1181160" y="1072800"/>
            <a:ext cx="7288200" cy="1432080"/>
          </a:xfrm>
          <a:prstGeom prst="rect">
            <a:avLst/>
          </a:prstGeom>
          <a:solidFill>
            <a:srgbClr val="fffc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）事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三色作业本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，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枣庄三十九中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根据学生成绩好坏，为学校部分班级的学生分别发放红黄绿三种颜色的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作业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有家长认为，学校这样做，容易伤害成绩差的学生的自尊心。校方称这是分层次作业，是为帮助学生缩小差距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，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枣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各年级已发的三色作业本被学校全部收回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0dd7912397dda144ec7272f7b2b7d0a20cf4867f"/>
          <p:cNvPicPr/>
          <p:nvPr/>
        </p:nvPicPr>
        <p:blipFill>
          <a:blip r:embed="rId4"/>
          <a:stretch/>
        </p:blipFill>
        <p:spPr>
          <a:xfrm>
            <a:off x="2435400" y="3075120"/>
            <a:ext cx="44179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F038-FD37-41BA-BC38-026EB3689BCD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2BC7-4454-407D-BA0B-92FA4957C6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1090440" y="1257120"/>
            <a:ext cx="6940800" cy="3762720"/>
          </a:xfrm>
          <a:prstGeom prst="rect">
            <a:avLst/>
          </a:prstGeom>
          <a:solidFill>
            <a:srgbClr val="fffc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三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顾明远：反教育行为的五种表现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把学生分成三六九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用暴力对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后进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用非人性的标语口号来督促学生拼命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学习中提倡竞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对学生实施过度教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5627-D2FD-4BC4-8A95-52D56018936A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ED59-BB31-49B6-91F7-BD5EC42522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1225440" y="1846440"/>
            <a:ext cx="6723000" cy="2123280"/>
          </a:xfrm>
          <a:prstGeom prst="rect">
            <a:avLst/>
          </a:prstGeom>
          <a:solidFill>
            <a:srgbClr val="fffc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7632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四）精英主义教育价值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重点学校、升学率竞争、名校崇拜、培养尖子、状元崇拜；望子成龙、出人头地、读书做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6D92-3C53-415B-AE4B-7A7CB7EEE269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07B2-3201-49D2-BBCC-4763649556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866960" y="1528920"/>
          <a:ext cx="5459400" cy="4754520"/>
        </p:xfrm>
        <a:graphic>
          <a:graphicData uri="http://schemas.openxmlformats.org/drawingml/2006/table">
            <a:tbl>
              <a:tblPr/>
              <a:tblGrid>
                <a:gridCol w="2730600"/>
                <a:gridCol w="27288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数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猥亵（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xie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体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强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性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虐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杀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殴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纠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雇人代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因故受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Rectangle 45"/>
          <p:cNvSpPr/>
          <p:nvPr/>
        </p:nvSpPr>
        <p:spPr>
          <a:xfrm>
            <a:off x="2117520" y="842040"/>
            <a:ext cx="60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五）全国师德违规查处事件统计（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2012.12.21-2013.12.25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7FA9-251B-474F-AC4F-0903B1BEEF5D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6666-C08C-467C-A466-3C6388F0F4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1424160" y="417600"/>
            <a:ext cx="663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现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学校的生存困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1187280" y="1430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（一）明显的工业社会教育特征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按工业化、批量性生产的模式“塑造”学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1339920" y="2482920"/>
            <a:ext cx="693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统一的目标，基本划一的课程与教科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整齐排列的通用教室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确定性的课时、教学周期和教学进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按规定执行的教育教学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11DC-C49F-40B1-B069-66BDBAF4AEA7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8951-30A6-4C48-AF24-EFBBC3EC58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1187280" y="1430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（二）知识本位教育的困境与挑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424160" y="417600"/>
            <a:ext cx="663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现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学校的生存困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798480" y="2775240"/>
            <a:ext cx="7364520" cy="230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知识本位是一种知识选择的方式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指在知识选择上特别重视学科本身的逻辑和结构；“知识本位教育”则是一种教育选择方式，它将本来宽泛的教育概念狭隘化，把知识传授等同于教育本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●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以知识为唯一或几乎唯一的教育目标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●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忽略更重要的创新精神、情感态度价值观的培育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●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以书本知识、静态知识、显性知识代替全部知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●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以被动接受的方式记忆课本知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48F8-07BC-4923-BA5E-594BFCB3EA5A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E843-80B0-446E-ADA6-88F78B70A9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6680" y="66528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主  要  内  容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2309760" y="2677680"/>
            <a:ext cx="4792680" cy="789480"/>
            <a:chOff x="2309760" y="2677680"/>
            <a:chExt cx="4792680" cy="789480"/>
          </a:xfrm>
        </p:grpSpPr>
        <p:sp>
          <p:nvSpPr>
            <p:cNvPr id="109" name="Line 4"/>
            <p:cNvSpPr/>
            <p:nvPr/>
          </p:nvSpPr>
          <p:spPr>
            <a:xfrm>
              <a:off x="2554200" y="334008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5" descr="小花纹"/>
            <p:cNvPicPr/>
            <p:nvPr/>
          </p:nvPicPr>
          <p:blipFill>
            <a:blip r:embed="rId1">
              <a:lum bright="36000"/>
            </a:blip>
            <a:stretch/>
          </p:blipFill>
          <p:spPr>
            <a:xfrm flipH="1" rot="2104200">
              <a:off x="6516360" y="274932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Group 6"/>
            <p:cNvGrpSpPr/>
            <p:nvPr/>
          </p:nvGrpSpPr>
          <p:grpSpPr>
            <a:xfrm>
              <a:off x="2309760" y="3140280"/>
              <a:ext cx="316080" cy="326880"/>
              <a:chOff x="2309760" y="3140280"/>
              <a:chExt cx="316080" cy="326880"/>
            </a:xfrm>
          </p:grpSpPr>
          <p:sp>
            <p:nvSpPr>
              <p:cNvPr id="112" name="Oval 7"/>
              <p:cNvSpPr/>
              <p:nvPr/>
            </p:nvSpPr>
            <p:spPr>
              <a:xfrm>
                <a:off x="2309760" y="314028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8"/>
              <p:cNvSpPr/>
              <p:nvPr/>
            </p:nvSpPr>
            <p:spPr>
              <a:xfrm>
                <a:off x="2342880" y="317556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9"/>
              <p:cNvSpPr/>
              <p:nvPr/>
            </p:nvSpPr>
            <p:spPr>
              <a:xfrm>
                <a:off x="2377440" y="321084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10"/>
              <p:cNvSpPr/>
              <p:nvPr/>
            </p:nvSpPr>
            <p:spPr>
              <a:xfrm>
                <a:off x="2412360" y="324540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12"/>
          <p:cNvGrpSpPr/>
          <p:nvPr/>
        </p:nvGrpSpPr>
        <p:grpSpPr>
          <a:xfrm>
            <a:off x="2322360" y="3601440"/>
            <a:ext cx="4792680" cy="789480"/>
            <a:chOff x="2322360" y="3601440"/>
            <a:chExt cx="4792680" cy="789480"/>
          </a:xfrm>
        </p:grpSpPr>
        <p:sp>
          <p:nvSpPr>
            <p:cNvPr id="117" name="Line 13"/>
            <p:cNvSpPr/>
            <p:nvPr/>
          </p:nvSpPr>
          <p:spPr>
            <a:xfrm>
              <a:off x="2566800" y="426384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14" descr="小花纹"/>
            <p:cNvPicPr/>
            <p:nvPr/>
          </p:nvPicPr>
          <p:blipFill>
            <a:blip r:embed="rId2">
              <a:lum bright="36000"/>
            </a:blip>
            <a:stretch/>
          </p:blipFill>
          <p:spPr>
            <a:xfrm flipH="1" rot="2104200">
              <a:off x="6528960" y="367308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" name="Group 15"/>
            <p:cNvGrpSpPr/>
            <p:nvPr/>
          </p:nvGrpSpPr>
          <p:grpSpPr>
            <a:xfrm>
              <a:off x="2322360" y="4064040"/>
              <a:ext cx="316080" cy="326880"/>
              <a:chOff x="2322360" y="4064040"/>
              <a:chExt cx="316080" cy="326880"/>
            </a:xfrm>
          </p:grpSpPr>
          <p:sp>
            <p:nvSpPr>
              <p:cNvPr id="120" name="Oval 16"/>
              <p:cNvSpPr/>
              <p:nvPr/>
            </p:nvSpPr>
            <p:spPr>
              <a:xfrm>
                <a:off x="2322360" y="406404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17"/>
              <p:cNvSpPr/>
              <p:nvPr/>
            </p:nvSpPr>
            <p:spPr>
              <a:xfrm>
                <a:off x="2355480" y="409932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2390040" y="413460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2424960" y="416916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Group 21"/>
          <p:cNvGrpSpPr/>
          <p:nvPr/>
        </p:nvGrpSpPr>
        <p:grpSpPr>
          <a:xfrm>
            <a:off x="2335320" y="4428720"/>
            <a:ext cx="4792680" cy="789480"/>
            <a:chOff x="2335320" y="4428720"/>
            <a:chExt cx="4792680" cy="789480"/>
          </a:xfrm>
        </p:grpSpPr>
        <p:sp>
          <p:nvSpPr>
            <p:cNvPr id="125" name="Line 22"/>
            <p:cNvSpPr/>
            <p:nvPr/>
          </p:nvSpPr>
          <p:spPr>
            <a:xfrm>
              <a:off x="2579760" y="509112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23" descr="小花纹"/>
            <p:cNvPicPr/>
            <p:nvPr/>
          </p:nvPicPr>
          <p:blipFill>
            <a:blip r:embed="rId3">
              <a:lum bright="36000"/>
            </a:blip>
            <a:stretch/>
          </p:blipFill>
          <p:spPr>
            <a:xfrm flipH="1" rot="2104200">
              <a:off x="6541920" y="450036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Group 24"/>
            <p:cNvGrpSpPr/>
            <p:nvPr/>
          </p:nvGrpSpPr>
          <p:grpSpPr>
            <a:xfrm>
              <a:off x="2335320" y="4891320"/>
              <a:ext cx="316080" cy="326880"/>
              <a:chOff x="2335320" y="4891320"/>
              <a:chExt cx="316080" cy="326880"/>
            </a:xfrm>
          </p:grpSpPr>
          <p:sp>
            <p:nvSpPr>
              <p:cNvPr id="128" name="Oval 25"/>
              <p:cNvSpPr/>
              <p:nvPr/>
            </p:nvSpPr>
            <p:spPr>
              <a:xfrm>
                <a:off x="2335320" y="489132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26"/>
              <p:cNvSpPr/>
              <p:nvPr/>
            </p:nvSpPr>
            <p:spPr>
              <a:xfrm>
                <a:off x="2368440" y="492660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27"/>
              <p:cNvSpPr/>
              <p:nvPr/>
            </p:nvSpPr>
            <p:spPr>
              <a:xfrm>
                <a:off x="2403000" y="496188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28"/>
              <p:cNvSpPr/>
              <p:nvPr/>
            </p:nvSpPr>
            <p:spPr>
              <a:xfrm>
                <a:off x="2437920" y="499644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" name="Group 29"/>
          <p:cNvGrpSpPr/>
          <p:nvPr/>
        </p:nvGrpSpPr>
        <p:grpSpPr>
          <a:xfrm>
            <a:off x="2309760" y="2666520"/>
            <a:ext cx="4792680" cy="789480"/>
            <a:chOff x="2309760" y="2666520"/>
            <a:chExt cx="4792680" cy="789480"/>
          </a:xfrm>
        </p:grpSpPr>
        <p:sp>
          <p:nvSpPr>
            <p:cNvPr id="133" name="Line 30"/>
            <p:cNvSpPr/>
            <p:nvPr/>
          </p:nvSpPr>
          <p:spPr>
            <a:xfrm>
              <a:off x="2554200" y="332892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31" descr="小花纹"/>
            <p:cNvPicPr/>
            <p:nvPr/>
          </p:nvPicPr>
          <p:blipFill>
            <a:blip r:embed="rId4">
              <a:lum bright="36000"/>
            </a:blip>
            <a:stretch/>
          </p:blipFill>
          <p:spPr>
            <a:xfrm flipH="1" rot="2104200">
              <a:off x="6516360" y="273816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" name="Group 32"/>
            <p:cNvGrpSpPr/>
            <p:nvPr/>
          </p:nvGrpSpPr>
          <p:grpSpPr>
            <a:xfrm>
              <a:off x="2309760" y="3129120"/>
              <a:ext cx="316080" cy="326880"/>
              <a:chOff x="2309760" y="3129120"/>
              <a:chExt cx="316080" cy="326880"/>
            </a:xfrm>
          </p:grpSpPr>
          <p:sp>
            <p:nvSpPr>
              <p:cNvPr id="136" name="Oval 33"/>
              <p:cNvSpPr/>
              <p:nvPr/>
            </p:nvSpPr>
            <p:spPr>
              <a:xfrm>
                <a:off x="2309760" y="312912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34"/>
              <p:cNvSpPr/>
              <p:nvPr/>
            </p:nvSpPr>
            <p:spPr>
              <a:xfrm>
                <a:off x="2342880" y="316440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35"/>
              <p:cNvSpPr/>
              <p:nvPr/>
            </p:nvSpPr>
            <p:spPr>
              <a:xfrm>
                <a:off x="2377440" y="319968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36"/>
              <p:cNvSpPr/>
              <p:nvPr/>
            </p:nvSpPr>
            <p:spPr>
              <a:xfrm>
                <a:off x="2412360" y="323424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Group 38"/>
          <p:cNvGrpSpPr/>
          <p:nvPr/>
        </p:nvGrpSpPr>
        <p:grpSpPr>
          <a:xfrm>
            <a:off x="2322360" y="3590280"/>
            <a:ext cx="4792680" cy="789480"/>
            <a:chOff x="2322360" y="3590280"/>
            <a:chExt cx="4792680" cy="789480"/>
          </a:xfrm>
        </p:grpSpPr>
        <p:sp>
          <p:nvSpPr>
            <p:cNvPr id="141" name="Line 39"/>
            <p:cNvSpPr/>
            <p:nvPr/>
          </p:nvSpPr>
          <p:spPr>
            <a:xfrm>
              <a:off x="2566800" y="425268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40" descr="小花纹"/>
            <p:cNvPicPr/>
            <p:nvPr/>
          </p:nvPicPr>
          <p:blipFill>
            <a:blip r:embed="rId5">
              <a:lum bright="36000"/>
            </a:blip>
            <a:stretch/>
          </p:blipFill>
          <p:spPr>
            <a:xfrm flipH="1" rot="2104200">
              <a:off x="6528960" y="366192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3" name="Group 41"/>
            <p:cNvGrpSpPr/>
            <p:nvPr/>
          </p:nvGrpSpPr>
          <p:grpSpPr>
            <a:xfrm>
              <a:off x="2322360" y="4052880"/>
              <a:ext cx="316080" cy="326880"/>
              <a:chOff x="2322360" y="4052880"/>
              <a:chExt cx="316080" cy="326880"/>
            </a:xfrm>
          </p:grpSpPr>
          <p:sp>
            <p:nvSpPr>
              <p:cNvPr id="144" name="Oval 42"/>
              <p:cNvSpPr/>
              <p:nvPr/>
            </p:nvSpPr>
            <p:spPr>
              <a:xfrm>
                <a:off x="2322360" y="405288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43"/>
              <p:cNvSpPr/>
              <p:nvPr/>
            </p:nvSpPr>
            <p:spPr>
              <a:xfrm>
                <a:off x="2355480" y="408816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44"/>
              <p:cNvSpPr/>
              <p:nvPr/>
            </p:nvSpPr>
            <p:spPr>
              <a:xfrm>
                <a:off x="2390040" y="412344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45"/>
              <p:cNvSpPr/>
              <p:nvPr/>
            </p:nvSpPr>
            <p:spPr>
              <a:xfrm>
                <a:off x="2424960" y="415800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Group 47"/>
          <p:cNvGrpSpPr/>
          <p:nvPr/>
        </p:nvGrpSpPr>
        <p:grpSpPr>
          <a:xfrm>
            <a:off x="2335320" y="4417560"/>
            <a:ext cx="4792680" cy="789480"/>
            <a:chOff x="2335320" y="4417560"/>
            <a:chExt cx="4792680" cy="789480"/>
          </a:xfrm>
        </p:grpSpPr>
        <p:sp>
          <p:nvSpPr>
            <p:cNvPr id="149" name="Line 48"/>
            <p:cNvSpPr/>
            <p:nvPr/>
          </p:nvSpPr>
          <p:spPr>
            <a:xfrm>
              <a:off x="2579760" y="507996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49" descr="小花纹"/>
            <p:cNvPicPr/>
            <p:nvPr/>
          </p:nvPicPr>
          <p:blipFill>
            <a:blip r:embed="rId6">
              <a:lum bright="36000"/>
            </a:blip>
            <a:stretch/>
          </p:blipFill>
          <p:spPr>
            <a:xfrm flipH="1" rot="2104200">
              <a:off x="6541920" y="448920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" name="Group 50"/>
            <p:cNvGrpSpPr/>
            <p:nvPr/>
          </p:nvGrpSpPr>
          <p:grpSpPr>
            <a:xfrm>
              <a:off x="2335320" y="4880160"/>
              <a:ext cx="316080" cy="326880"/>
              <a:chOff x="2335320" y="4880160"/>
              <a:chExt cx="316080" cy="326880"/>
            </a:xfrm>
          </p:grpSpPr>
          <p:sp>
            <p:nvSpPr>
              <p:cNvPr id="152" name="Oval 51"/>
              <p:cNvSpPr/>
              <p:nvPr/>
            </p:nvSpPr>
            <p:spPr>
              <a:xfrm>
                <a:off x="2335320" y="488016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52"/>
              <p:cNvSpPr/>
              <p:nvPr/>
            </p:nvSpPr>
            <p:spPr>
              <a:xfrm>
                <a:off x="2368440" y="491544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3"/>
              <p:cNvSpPr/>
              <p:nvPr/>
            </p:nvSpPr>
            <p:spPr>
              <a:xfrm>
                <a:off x="2403000" y="495072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4"/>
              <p:cNvSpPr/>
              <p:nvPr/>
            </p:nvSpPr>
            <p:spPr>
              <a:xfrm>
                <a:off x="2437920" y="498528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Group 55"/>
          <p:cNvGrpSpPr/>
          <p:nvPr/>
        </p:nvGrpSpPr>
        <p:grpSpPr>
          <a:xfrm>
            <a:off x="2309760" y="2655360"/>
            <a:ext cx="4792680" cy="789480"/>
            <a:chOff x="2309760" y="2655360"/>
            <a:chExt cx="4792680" cy="789480"/>
          </a:xfrm>
        </p:grpSpPr>
        <p:sp>
          <p:nvSpPr>
            <p:cNvPr id="157" name="Line 56"/>
            <p:cNvSpPr/>
            <p:nvPr/>
          </p:nvSpPr>
          <p:spPr>
            <a:xfrm>
              <a:off x="2554200" y="331776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57" descr="小花纹"/>
            <p:cNvPicPr/>
            <p:nvPr/>
          </p:nvPicPr>
          <p:blipFill>
            <a:blip r:embed="rId7">
              <a:lum bright="36000"/>
            </a:blip>
            <a:stretch/>
          </p:blipFill>
          <p:spPr>
            <a:xfrm flipH="1" rot="2104200">
              <a:off x="6516360" y="272700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9" name="Group 58"/>
            <p:cNvGrpSpPr/>
            <p:nvPr/>
          </p:nvGrpSpPr>
          <p:grpSpPr>
            <a:xfrm>
              <a:off x="2309760" y="3117960"/>
              <a:ext cx="316080" cy="326880"/>
              <a:chOff x="2309760" y="3117960"/>
              <a:chExt cx="316080" cy="326880"/>
            </a:xfrm>
          </p:grpSpPr>
          <p:sp>
            <p:nvSpPr>
              <p:cNvPr id="160" name="Oval 59"/>
              <p:cNvSpPr/>
              <p:nvPr/>
            </p:nvSpPr>
            <p:spPr>
              <a:xfrm>
                <a:off x="2309760" y="311796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60"/>
              <p:cNvSpPr/>
              <p:nvPr/>
            </p:nvSpPr>
            <p:spPr>
              <a:xfrm>
                <a:off x="2342880" y="315324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61"/>
              <p:cNvSpPr/>
              <p:nvPr/>
            </p:nvSpPr>
            <p:spPr>
              <a:xfrm>
                <a:off x="2377440" y="318852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62"/>
              <p:cNvSpPr/>
              <p:nvPr/>
            </p:nvSpPr>
            <p:spPr>
              <a:xfrm>
                <a:off x="2412360" y="322308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Group 64"/>
          <p:cNvGrpSpPr/>
          <p:nvPr/>
        </p:nvGrpSpPr>
        <p:grpSpPr>
          <a:xfrm>
            <a:off x="2333520" y="3590280"/>
            <a:ext cx="4792680" cy="789480"/>
            <a:chOff x="2333520" y="3590280"/>
            <a:chExt cx="4792680" cy="789480"/>
          </a:xfrm>
        </p:grpSpPr>
        <p:sp>
          <p:nvSpPr>
            <p:cNvPr id="165" name="Line 65"/>
            <p:cNvSpPr/>
            <p:nvPr/>
          </p:nvSpPr>
          <p:spPr>
            <a:xfrm>
              <a:off x="2577960" y="425268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66" descr="小花纹"/>
            <p:cNvPicPr/>
            <p:nvPr/>
          </p:nvPicPr>
          <p:blipFill>
            <a:blip r:embed="rId8">
              <a:lum bright="36000"/>
            </a:blip>
            <a:stretch/>
          </p:blipFill>
          <p:spPr>
            <a:xfrm flipH="1" rot="2104200">
              <a:off x="6540120" y="366192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7" name="Group 67"/>
            <p:cNvGrpSpPr/>
            <p:nvPr/>
          </p:nvGrpSpPr>
          <p:grpSpPr>
            <a:xfrm>
              <a:off x="2333520" y="4052880"/>
              <a:ext cx="316080" cy="326880"/>
              <a:chOff x="2333520" y="4052880"/>
              <a:chExt cx="316080" cy="326880"/>
            </a:xfrm>
          </p:grpSpPr>
          <p:sp>
            <p:nvSpPr>
              <p:cNvPr id="168" name="Oval 68"/>
              <p:cNvSpPr/>
              <p:nvPr/>
            </p:nvSpPr>
            <p:spPr>
              <a:xfrm>
                <a:off x="2333520" y="405288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69"/>
              <p:cNvSpPr/>
              <p:nvPr/>
            </p:nvSpPr>
            <p:spPr>
              <a:xfrm>
                <a:off x="2366640" y="408816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70"/>
              <p:cNvSpPr/>
              <p:nvPr/>
            </p:nvSpPr>
            <p:spPr>
              <a:xfrm>
                <a:off x="2401200" y="412344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71"/>
              <p:cNvSpPr/>
              <p:nvPr/>
            </p:nvSpPr>
            <p:spPr>
              <a:xfrm>
                <a:off x="2436120" y="415800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Group 73"/>
          <p:cNvGrpSpPr/>
          <p:nvPr/>
        </p:nvGrpSpPr>
        <p:grpSpPr>
          <a:xfrm>
            <a:off x="2346480" y="4417560"/>
            <a:ext cx="4792680" cy="789480"/>
            <a:chOff x="2346480" y="4417560"/>
            <a:chExt cx="4792680" cy="789480"/>
          </a:xfrm>
        </p:grpSpPr>
        <p:sp>
          <p:nvSpPr>
            <p:cNvPr id="173" name="Line 74"/>
            <p:cNvSpPr/>
            <p:nvPr/>
          </p:nvSpPr>
          <p:spPr>
            <a:xfrm>
              <a:off x="2590920" y="507996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Picture 75" descr="小花纹"/>
            <p:cNvPicPr/>
            <p:nvPr/>
          </p:nvPicPr>
          <p:blipFill>
            <a:blip r:embed="rId9">
              <a:lum bright="36000"/>
            </a:blip>
            <a:stretch/>
          </p:blipFill>
          <p:spPr>
            <a:xfrm flipH="1" rot="2104200">
              <a:off x="6553080" y="448920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" name="Group 76"/>
            <p:cNvGrpSpPr/>
            <p:nvPr/>
          </p:nvGrpSpPr>
          <p:grpSpPr>
            <a:xfrm>
              <a:off x="2346480" y="4880160"/>
              <a:ext cx="316080" cy="326880"/>
              <a:chOff x="2346480" y="4880160"/>
              <a:chExt cx="316080" cy="326880"/>
            </a:xfrm>
          </p:grpSpPr>
          <p:sp>
            <p:nvSpPr>
              <p:cNvPr id="176" name="Oval 77"/>
              <p:cNvSpPr/>
              <p:nvPr/>
            </p:nvSpPr>
            <p:spPr>
              <a:xfrm>
                <a:off x="2346480" y="488016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78"/>
              <p:cNvSpPr/>
              <p:nvPr/>
            </p:nvSpPr>
            <p:spPr>
              <a:xfrm>
                <a:off x="2379600" y="491544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79"/>
              <p:cNvSpPr/>
              <p:nvPr/>
            </p:nvSpPr>
            <p:spPr>
              <a:xfrm>
                <a:off x="2414160" y="495072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80"/>
              <p:cNvSpPr/>
              <p:nvPr/>
            </p:nvSpPr>
            <p:spPr>
              <a:xfrm>
                <a:off x="2449080" y="498528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81"/>
          <p:cNvGrpSpPr/>
          <p:nvPr/>
        </p:nvGrpSpPr>
        <p:grpSpPr>
          <a:xfrm>
            <a:off x="2320920" y="2655360"/>
            <a:ext cx="4792680" cy="789480"/>
            <a:chOff x="2320920" y="2655360"/>
            <a:chExt cx="4792680" cy="789480"/>
          </a:xfrm>
        </p:grpSpPr>
        <p:sp>
          <p:nvSpPr>
            <p:cNvPr id="181" name="Line 82"/>
            <p:cNvSpPr/>
            <p:nvPr/>
          </p:nvSpPr>
          <p:spPr>
            <a:xfrm>
              <a:off x="2565360" y="331776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Picture 83" descr="小花纹"/>
            <p:cNvPicPr/>
            <p:nvPr/>
          </p:nvPicPr>
          <p:blipFill>
            <a:blip r:embed="rId10">
              <a:lum bright="36000"/>
            </a:blip>
            <a:stretch/>
          </p:blipFill>
          <p:spPr>
            <a:xfrm flipH="1" rot="2104200">
              <a:off x="6527520" y="272700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3" name="Group 84"/>
            <p:cNvGrpSpPr/>
            <p:nvPr/>
          </p:nvGrpSpPr>
          <p:grpSpPr>
            <a:xfrm>
              <a:off x="2320920" y="3117960"/>
              <a:ext cx="316080" cy="326880"/>
              <a:chOff x="2320920" y="3117960"/>
              <a:chExt cx="316080" cy="326880"/>
            </a:xfrm>
          </p:grpSpPr>
          <p:sp>
            <p:nvSpPr>
              <p:cNvPr id="184" name="Oval 85"/>
              <p:cNvSpPr/>
              <p:nvPr/>
            </p:nvSpPr>
            <p:spPr>
              <a:xfrm>
                <a:off x="2320920" y="311796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86"/>
              <p:cNvSpPr/>
              <p:nvPr/>
            </p:nvSpPr>
            <p:spPr>
              <a:xfrm>
                <a:off x="2354040" y="315324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87"/>
              <p:cNvSpPr/>
              <p:nvPr/>
            </p:nvSpPr>
            <p:spPr>
              <a:xfrm>
                <a:off x="2388600" y="318852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88"/>
              <p:cNvSpPr/>
              <p:nvPr/>
            </p:nvSpPr>
            <p:spPr>
              <a:xfrm>
                <a:off x="2423520" y="322308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Text Box 89"/>
          <p:cNvSpPr/>
          <p:nvPr/>
        </p:nvSpPr>
        <p:spPr>
          <a:xfrm>
            <a:off x="2949480" y="2612880"/>
            <a:ext cx="35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学校中的反教育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91"/>
          <p:cNvGrpSpPr/>
          <p:nvPr/>
        </p:nvGrpSpPr>
        <p:grpSpPr>
          <a:xfrm>
            <a:off x="2320920" y="2666520"/>
            <a:ext cx="4792680" cy="789480"/>
            <a:chOff x="2320920" y="2666520"/>
            <a:chExt cx="4792680" cy="789480"/>
          </a:xfrm>
        </p:grpSpPr>
        <p:sp>
          <p:nvSpPr>
            <p:cNvPr id="190" name="Line 92"/>
            <p:cNvSpPr/>
            <p:nvPr/>
          </p:nvSpPr>
          <p:spPr>
            <a:xfrm>
              <a:off x="2565360" y="332892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Picture 93" descr="小花纹"/>
            <p:cNvPicPr/>
            <p:nvPr/>
          </p:nvPicPr>
          <p:blipFill>
            <a:blip r:embed="rId11">
              <a:lum bright="36000"/>
            </a:blip>
            <a:stretch/>
          </p:blipFill>
          <p:spPr>
            <a:xfrm flipH="1" rot="2104200">
              <a:off x="6527520" y="273816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2" name="Group 94"/>
            <p:cNvGrpSpPr/>
            <p:nvPr/>
          </p:nvGrpSpPr>
          <p:grpSpPr>
            <a:xfrm>
              <a:off x="2320920" y="3129120"/>
              <a:ext cx="316080" cy="326880"/>
              <a:chOff x="2320920" y="3129120"/>
              <a:chExt cx="316080" cy="326880"/>
            </a:xfrm>
          </p:grpSpPr>
          <p:sp>
            <p:nvSpPr>
              <p:cNvPr id="193" name="Oval 95"/>
              <p:cNvSpPr/>
              <p:nvPr/>
            </p:nvSpPr>
            <p:spPr>
              <a:xfrm>
                <a:off x="2320920" y="312912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96"/>
              <p:cNvSpPr/>
              <p:nvPr/>
            </p:nvSpPr>
            <p:spPr>
              <a:xfrm>
                <a:off x="2354040" y="316440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97"/>
              <p:cNvSpPr/>
              <p:nvPr/>
            </p:nvSpPr>
            <p:spPr>
              <a:xfrm>
                <a:off x="2388600" y="319968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98"/>
              <p:cNvSpPr/>
              <p:nvPr/>
            </p:nvSpPr>
            <p:spPr>
              <a:xfrm>
                <a:off x="2423520" y="323424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Group 100"/>
          <p:cNvGrpSpPr/>
          <p:nvPr/>
        </p:nvGrpSpPr>
        <p:grpSpPr>
          <a:xfrm>
            <a:off x="2344680" y="3590280"/>
            <a:ext cx="4792680" cy="789480"/>
            <a:chOff x="2344680" y="3590280"/>
            <a:chExt cx="4792680" cy="789480"/>
          </a:xfrm>
        </p:grpSpPr>
        <p:sp>
          <p:nvSpPr>
            <p:cNvPr id="198" name="Line 101"/>
            <p:cNvSpPr/>
            <p:nvPr/>
          </p:nvSpPr>
          <p:spPr>
            <a:xfrm>
              <a:off x="2589120" y="425268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102" descr="小花纹"/>
            <p:cNvPicPr/>
            <p:nvPr/>
          </p:nvPicPr>
          <p:blipFill>
            <a:blip r:embed="rId12">
              <a:lum bright="36000"/>
            </a:blip>
            <a:stretch/>
          </p:blipFill>
          <p:spPr>
            <a:xfrm flipH="1" rot="2104200">
              <a:off x="6551280" y="366192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0" name="Group 103"/>
            <p:cNvGrpSpPr/>
            <p:nvPr/>
          </p:nvGrpSpPr>
          <p:grpSpPr>
            <a:xfrm>
              <a:off x="2344680" y="4052880"/>
              <a:ext cx="316080" cy="326880"/>
              <a:chOff x="2344680" y="4052880"/>
              <a:chExt cx="316080" cy="326880"/>
            </a:xfrm>
          </p:grpSpPr>
          <p:sp>
            <p:nvSpPr>
              <p:cNvPr id="201" name="Oval 104"/>
              <p:cNvSpPr/>
              <p:nvPr/>
            </p:nvSpPr>
            <p:spPr>
              <a:xfrm>
                <a:off x="2344680" y="405288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05"/>
              <p:cNvSpPr/>
              <p:nvPr/>
            </p:nvSpPr>
            <p:spPr>
              <a:xfrm>
                <a:off x="2377800" y="408816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06"/>
              <p:cNvSpPr/>
              <p:nvPr/>
            </p:nvSpPr>
            <p:spPr>
              <a:xfrm>
                <a:off x="2412360" y="412344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07"/>
              <p:cNvSpPr/>
              <p:nvPr/>
            </p:nvSpPr>
            <p:spPr>
              <a:xfrm>
                <a:off x="2447280" y="415800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" name="Group 108"/>
          <p:cNvGrpSpPr/>
          <p:nvPr/>
        </p:nvGrpSpPr>
        <p:grpSpPr>
          <a:xfrm>
            <a:off x="2357280" y="4417560"/>
            <a:ext cx="4792680" cy="789480"/>
            <a:chOff x="2357280" y="4417560"/>
            <a:chExt cx="4792680" cy="789480"/>
          </a:xfrm>
        </p:grpSpPr>
        <p:sp>
          <p:nvSpPr>
            <p:cNvPr id="206" name="Line 109"/>
            <p:cNvSpPr/>
            <p:nvPr/>
          </p:nvSpPr>
          <p:spPr>
            <a:xfrm>
              <a:off x="2601720" y="507996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Picture 110" descr="小花纹"/>
            <p:cNvPicPr/>
            <p:nvPr/>
          </p:nvPicPr>
          <p:blipFill>
            <a:blip r:embed="rId13">
              <a:lum bright="36000"/>
            </a:blip>
            <a:stretch/>
          </p:blipFill>
          <p:spPr>
            <a:xfrm flipH="1" rot="2104200">
              <a:off x="6563880" y="448920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Group 111"/>
            <p:cNvGrpSpPr/>
            <p:nvPr/>
          </p:nvGrpSpPr>
          <p:grpSpPr>
            <a:xfrm>
              <a:off x="2357280" y="4880160"/>
              <a:ext cx="316080" cy="326880"/>
              <a:chOff x="2357280" y="4880160"/>
              <a:chExt cx="316080" cy="326880"/>
            </a:xfrm>
          </p:grpSpPr>
          <p:sp>
            <p:nvSpPr>
              <p:cNvPr id="209" name="Oval 112"/>
              <p:cNvSpPr/>
              <p:nvPr/>
            </p:nvSpPr>
            <p:spPr>
              <a:xfrm>
                <a:off x="2357280" y="488016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113"/>
              <p:cNvSpPr/>
              <p:nvPr/>
            </p:nvSpPr>
            <p:spPr>
              <a:xfrm>
                <a:off x="2390400" y="491544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114"/>
              <p:cNvSpPr/>
              <p:nvPr/>
            </p:nvSpPr>
            <p:spPr>
              <a:xfrm>
                <a:off x="2424960" y="495072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Oval 115"/>
              <p:cNvSpPr/>
              <p:nvPr/>
            </p:nvSpPr>
            <p:spPr>
              <a:xfrm>
                <a:off x="2459880" y="498528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Text Box 116"/>
          <p:cNvSpPr/>
          <p:nvPr/>
        </p:nvSpPr>
        <p:spPr>
          <a:xfrm>
            <a:off x="2860560" y="4481640"/>
            <a:ext cx="39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从“教师”到“导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7"/>
          <p:cNvSpPr/>
          <p:nvPr/>
        </p:nvSpPr>
        <p:spPr>
          <a:xfrm>
            <a:off x="2900520" y="3494160"/>
            <a:ext cx="35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现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学校的生存困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18"/>
          <p:cNvGrpSpPr/>
          <p:nvPr/>
        </p:nvGrpSpPr>
        <p:grpSpPr>
          <a:xfrm>
            <a:off x="2332080" y="2666520"/>
            <a:ext cx="4792680" cy="789480"/>
            <a:chOff x="2332080" y="2666520"/>
            <a:chExt cx="4792680" cy="789480"/>
          </a:xfrm>
        </p:grpSpPr>
        <p:sp>
          <p:nvSpPr>
            <p:cNvPr id="216" name="Line 119"/>
            <p:cNvSpPr/>
            <p:nvPr/>
          </p:nvSpPr>
          <p:spPr>
            <a:xfrm>
              <a:off x="2576520" y="332892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120" descr="小花纹"/>
            <p:cNvPicPr/>
            <p:nvPr/>
          </p:nvPicPr>
          <p:blipFill>
            <a:blip r:embed="rId14">
              <a:lum bright="36000"/>
            </a:blip>
            <a:stretch/>
          </p:blipFill>
          <p:spPr>
            <a:xfrm flipH="1" rot="2104200">
              <a:off x="6538680" y="273816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" name="Group 121"/>
            <p:cNvGrpSpPr/>
            <p:nvPr/>
          </p:nvGrpSpPr>
          <p:grpSpPr>
            <a:xfrm>
              <a:off x="2332080" y="3129120"/>
              <a:ext cx="316080" cy="326880"/>
              <a:chOff x="2332080" y="3129120"/>
              <a:chExt cx="316080" cy="326880"/>
            </a:xfrm>
          </p:grpSpPr>
          <p:sp>
            <p:nvSpPr>
              <p:cNvPr id="219" name="Oval 122"/>
              <p:cNvSpPr/>
              <p:nvPr/>
            </p:nvSpPr>
            <p:spPr>
              <a:xfrm>
                <a:off x="2332080" y="312912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123"/>
              <p:cNvSpPr/>
              <p:nvPr/>
            </p:nvSpPr>
            <p:spPr>
              <a:xfrm>
                <a:off x="2365200" y="316440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124"/>
              <p:cNvSpPr/>
              <p:nvPr/>
            </p:nvSpPr>
            <p:spPr>
              <a:xfrm>
                <a:off x="2399760" y="319968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125"/>
              <p:cNvSpPr/>
              <p:nvPr/>
            </p:nvSpPr>
            <p:spPr>
              <a:xfrm>
                <a:off x="2434680" y="323424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Group 126"/>
          <p:cNvGrpSpPr/>
          <p:nvPr/>
        </p:nvGrpSpPr>
        <p:grpSpPr>
          <a:xfrm>
            <a:off x="2355840" y="3590280"/>
            <a:ext cx="4792680" cy="789480"/>
            <a:chOff x="2355840" y="3590280"/>
            <a:chExt cx="4792680" cy="789480"/>
          </a:xfrm>
        </p:grpSpPr>
        <p:sp>
          <p:nvSpPr>
            <p:cNvPr id="224" name="Line 127"/>
            <p:cNvSpPr/>
            <p:nvPr/>
          </p:nvSpPr>
          <p:spPr>
            <a:xfrm>
              <a:off x="2600280" y="425268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Picture 128" descr="小花纹"/>
            <p:cNvPicPr/>
            <p:nvPr/>
          </p:nvPicPr>
          <p:blipFill>
            <a:blip r:embed="rId15">
              <a:lum bright="36000"/>
            </a:blip>
            <a:stretch/>
          </p:blipFill>
          <p:spPr>
            <a:xfrm flipH="1" rot="2104200">
              <a:off x="6562440" y="366192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6" name="Group 129"/>
            <p:cNvGrpSpPr/>
            <p:nvPr/>
          </p:nvGrpSpPr>
          <p:grpSpPr>
            <a:xfrm>
              <a:off x="2355840" y="4052880"/>
              <a:ext cx="316080" cy="326880"/>
              <a:chOff x="2355840" y="4052880"/>
              <a:chExt cx="316080" cy="326880"/>
            </a:xfrm>
          </p:grpSpPr>
          <p:sp>
            <p:nvSpPr>
              <p:cNvPr id="227" name="Oval 130"/>
              <p:cNvSpPr/>
              <p:nvPr/>
            </p:nvSpPr>
            <p:spPr>
              <a:xfrm>
                <a:off x="2355840" y="405288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131"/>
              <p:cNvSpPr/>
              <p:nvPr/>
            </p:nvSpPr>
            <p:spPr>
              <a:xfrm>
                <a:off x="2388960" y="408816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132"/>
              <p:cNvSpPr/>
              <p:nvPr/>
            </p:nvSpPr>
            <p:spPr>
              <a:xfrm>
                <a:off x="2423520" y="412344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133"/>
              <p:cNvSpPr/>
              <p:nvPr/>
            </p:nvSpPr>
            <p:spPr>
              <a:xfrm>
                <a:off x="2458440" y="415800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" name="Group 135"/>
          <p:cNvGrpSpPr/>
          <p:nvPr/>
        </p:nvGrpSpPr>
        <p:grpSpPr>
          <a:xfrm>
            <a:off x="2343240" y="2658600"/>
            <a:ext cx="5068440" cy="797400"/>
            <a:chOff x="2343240" y="2658600"/>
            <a:chExt cx="5068440" cy="797400"/>
          </a:xfrm>
        </p:grpSpPr>
        <p:sp>
          <p:nvSpPr>
            <p:cNvPr id="232" name="Line 136"/>
            <p:cNvSpPr/>
            <p:nvPr/>
          </p:nvSpPr>
          <p:spPr>
            <a:xfrm>
              <a:off x="2602080" y="3328920"/>
              <a:ext cx="432000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137" descr="小花纹"/>
            <p:cNvPicPr/>
            <p:nvPr/>
          </p:nvPicPr>
          <p:blipFill>
            <a:blip r:embed="rId16">
              <a:lum bright="36000"/>
            </a:blip>
            <a:stretch/>
          </p:blipFill>
          <p:spPr>
            <a:xfrm flipH="1" rot="2104800">
              <a:off x="6801120" y="2737800"/>
              <a:ext cx="474120" cy="62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" name="Group 138"/>
            <p:cNvGrpSpPr/>
            <p:nvPr/>
          </p:nvGrpSpPr>
          <p:grpSpPr>
            <a:xfrm>
              <a:off x="2343240" y="3129120"/>
              <a:ext cx="334800" cy="326880"/>
              <a:chOff x="2343240" y="3129120"/>
              <a:chExt cx="334800" cy="326880"/>
            </a:xfrm>
          </p:grpSpPr>
          <p:sp>
            <p:nvSpPr>
              <p:cNvPr id="235" name="Oval 139"/>
              <p:cNvSpPr/>
              <p:nvPr/>
            </p:nvSpPr>
            <p:spPr>
              <a:xfrm>
                <a:off x="2343240" y="3129120"/>
                <a:ext cx="33480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140"/>
              <p:cNvSpPr/>
              <p:nvPr/>
            </p:nvSpPr>
            <p:spPr>
              <a:xfrm>
                <a:off x="2378520" y="3164400"/>
                <a:ext cx="2599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141"/>
              <p:cNvSpPr/>
              <p:nvPr/>
            </p:nvSpPr>
            <p:spPr>
              <a:xfrm>
                <a:off x="2414880" y="3199680"/>
                <a:ext cx="18540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142"/>
              <p:cNvSpPr/>
              <p:nvPr/>
            </p:nvSpPr>
            <p:spPr>
              <a:xfrm>
                <a:off x="2451960" y="3234240"/>
                <a:ext cx="11196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Group 143"/>
          <p:cNvGrpSpPr/>
          <p:nvPr/>
        </p:nvGrpSpPr>
        <p:grpSpPr>
          <a:xfrm>
            <a:off x="2368440" y="4421880"/>
            <a:ext cx="5047560" cy="796320"/>
            <a:chOff x="2368440" y="4421880"/>
            <a:chExt cx="5047560" cy="796320"/>
          </a:xfrm>
        </p:grpSpPr>
        <p:sp>
          <p:nvSpPr>
            <p:cNvPr id="240" name="Line 144"/>
            <p:cNvSpPr/>
            <p:nvPr/>
          </p:nvSpPr>
          <p:spPr>
            <a:xfrm>
              <a:off x="2626200" y="5091120"/>
              <a:ext cx="430200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Picture 145" descr="小花纹"/>
            <p:cNvPicPr/>
            <p:nvPr/>
          </p:nvPicPr>
          <p:blipFill>
            <a:blip r:embed="rId17">
              <a:lum bright="36000"/>
            </a:blip>
            <a:stretch/>
          </p:blipFill>
          <p:spPr>
            <a:xfrm flipH="1" rot="2103600">
              <a:off x="6807600" y="4500720"/>
              <a:ext cx="47196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Group 146"/>
            <p:cNvGrpSpPr/>
            <p:nvPr/>
          </p:nvGrpSpPr>
          <p:grpSpPr>
            <a:xfrm>
              <a:off x="2368440" y="4891320"/>
              <a:ext cx="333360" cy="326880"/>
              <a:chOff x="2368440" y="4891320"/>
              <a:chExt cx="333360" cy="326880"/>
            </a:xfrm>
          </p:grpSpPr>
          <p:sp>
            <p:nvSpPr>
              <p:cNvPr id="243" name="Oval 147"/>
              <p:cNvSpPr/>
              <p:nvPr/>
            </p:nvSpPr>
            <p:spPr>
              <a:xfrm>
                <a:off x="2368440" y="4891320"/>
                <a:ext cx="33336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48"/>
              <p:cNvSpPr/>
              <p:nvPr/>
            </p:nvSpPr>
            <p:spPr>
              <a:xfrm>
                <a:off x="2403360" y="4926600"/>
                <a:ext cx="25884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149"/>
              <p:cNvSpPr/>
              <p:nvPr/>
            </p:nvSpPr>
            <p:spPr>
              <a:xfrm>
                <a:off x="2439720" y="4961880"/>
                <a:ext cx="18468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150"/>
              <p:cNvSpPr/>
              <p:nvPr/>
            </p:nvSpPr>
            <p:spPr>
              <a:xfrm>
                <a:off x="2476800" y="4996440"/>
                <a:ext cx="11124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Group 151"/>
          <p:cNvGrpSpPr/>
          <p:nvPr/>
        </p:nvGrpSpPr>
        <p:grpSpPr>
          <a:xfrm>
            <a:off x="2319480" y="3592440"/>
            <a:ext cx="5118480" cy="798480"/>
            <a:chOff x="2319480" y="3592440"/>
            <a:chExt cx="5118480" cy="798480"/>
          </a:xfrm>
        </p:grpSpPr>
        <p:sp>
          <p:nvSpPr>
            <p:cNvPr id="248" name="Line 152"/>
            <p:cNvSpPr/>
            <p:nvPr/>
          </p:nvSpPr>
          <p:spPr>
            <a:xfrm>
              <a:off x="2580840" y="4263840"/>
              <a:ext cx="43642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Picture 153" descr="小花纹"/>
            <p:cNvPicPr/>
            <p:nvPr/>
          </p:nvPicPr>
          <p:blipFill>
            <a:blip r:embed="rId18">
              <a:lum bright="36000"/>
            </a:blip>
            <a:stretch/>
          </p:blipFill>
          <p:spPr>
            <a:xfrm flipH="1" rot="2103000">
              <a:off x="6823440" y="3673080"/>
              <a:ext cx="478800" cy="62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Group 154"/>
            <p:cNvGrpSpPr/>
            <p:nvPr/>
          </p:nvGrpSpPr>
          <p:grpSpPr>
            <a:xfrm>
              <a:off x="2319480" y="4064040"/>
              <a:ext cx="338040" cy="326880"/>
              <a:chOff x="2319480" y="4064040"/>
              <a:chExt cx="338040" cy="326880"/>
            </a:xfrm>
          </p:grpSpPr>
          <p:sp>
            <p:nvSpPr>
              <p:cNvPr id="251" name="Oval 155"/>
              <p:cNvSpPr/>
              <p:nvPr/>
            </p:nvSpPr>
            <p:spPr>
              <a:xfrm>
                <a:off x="2319480" y="4064040"/>
                <a:ext cx="33804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56"/>
              <p:cNvSpPr/>
              <p:nvPr/>
            </p:nvSpPr>
            <p:spPr>
              <a:xfrm>
                <a:off x="2355120" y="4099320"/>
                <a:ext cx="26244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157"/>
              <p:cNvSpPr/>
              <p:nvPr/>
            </p:nvSpPr>
            <p:spPr>
              <a:xfrm>
                <a:off x="2391840" y="4134600"/>
                <a:ext cx="18720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158"/>
              <p:cNvSpPr/>
              <p:nvPr/>
            </p:nvSpPr>
            <p:spPr>
              <a:xfrm>
                <a:off x="2429280" y="4169160"/>
                <a:ext cx="11304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7788-29F5-4DC5-8206-881ED533666C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6F86-9AEF-49B9-BEB3-DD8087CFD1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1063800" y="2049480"/>
            <a:ext cx="7583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臭名昭著的“灌输”：有教育的地方就有灌输的身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灌输不仅是内在于教育内容的，更是内在于教育方式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1063800" y="3583080"/>
            <a:ext cx="73767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关于现代教育的两个隐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流水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灌装的容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信息下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信息存储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设备”虽然已经更新换代，但灌输的本质依然如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DE0D-1F27-4125-99A9-7D31B6338D63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2E91-F088-4B23-A35E-F9CA476730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1424160" y="417600"/>
            <a:ext cx="663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现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学校的生存困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1063800" y="2049480"/>
            <a:ext cx="737676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灌输”的不良品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使人非人性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习是一个被动接受的过程，不是一个独立思考和探索的活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专制与服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依靠严酷的纪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外在的奖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1187280" y="1430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（二）知识本位教育的困境与挑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ACD4-0410-4BD4-8A1C-99F0784265B0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F5B6-0680-44DA-B5B0-632A53AC37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1424160" y="417600"/>
            <a:ext cx="663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现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学校的生存困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063800" y="2049480"/>
            <a:ext cx="73767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对孩子心灵的占满：繁重的学业负担，没完没了的记忆与训练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孩子们每天都做重复、单调、乏味的事情，不用花心思，不用费脑筋，久而久之，就形成了低度运用智能、几乎不用心灵的机械化生活的习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187280" y="1430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（二）知识本位教育的困境与挑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3382-E390-41C5-921A-23FF1246DDFB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7B15-0D42-48B7-88D2-6DE8FAD37B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1424160" y="417600"/>
            <a:ext cx="663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现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学校的生存困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1063800" y="2049480"/>
            <a:ext cx="73767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灵魂杀手”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标准化考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标准化考试切断了教育与自我反省、人生意义、心灵关怀之间的联系，“灵魂杀手”的称号名副其实。正如克里希拉穆提所说，“我们把考试和学位当作衡量智慧的标准，进而培育了一种躲避人生重大问题的心智”。（案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1187280" y="1430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（二）知识本位教育的困境与挑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F547-61E4-4879-B17B-3C9F8DC8CD8B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B87E-A9D3-4195-9E7D-E500FE920E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1424160" y="417600"/>
            <a:ext cx="663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现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学校的生存困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1063800" y="2544840"/>
            <a:ext cx="737676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人性与人道力量的丧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无思：人格的“液态化”（雷同）、普遍的道德衰退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内在力量的丧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无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1187280" y="1430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（二）知识本位教育的困境与挑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1684800" y="2039760"/>
            <a:ext cx="18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心灵暖死亡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4C9E-9959-4832-B66A-AD45F4AC37F7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4D6C-B6AB-418B-8A90-DB678F26FB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1424160" y="417600"/>
            <a:ext cx="68929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从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教师”到“导师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基础教育“学校转型性变革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1187280" y="18493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（一）学校转型的综合结构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1063800" y="2478240"/>
            <a:ext cx="73767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价值提升：从传递知识为本，转向以培养人的健康、主动发展的意识与能力为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重心下移：教育对象与目标重心下移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致力于每位学生的发展；教学内容重心下移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由学科知识到全方位领域；管理重心下移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学校、教师、学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F001-4AE1-4079-8D1E-37A1B9BBF410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F654-2836-4DA3-8512-363AAA1D84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1424160" y="417600"/>
            <a:ext cx="663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从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教师”到“导师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1187280" y="1430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（一）学校转型的综合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1063800" y="2049480"/>
            <a:ext cx="73767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结构开放：学制的开放性和弹性化；两个向度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向外和向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过程互动：多元，多层，多向，多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动力内化：学校形成自己内在的发展需求、动机和动力机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EA49-E25D-4CE2-A77A-5541167CDEB9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1A76-3457-41A2-9872-2737225751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424160" y="417600"/>
            <a:ext cx="663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从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教师”到“导师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1187280" y="14302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（二）按规律办教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4145760" y="2200320"/>
            <a:ext cx="726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#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教育是什么？全面、正确地理解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2075040" y="3057480"/>
            <a:ext cx="2697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#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人与动物的本质区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2"/>
          <p:cNvSpPr/>
          <p:nvPr/>
        </p:nvSpPr>
        <p:spPr>
          <a:xfrm>
            <a:off x="1921680" y="3873600"/>
            <a:ext cx="227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#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教师是干什么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3"/>
          <p:cNvSpPr/>
          <p:nvPr/>
        </p:nvSpPr>
        <p:spPr>
          <a:xfrm>
            <a:off x="1931040" y="4578480"/>
            <a:ext cx="227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#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学生是干什么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06B0-C71F-4A0F-9B24-DED8275775B7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ED7F-E7EC-4DFA-B5B7-7D6198B80B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900000" y="1319040"/>
            <a:ext cx="737712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与动物的本质区别：人是唯一知耻或需要知道羞耻的动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物性、社会性、精神性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延迟满足实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育的目的是尽量缩小人与动物的生物属性，使其远离禽兽；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限的扩大社会属性，彰显精神属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育有所为有所不能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胡萝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你是笨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6"/>
          <p:cNvSpPr/>
          <p:nvPr/>
        </p:nvSpPr>
        <p:spPr>
          <a:xfrm>
            <a:off x="2125080" y="64620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其他动物界有没有教育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0364-A80B-45D3-9608-74D806971CCE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1A9B-095E-4878-97A1-BB8C9841D5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166760" y="8334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今天的学生不一样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1038240" y="2362320"/>
            <a:ext cx="734076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未成年人：贪性，惰性，任性。偷与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尊重遗传的规律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人生下来起发展基本被决定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翻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坐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趴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个月会喊爸爸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母亲决定智商和习惯，父亲决定智慧和态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大拇指与小拇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现在的学生有哪些不一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DD3E-9F94-40D1-A85F-70A316FE83E5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B58D-DD7C-4440-9B6A-98E9636854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3102120" y="549360"/>
            <a:ext cx="2746080" cy="8348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序  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1327320" y="1582560"/>
            <a:ext cx="675612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我们留一个什么样的世界给子孙后代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很大程度上取决于我们给世界留下什么样的子孙后代。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--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联合国科教文组织总干事马约尔</a:t>
            </a: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1B48-A5AC-4C8D-89E6-4B7A6C3D25B3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F239-D754-47F4-8709-E100DB6A09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1217520" y="54756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教师：诲人不倦还是废人不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1022400" y="1720800"/>
            <a:ext cx="737712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柏拉图：让最优秀的人当教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释迦摩尼：教师是上一辈德性最高、修行最好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教师职业需要不断地学习和进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用别人能够听得懂的语言和接受的方式，把复杂的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问题简单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学高为师，身正为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6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做“导师” 不当“教师” 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AB0A-7417-4A6B-AEDD-F096BB9BDCB4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6C36-2FBB-46A6-BE64-2A61142D3D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1219320" y="503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自己：你不是万能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1063800" y="1986120"/>
            <a:ext cx="737676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你不是万能的，有的事情你做不了，也不该你做，该放手时且放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保持身心健康，家庭幸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不断提高你的教育素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提高全社会的教育素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CBD2-17DF-415C-B669-6174A40E0CE2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5B4B-86B5-442C-9BD4-057669D7D8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1424160" y="417600"/>
            <a:ext cx="663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从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教师”到“导师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1187280" y="1430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（三）课堂教学转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1063800" y="2135160"/>
            <a:ext cx="73767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课堂教学价值观：从单一传递教科书上的现成知识，转为培养能在当代社会中实现主动、健康发展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还学生学习的主动权。“五还”：时间、空间、工具、提问权、评议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3776-EE65-41FE-8CE4-484EBEF3F143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2E99-CCCC-4F78-B3DD-5765F0CABD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1424160" y="417600"/>
            <a:ext cx="663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从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教师”到“导师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187280" y="1430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（四）班级授课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8"/>
          <p:cNvGrpSpPr/>
          <p:nvPr/>
        </p:nvGrpSpPr>
        <p:grpSpPr>
          <a:xfrm>
            <a:off x="1189080" y="2289240"/>
            <a:ext cx="2170080" cy="4034880"/>
            <a:chOff x="1189080" y="2289240"/>
            <a:chExt cx="2170080" cy="4034880"/>
          </a:xfrm>
        </p:grpSpPr>
        <p:sp>
          <p:nvSpPr>
            <p:cNvPr id="392" name="AutoShape 9"/>
            <p:cNvSpPr/>
            <p:nvPr/>
          </p:nvSpPr>
          <p:spPr>
            <a:xfrm>
              <a:off x="1189080" y="25966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0"/>
            <p:cNvSpPr/>
            <p:nvPr/>
          </p:nvSpPr>
          <p:spPr>
            <a:xfrm>
              <a:off x="1222560" y="26049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11"/>
            <p:cNvSpPr/>
            <p:nvPr/>
          </p:nvSpPr>
          <p:spPr>
            <a:xfrm>
              <a:off x="1239840" y="46684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12"/>
            <p:cNvSpPr/>
            <p:nvPr/>
          </p:nvSpPr>
          <p:spPr>
            <a:xfrm>
              <a:off x="1239840" y="26269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13"/>
            <p:cNvSpPr/>
            <p:nvPr/>
          </p:nvSpPr>
          <p:spPr>
            <a:xfrm>
              <a:off x="1195560" y="54543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14"/>
            <p:cNvSpPr/>
            <p:nvPr/>
          </p:nvSpPr>
          <p:spPr>
            <a:xfrm>
              <a:off x="1239840" y="54781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15"/>
            <p:cNvGrpSpPr/>
            <p:nvPr/>
          </p:nvGrpSpPr>
          <p:grpSpPr>
            <a:xfrm>
              <a:off x="1933560" y="2289240"/>
              <a:ext cx="642960" cy="642600"/>
              <a:chOff x="1933560" y="2289240"/>
              <a:chExt cx="642960" cy="642600"/>
            </a:xfrm>
          </p:grpSpPr>
          <p:sp>
            <p:nvSpPr>
              <p:cNvPr id="399" name="Oval 16"/>
              <p:cNvSpPr/>
              <p:nvPr/>
            </p:nvSpPr>
            <p:spPr>
              <a:xfrm>
                <a:off x="1933560" y="22892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17"/>
              <p:cNvSpPr/>
              <p:nvPr/>
            </p:nvSpPr>
            <p:spPr>
              <a:xfrm>
                <a:off x="1940040" y="22939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18"/>
              <p:cNvSpPr/>
              <p:nvPr/>
            </p:nvSpPr>
            <p:spPr>
              <a:xfrm>
                <a:off x="1947960" y="22978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19"/>
              <p:cNvSpPr/>
              <p:nvPr/>
            </p:nvSpPr>
            <p:spPr>
              <a:xfrm>
                <a:off x="1954440" y="23036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20"/>
              <p:cNvSpPr/>
              <p:nvPr/>
            </p:nvSpPr>
            <p:spPr>
              <a:xfrm>
                <a:off x="1988280" y="23191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21"/>
            <p:cNvSpPr/>
            <p:nvPr/>
          </p:nvSpPr>
          <p:spPr>
            <a:xfrm>
              <a:off x="2073600" y="238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22"/>
            <p:cNvSpPr/>
            <p:nvPr/>
          </p:nvSpPr>
          <p:spPr>
            <a:xfrm>
              <a:off x="1265400" y="305100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非针对性、去个性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23"/>
          <p:cNvGrpSpPr/>
          <p:nvPr/>
        </p:nvGrpSpPr>
        <p:grpSpPr>
          <a:xfrm>
            <a:off x="3551400" y="2289240"/>
            <a:ext cx="2166840" cy="4034880"/>
            <a:chOff x="3551400" y="2289240"/>
            <a:chExt cx="2166840" cy="4034880"/>
          </a:xfrm>
        </p:grpSpPr>
        <p:sp>
          <p:nvSpPr>
            <p:cNvPr id="407" name="AutoShape 24"/>
            <p:cNvSpPr/>
            <p:nvPr/>
          </p:nvSpPr>
          <p:spPr>
            <a:xfrm>
              <a:off x="3551400" y="25966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25"/>
            <p:cNvSpPr/>
            <p:nvPr/>
          </p:nvSpPr>
          <p:spPr>
            <a:xfrm>
              <a:off x="3584520" y="26049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26"/>
            <p:cNvSpPr/>
            <p:nvPr/>
          </p:nvSpPr>
          <p:spPr>
            <a:xfrm>
              <a:off x="3602160" y="46684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7"/>
            <p:cNvSpPr/>
            <p:nvPr/>
          </p:nvSpPr>
          <p:spPr>
            <a:xfrm>
              <a:off x="3602160" y="26269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28"/>
            <p:cNvSpPr/>
            <p:nvPr/>
          </p:nvSpPr>
          <p:spPr>
            <a:xfrm>
              <a:off x="4295880" y="22892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29"/>
            <p:cNvSpPr/>
            <p:nvPr/>
          </p:nvSpPr>
          <p:spPr>
            <a:xfrm>
              <a:off x="4302000" y="22935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30"/>
            <p:cNvSpPr/>
            <p:nvPr/>
          </p:nvSpPr>
          <p:spPr>
            <a:xfrm>
              <a:off x="4310280" y="22968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31"/>
            <p:cNvSpPr/>
            <p:nvPr/>
          </p:nvSpPr>
          <p:spPr>
            <a:xfrm>
              <a:off x="4316400" y="23032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32"/>
            <p:cNvSpPr/>
            <p:nvPr/>
          </p:nvSpPr>
          <p:spPr>
            <a:xfrm>
              <a:off x="4351320" y="23191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33"/>
            <p:cNvSpPr/>
            <p:nvPr/>
          </p:nvSpPr>
          <p:spPr>
            <a:xfrm>
              <a:off x="4443480" y="238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34"/>
            <p:cNvSpPr/>
            <p:nvPr/>
          </p:nvSpPr>
          <p:spPr>
            <a:xfrm>
              <a:off x="3627360" y="3051000"/>
              <a:ext cx="20574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学生学习主动性的消磨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zh-CN" sz="1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信息传递手段的限制，决定了教育内容呈现方式的单一性，决定了教师讲、学生听是教育活动的基本形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35"/>
            <p:cNvSpPr/>
            <p:nvPr/>
          </p:nvSpPr>
          <p:spPr>
            <a:xfrm>
              <a:off x="3554280" y="54543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36"/>
            <p:cNvSpPr/>
            <p:nvPr/>
          </p:nvSpPr>
          <p:spPr>
            <a:xfrm>
              <a:off x="3598920" y="54781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37"/>
          <p:cNvGrpSpPr/>
          <p:nvPr/>
        </p:nvGrpSpPr>
        <p:grpSpPr>
          <a:xfrm>
            <a:off x="5907240" y="2289240"/>
            <a:ext cx="2170080" cy="4034880"/>
            <a:chOff x="5907240" y="2289240"/>
            <a:chExt cx="2170080" cy="4034880"/>
          </a:xfrm>
        </p:grpSpPr>
        <p:sp>
          <p:nvSpPr>
            <p:cNvPr id="421" name="AutoShape 38"/>
            <p:cNvSpPr/>
            <p:nvPr/>
          </p:nvSpPr>
          <p:spPr>
            <a:xfrm>
              <a:off x="5913360" y="25966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39"/>
            <p:cNvSpPr/>
            <p:nvPr/>
          </p:nvSpPr>
          <p:spPr>
            <a:xfrm>
              <a:off x="5946840" y="26049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40"/>
            <p:cNvSpPr/>
            <p:nvPr/>
          </p:nvSpPr>
          <p:spPr>
            <a:xfrm>
              <a:off x="5964120" y="46684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41"/>
            <p:cNvSpPr/>
            <p:nvPr/>
          </p:nvSpPr>
          <p:spPr>
            <a:xfrm>
              <a:off x="5964120" y="26269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42"/>
            <p:cNvGrpSpPr/>
            <p:nvPr/>
          </p:nvGrpSpPr>
          <p:grpSpPr>
            <a:xfrm>
              <a:off x="6657840" y="2289240"/>
              <a:ext cx="642960" cy="642600"/>
              <a:chOff x="6657840" y="2289240"/>
              <a:chExt cx="642960" cy="642600"/>
            </a:xfrm>
          </p:grpSpPr>
          <p:sp>
            <p:nvSpPr>
              <p:cNvPr id="426" name="Oval 43"/>
              <p:cNvSpPr/>
              <p:nvPr/>
            </p:nvSpPr>
            <p:spPr>
              <a:xfrm>
                <a:off x="6657840" y="22892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44"/>
              <p:cNvSpPr/>
              <p:nvPr/>
            </p:nvSpPr>
            <p:spPr>
              <a:xfrm>
                <a:off x="6664320" y="22939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45"/>
              <p:cNvSpPr/>
              <p:nvPr/>
            </p:nvSpPr>
            <p:spPr>
              <a:xfrm>
                <a:off x="6672240" y="22978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46"/>
              <p:cNvSpPr/>
              <p:nvPr/>
            </p:nvSpPr>
            <p:spPr>
              <a:xfrm>
                <a:off x="6678720" y="23036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47"/>
              <p:cNvSpPr/>
              <p:nvPr/>
            </p:nvSpPr>
            <p:spPr>
              <a:xfrm>
                <a:off x="6712560" y="23191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48"/>
            <p:cNvSpPr/>
            <p:nvPr/>
          </p:nvSpPr>
          <p:spPr>
            <a:xfrm>
              <a:off x="6805800" y="238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49"/>
            <p:cNvSpPr/>
            <p:nvPr/>
          </p:nvSpPr>
          <p:spPr>
            <a:xfrm>
              <a:off x="5989680" y="3051000"/>
              <a:ext cx="205740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师生间的尊卑差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学生的无能感、自卑感和负罪感；教师的万能感、优越感和正确感。教师人格的单一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50"/>
            <p:cNvSpPr/>
            <p:nvPr/>
          </p:nvSpPr>
          <p:spPr>
            <a:xfrm>
              <a:off x="5907240" y="54543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51"/>
            <p:cNvSpPr/>
            <p:nvPr/>
          </p:nvSpPr>
          <p:spPr>
            <a:xfrm>
              <a:off x="5951520" y="54781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日期占位符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9368-EAF1-43AB-AB71-0084A3825658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6298-43E8-449E-AE10-063B87C871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52240" y="61740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五）教师角色转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3"/>
          <p:cNvGrpSpPr/>
          <p:nvPr/>
        </p:nvGrpSpPr>
        <p:grpSpPr>
          <a:xfrm>
            <a:off x="1793160" y="3917160"/>
            <a:ext cx="5882400" cy="1301040"/>
            <a:chOff x="1793160" y="3917160"/>
            <a:chExt cx="5882400" cy="1301040"/>
          </a:xfrm>
        </p:grpSpPr>
        <p:grpSp>
          <p:nvGrpSpPr>
            <p:cNvPr id="439" name="Group 4"/>
            <p:cNvGrpSpPr/>
            <p:nvPr/>
          </p:nvGrpSpPr>
          <p:grpSpPr>
            <a:xfrm>
              <a:off x="1793160" y="3917160"/>
              <a:ext cx="1188000" cy="1301040"/>
              <a:chOff x="1793160" y="3917160"/>
              <a:chExt cx="1188000" cy="1301040"/>
            </a:xfrm>
          </p:grpSpPr>
          <p:pic>
            <p:nvPicPr>
              <p:cNvPr id="440" name="Picture 5" descr="未标题-1"/>
              <p:cNvPicPr/>
              <p:nvPr/>
            </p:nvPicPr>
            <p:blipFill>
              <a:blip r:embed="rId1"/>
              <a:stretch/>
            </p:blipFill>
            <p:spPr>
              <a:xfrm flipH="1" rot="5400000">
                <a:off x="2048040" y="4285080"/>
                <a:ext cx="688680" cy="117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Picture 6" descr="未标题-1"/>
              <p:cNvPicPr/>
              <p:nvPr/>
            </p:nvPicPr>
            <p:blipFill>
              <a:blip r:embed="rId2"/>
              <a:stretch/>
            </p:blipFill>
            <p:spPr>
              <a:xfrm rot="5400000">
                <a:off x="2034360" y="3675600"/>
                <a:ext cx="694440" cy="1177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2" name="Rectangle 7"/>
            <p:cNvSpPr/>
            <p:nvPr/>
          </p:nvSpPr>
          <p:spPr>
            <a:xfrm flipH="1">
              <a:off x="2049840" y="4305240"/>
              <a:ext cx="3574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8"/>
            <p:cNvSpPr/>
            <p:nvPr/>
          </p:nvSpPr>
          <p:spPr>
            <a:xfrm flipH="1">
              <a:off x="2963160" y="4037400"/>
              <a:ext cx="4712040" cy="10987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39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2.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从教师到导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9"/>
          <p:cNvGrpSpPr/>
          <p:nvPr/>
        </p:nvGrpSpPr>
        <p:grpSpPr>
          <a:xfrm>
            <a:off x="1876320" y="1859760"/>
            <a:ext cx="5797440" cy="1301040"/>
            <a:chOff x="1876320" y="1859760"/>
            <a:chExt cx="5797440" cy="1301040"/>
          </a:xfrm>
        </p:grpSpPr>
        <p:grpSp>
          <p:nvGrpSpPr>
            <p:cNvPr id="445" name="Group 10"/>
            <p:cNvGrpSpPr/>
            <p:nvPr/>
          </p:nvGrpSpPr>
          <p:grpSpPr>
            <a:xfrm>
              <a:off x="1876320" y="1859760"/>
              <a:ext cx="1171080" cy="1301040"/>
              <a:chOff x="1876320" y="1859760"/>
              <a:chExt cx="1171080" cy="1301040"/>
            </a:xfrm>
          </p:grpSpPr>
          <p:pic>
            <p:nvPicPr>
              <p:cNvPr id="446" name="Picture 11" descr="未标题-1"/>
              <p:cNvPicPr/>
              <p:nvPr/>
            </p:nvPicPr>
            <p:blipFill>
              <a:blip r:embed="rId3"/>
              <a:stretch/>
            </p:blipFill>
            <p:spPr>
              <a:xfrm flipH="1" rot="5400000">
                <a:off x="2122920" y="2236320"/>
                <a:ext cx="688680" cy="115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7" name="Picture 12" descr="未标题-1"/>
              <p:cNvPicPr/>
              <p:nvPr/>
            </p:nvPicPr>
            <p:blipFill>
              <a:blip r:embed="rId4"/>
              <a:stretch/>
            </p:blipFill>
            <p:spPr>
              <a:xfrm rot="5400000">
                <a:off x="2109240" y="1626840"/>
                <a:ext cx="694440" cy="116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8" name="Rectangle 13"/>
            <p:cNvSpPr/>
            <p:nvPr/>
          </p:nvSpPr>
          <p:spPr>
            <a:xfrm flipH="1">
              <a:off x="2130120" y="2247840"/>
              <a:ext cx="3520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14"/>
            <p:cNvSpPr/>
            <p:nvPr/>
          </p:nvSpPr>
          <p:spPr>
            <a:xfrm flipH="1">
              <a:off x="3029760" y="1980000"/>
              <a:ext cx="4643640" cy="10987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39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.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从先生到教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FCBB-E437-4130-83C9-663CE4278072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BDB5-9F28-432F-A25D-646662DF62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2"/>
          <p:cNvGrpSpPr/>
          <p:nvPr/>
        </p:nvGrpSpPr>
        <p:grpSpPr>
          <a:xfrm>
            <a:off x="1268280" y="2357280"/>
            <a:ext cx="2163600" cy="3165480"/>
            <a:chOff x="1268280" y="2357280"/>
            <a:chExt cx="2163600" cy="3165480"/>
          </a:xfrm>
        </p:grpSpPr>
        <p:sp>
          <p:nvSpPr>
            <p:cNvPr id="453" name="AutoShape 3"/>
            <p:cNvSpPr/>
            <p:nvPr/>
          </p:nvSpPr>
          <p:spPr>
            <a:xfrm>
              <a:off x="1268280" y="266508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4"/>
            <p:cNvSpPr/>
            <p:nvPr/>
          </p:nvSpPr>
          <p:spPr>
            <a:xfrm>
              <a:off x="1301760" y="267336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5"/>
            <p:cNvSpPr/>
            <p:nvPr/>
          </p:nvSpPr>
          <p:spPr>
            <a:xfrm>
              <a:off x="1319040" y="473688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6"/>
            <p:cNvSpPr/>
            <p:nvPr/>
          </p:nvSpPr>
          <p:spPr>
            <a:xfrm>
              <a:off x="1319040" y="269532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7"/>
            <p:cNvGrpSpPr/>
            <p:nvPr/>
          </p:nvGrpSpPr>
          <p:grpSpPr>
            <a:xfrm>
              <a:off x="2012760" y="2357280"/>
              <a:ext cx="642960" cy="642960"/>
              <a:chOff x="2012760" y="2357280"/>
              <a:chExt cx="642960" cy="642960"/>
            </a:xfrm>
          </p:grpSpPr>
          <p:sp>
            <p:nvSpPr>
              <p:cNvPr id="458" name="Oval 8"/>
              <p:cNvSpPr/>
              <p:nvPr/>
            </p:nvSpPr>
            <p:spPr>
              <a:xfrm>
                <a:off x="2012760" y="235728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9"/>
              <p:cNvSpPr/>
              <p:nvPr/>
            </p:nvSpPr>
            <p:spPr>
              <a:xfrm>
                <a:off x="2019240" y="236196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10"/>
              <p:cNvSpPr/>
              <p:nvPr/>
            </p:nvSpPr>
            <p:spPr>
              <a:xfrm>
                <a:off x="2027160" y="23659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11"/>
              <p:cNvSpPr/>
              <p:nvPr/>
            </p:nvSpPr>
            <p:spPr>
              <a:xfrm>
                <a:off x="2033640" y="237168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12"/>
              <p:cNvSpPr/>
              <p:nvPr/>
            </p:nvSpPr>
            <p:spPr>
              <a:xfrm>
                <a:off x="2067480" y="238716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Text Box 13"/>
            <p:cNvSpPr/>
            <p:nvPr/>
          </p:nvSpPr>
          <p:spPr>
            <a:xfrm>
              <a:off x="2152800" y="2449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4"/>
            <p:cNvSpPr/>
            <p:nvPr/>
          </p:nvSpPr>
          <p:spPr>
            <a:xfrm>
              <a:off x="1344600" y="3119400"/>
              <a:ext cx="205740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5"/>
          <p:cNvGrpSpPr/>
          <p:nvPr/>
        </p:nvGrpSpPr>
        <p:grpSpPr>
          <a:xfrm>
            <a:off x="3657600" y="2320920"/>
            <a:ext cx="2163600" cy="3165480"/>
            <a:chOff x="3657600" y="2320920"/>
            <a:chExt cx="2163600" cy="3165480"/>
          </a:xfrm>
        </p:grpSpPr>
        <p:sp>
          <p:nvSpPr>
            <p:cNvPr id="466" name="AutoShape 16"/>
            <p:cNvSpPr/>
            <p:nvPr/>
          </p:nvSpPr>
          <p:spPr>
            <a:xfrm>
              <a:off x="3657600" y="26287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17"/>
            <p:cNvSpPr/>
            <p:nvPr/>
          </p:nvSpPr>
          <p:spPr>
            <a:xfrm>
              <a:off x="3691080" y="26370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18"/>
            <p:cNvSpPr/>
            <p:nvPr/>
          </p:nvSpPr>
          <p:spPr>
            <a:xfrm>
              <a:off x="3708360" y="47005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19"/>
            <p:cNvSpPr/>
            <p:nvPr/>
          </p:nvSpPr>
          <p:spPr>
            <a:xfrm>
              <a:off x="3708360" y="26589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0"/>
            <p:cNvSpPr/>
            <p:nvPr/>
          </p:nvSpPr>
          <p:spPr>
            <a:xfrm>
              <a:off x="4402080" y="23209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"/>
            <p:cNvSpPr/>
            <p:nvPr/>
          </p:nvSpPr>
          <p:spPr>
            <a:xfrm>
              <a:off x="4408560" y="232560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2"/>
            <p:cNvSpPr/>
            <p:nvPr/>
          </p:nvSpPr>
          <p:spPr>
            <a:xfrm>
              <a:off x="4416480" y="232884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23"/>
            <p:cNvSpPr/>
            <p:nvPr/>
          </p:nvSpPr>
          <p:spPr>
            <a:xfrm>
              <a:off x="4422600" y="233532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24"/>
            <p:cNvSpPr/>
            <p:nvPr/>
          </p:nvSpPr>
          <p:spPr>
            <a:xfrm>
              <a:off x="4457880" y="235116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25"/>
            <p:cNvSpPr/>
            <p:nvPr/>
          </p:nvSpPr>
          <p:spPr>
            <a:xfrm>
              <a:off x="4542120" y="241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6"/>
            <p:cNvSpPr/>
            <p:nvPr/>
          </p:nvSpPr>
          <p:spPr>
            <a:xfrm>
              <a:off x="3733920" y="3083040"/>
              <a:ext cx="205740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27"/>
          <p:cNvGrpSpPr/>
          <p:nvPr/>
        </p:nvGrpSpPr>
        <p:grpSpPr>
          <a:xfrm>
            <a:off x="6019920" y="2320920"/>
            <a:ext cx="2163600" cy="3415680"/>
            <a:chOff x="6019920" y="2320920"/>
            <a:chExt cx="2163600" cy="3415680"/>
          </a:xfrm>
        </p:grpSpPr>
        <p:sp>
          <p:nvSpPr>
            <p:cNvPr id="478" name="AutoShape 28"/>
            <p:cNvSpPr/>
            <p:nvPr/>
          </p:nvSpPr>
          <p:spPr>
            <a:xfrm>
              <a:off x="6019920" y="26287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29"/>
            <p:cNvSpPr/>
            <p:nvPr/>
          </p:nvSpPr>
          <p:spPr>
            <a:xfrm>
              <a:off x="6053400" y="26370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30"/>
            <p:cNvSpPr/>
            <p:nvPr/>
          </p:nvSpPr>
          <p:spPr>
            <a:xfrm>
              <a:off x="6070680" y="47005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31"/>
            <p:cNvSpPr/>
            <p:nvPr/>
          </p:nvSpPr>
          <p:spPr>
            <a:xfrm>
              <a:off x="6070680" y="26589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32"/>
            <p:cNvGrpSpPr/>
            <p:nvPr/>
          </p:nvGrpSpPr>
          <p:grpSpPr>
            <a:xfrm>
              <a:off x="6764400" y="2320920"/>
              <a:ext cx="642960" cy="642960"/>
              <a:chOff x="6764400" y="2320920"/>
              <a:chExt cx="642960" cy="642960"/>
            </a:xfrm>
          </p:grpSpPr>
          <p:sp>
            <p:nvSpPr>
              <p:cNvPr id="483" name="Oval 33"/>
              <p:cNvSpPr/>
              <p:nvPr/>
            </p:nvSpPr>
            <p:spPr>
              <a:xfrm>
                <a:off x="6764400" y="23209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Oval 34"/>
              <p:cNvSpPr/>
              <p:nvPr/>
            </p:nvSpPr>
            <p:spPr>
              <a:xfrm>
                <a:off x="6770880" y="23256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35"/>
              <p:cNvSpPr/>
              <p:nvPr/>
            </p:nvSpPr>
            <p:spPr>
              <a:xfrm>
                <a:off x="6778800" y="23295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36"/>
              <p:cNvSpPr/>
              <p:nvPr/>
            </p:nvSpPr>
            <p:spPr>
              <a:xfrm>
                <a:off x="6785280" y="23353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37"/>
              <p:cNvSpPr/>
              <p:nvPr/>
            </p:nvSpPr>
            <p:spPr>
              <a:xfrm>
                <a:off x="6819120" y="23508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Text Box 38"/>
            <p:cNvSpPr/>
            <p:nvPr/>
          </p:nvSpPr>
          <p:spPr>
            <a:xfrm>
              <a:off x="6904440" y="241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39"/>
            <p:cNvSpPr/>
            <p:nvPr/>
          </p:nvSpPr>
          <p:spPr>
            <a:xfrm>
              <a:off x="6096240" y="3083040"/>
              <a:ext cx="205740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Text Box 41"/>
          <p:cNvSpPr/>
          <p:nvPr/>
        </p:nvSpPr>
        <p:spPr>
          <a:xfrm>
            <a:off x="3073320" y="657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六） 教学新理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42" descr="花纹"/>
          <p:cNvPicPr/>
          <p:nvPr/>
        </p:nvPicPr>
        <p:blipFill>
          <a:blip r:embed="rId1"/>
          <a:stretch/>
        </p:blipFill>
        <p:spPr>
          <a:xfrm>
            <a:off x="0" y="4084560"/>
            <a:ext cx="14050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315D-4FC1-4AB4-A662-C5849D46A93A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6808-3B5E-47D1-9107-1A98324DDB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2"/>
          <p:cNvSpPr/>
          <p:nvPr/>
        </p:nvSpPr>
        <p:spPr>
          <a:xfrm>
            <a:off x="4114800" y="1371600"/>
            <a:ext cx="3672000" cy="1447920"/>
          </a:xfrm>
          <a:prstGeom prst="wedgeRoundRectCallout">
            <a:avLst>
              <a:gd name="adj1" fmla="val -45287"/>
              <a:gd name="adj2" fmla="val 66120"/>
              <a:gd name="adj3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cc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问题与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谁重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4114800" y="3809880"/>
            <a:ext cx="3703680" cy="1524240"/>
          </a:xfrm>
          <a:prstGeom prst="wedgeRoundRectCallout">
            <a:avLst>
              <a:gd name="adj1" fmla="val -46273"/>
              <a:gd name="adj2" fmla="val -59791"/>
              <a:gd name="adj3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cc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问题与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是什么关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1268280" y="1743120"/>
            <a:ext cx="2163600" cy="3165480"/>
            <a:chOff x="1268280" y="1743120"/>
            <a:chExt cx="2163600" cy="3165480"/>
          </a:xfrm>
        </p:grpSpPr>
        <p:sp>
          <p:nvSpPr>
            <p:cNvPr id="497" name="AutoShape 5"/>
            <p:cNvSpPr/>
            <p:nvPr/>
          </p:nvSpPr>
          <p:spPr>
            <a:xfrm>
              <a:off x="1268280" y="20509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6"/>
            <p:cNvSpPr/>
            <p:nvPr/>
          </p:nvSpPr>
          <p:spPr>
            <a:xfrm>
              <a:off x="1301760" y="20592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7"/>
            <p:cNvSpPr/>
            <p:nvPr/>
          </p:nvSpPr>
          <p:spPr>
            <a:xfrm>
              <a:off x="1319040" y="41227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8"/>
            <p:cNvSpPr/>
            <p:nvPr/>
          </p:nvSpPr>
          <p:spPr>
            <a:xfrm>
              <a:off x="1319040" y="20811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Group 9"/>
            <p:cNvGrpSpPr/>
            <p:nvPr/>
          </p:nvGrpSpPr>
          <p:grpSpPr>
            <a:xfrm>
              <a:off x="2012760" y="1743120"/>
              <a:ext cx="642960" cy="642960"/>
              <a:chOff x="2012760" y="1743120"/>
              <a:chExt cx="642960" cy="642960"/>
            </a:xfrm>
          </p:grpSpPr>
          <p:sp>
            <p:nvSpPr>
              <p:cNvPr id="502" name="Oval 10"/>
              <p:cNvSpPr/>
              <p:nvPr/>
            </p:nvSpPr>
            <p:spPr>
              <a:xfrm>
                <a:off x="2012760" y="17431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Oval 11"/>
              <p:cNvSpPr/>
              <p:nvPr/>
            </p:nvSpPr>
            <p:spPr>
              <a:xfrm>
                <a:off x="2019240" y="17478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12"/>
              <p:cNvSpPr/>
              <p:nvPr/>
            </p:nvSpPr>
            <p:spPr>
              <a:xfrm>
                <a:off x="2027160" y="17517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13"/>
              <p:cNvSpPr/>
              <p:nvPr/>
            </p:nvSpPr>
            <p:spPr>
              <a:xfrm>
                <a:off x="2033640" y="17575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14"/>
              <p:cNvSpPr/>
              <p:nvPr/>
            </p:nvSpPr>
            <p:spPr>
              <a:xfrm>
                <a:off x="2067480" y="17730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Text Box 15"/>
            <p:cNvSpPr/>
            <p:nvPr/>
          </p:nvSpPr>
          <p:spPr>
            <a:xfrm>
              <a:off x="2152800" y="183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16"/>
            <p:cNvSpPr/>
            <p:nvPr/>
          </p:nvSpPr>
          <p:spPr>
            <a:xfrm>
              <a:off x="1344600" y="2505240"/>
              <a:ext cx="205740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9" name="Picture 17" descr="花纹"/>
          <p:cNvPicPr/>
          <p:nvPr/>
        </p:nvPicPr>
        <p:blipFill>
          <a:blip r:embed="rId1"/>
          <a:stretch/>
        </p:blipFill>
        <p:spPr>
          <a:xfrm>
            <a:off x="0" y="4084560"/>
            <a:ext cx="14050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2798-D89D-4032-AB9B-2745B8982C4B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E9B7-568B-4816-9BF7-045EF3ADBA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332000" y="836640"/>
            <a:ext cx="71643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9999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谁是你最好的学生？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3" descr="n12"/>
          <p:cNvPicPr/>
          <p:nvPr/>
        </p:nvPicPr>
        <p:blipFill>
          <a:blip r:embed="rId1"/>
          <a:stretch/>
        </p:blipFill>
        <p:spPr>
          <a:xfrm>
            <a:off x="1644480" y="1887480"/>
            <a:ext cx="6220080" cy="37321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花纹"/>
          <p:cNvPicPr/>
          <p:nvPr/>
        </p:nvPicPr>
        <p:blipFill>
          <a:blip r:embed="rId2"/>
          <a:stretch/>
        </p:blipFill>
        <p:spPr>
          <a:xfrm>
            <a:off x="0" y="4084560"/>
            <a:ext cx="1405080" cy="187344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1619280" y="20350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桃李满天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22FA-A232-4C2C-A9CC-1AD61064EE26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3435-7309-41CA-AC02-517616F4D4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Object 2"/>
          <p:cNvGraphicFramePr/>
          <p:nvPr/>
        </p:nvGraphicFramePr>
        <p:xfrm>
          <a:off x="1047600" y="907920"/>
          <a:ext cx="3851280" cy="526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7600" y="907920"/>
                    <a:ext cx="3851280" cy="526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Oval 3"/>
          <p:cNvSpPr/>
          <p:nvPr/>
        </p:nvSpPr>
        <p:spPr>
          <a:xfrm>
            <a:off x="5137200" y="898560"/>
            <a:ext cx="3384360" cy="33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5602320" y="4672080"/>
            <a:ext cx="290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）这是什么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5" descr="花纹"/>
          <p:cNvPicPr/>
          <p:nvPr/>
        </p:nvPicPr>
        <p:blipFill>
          <a:blip r:embed="rId3"/>
          <a:stretch/>
        </p:blipFill>
        <p:spPr>
          <a:xfrm>
            <a:off x="0" y="4084560"/>
            <a:ext cx="14050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45BB-E4D8-4638-BFEE-4F14443A089C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7A81-74B3-4C13-864A-AE750FE433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"/>
          <p:cNvSpPr/>
          <p:nvPr/>
        </p:nvSpPr>
        <p:spPr>
          <a:xfrm>
            <a:off x="622440" y="992160"/>
            <a:ext cx="4176720" cy="2448000"/>
          </a:xfrm>
          <a:prstGeom prst="cloudCallout">
            <a:avLst>
              <a:gd name="adj1" fmla="val 70981"/>
              <a:gd name="adj2" fmla="val 46694"/>
            </a:avLst>
          </a:prstGeom>
          <a:solidFill>
            <a:srgbClr val="f5f5f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这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大概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个零吧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2088573_206119"/>
          <p:cNvPicPr/>
          <p:nvPr/>
        </p:nvPicPr>
        <p:blipFill>
          <a:blip r:embed="rId1"/>
          <a:srcRect l="22466" t="0" r="35369" b="18120"/>
          <a:stretch/>
        </p:blipFill>
        <p:spPr>
          <a:xfrm>
            <a:off x="5781600" y="509760"/>
            <a:ext cx="2967120" cy="482436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4"/>
          <p:cNvSpPr/>
          <p:nvPr/>
        </p:nvSpPr>
        <p:spPr>
          <a:xfrm>
            <a:off x="482760" y="3749760"/>
            <a:ext cx="53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班长</a:t>
            </a:r>
            <a:r>
              <a:rPr b="1" lang="zh-CN" sz="3600" spc="-1" strike="noStrike">
                <a:solidFill>
                  <a:srgbClr val="009999"/>
                </a:solidFill>
                <a:latin typeface="Tahoma"/>
              </a:rPr>
              <a:t>慢吞吞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地站起来，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迟疑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地说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5" descr="花纹"/>
          <p:cNvPicPr/>
          <p:nvPr/>
        </p:nvPicPr>
        <p:blipFill>
          <a:blip r:embed="rId2"/>
          <a:stretch/>
        </p:blipFill>
        <p:spPr>
          <a:xfrm>
            <a:off x="0" y="4627440"/>
            <a:ext cx="14050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EA1E-A9D5-445F-8EE6-D35FB4B4DCD4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D450-FC0B-4592-9F05-9730198869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785880" y="2485080"/>
            <a:ext cx="753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央广网合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日消息（记者王利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日上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时许，阜阳经济技术开发区颍南小学六年级学生辉辉（化名），因作业没写好，在被任课老师批评体罚后，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楼坠下，不幸身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据了解，在上第三节课数学课时，任课老师检查作业完成情况，发现辉辉作业完成的不好，对其进行批评体罚。第四节课开始时，辉辉离开教室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点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分左右，该班班主任曹某寻找辉辉至六楼，看到辉辉正骑坐在六楼窗台上，曹某正劝说其下来时，辉辉从窗台坠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曹某等教职工迅速拨打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并将辉辉送至阜阳市创伤医院进行救治，经抢救无效于当日中午死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事件发生后，阜阳市委、市政府高度重视，要求迅速成立案件调查组，尽快查清事实，分清责任，依法依纪处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3E02-0B55-43DA-A28B-98B52B346BA7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BD13-0711-4DC9-A49D-9C4E90D1A0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2"/>
          <p:cNvSpPr/>
          <p:nvPr/>
        </p:nvSpPr>
        <p:spPr>
          <a:xfrm>
            <a:off x="1440000" y="708120"/>
            <a:ext cx="703872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99cc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） 国内的高才生到美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3"/>
          <p:cNvSpPr/>
          <p:nvPr/>
        </p:nvSpPr>
        <p:spPr>
          <a:xfrm>
            <a:off x="2298600" y="2031840"/>
            <a:ext cx="4996080" cy="3238560"/>
          </a:xfrm>
          <a:prstGeom prst="flowChartPunchedTap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en-US" sz="80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zh-CN" sz="8000" spc="-1" strike="noStrike">
                <a:solidFill>
                  <a:srgbClr val="ff0000"/>
                </a:solidFill>
                <a:latin typeface="Tahoma"/>
              </a:rPr>
              <a:t>等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花纹"/>
          <p:cNvPicPr/>
          <p:nvPr/>
        </p:nvPicPr>
        <p:blipFill>
          <a:blip r:embed="rId2"/>
          <a:stretch/>
        </p:blipFill>
        <p:spPr>
          <a:xfrm>
            <a:off x="0" y="4084560"/>
            <a:ext cx="14050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EB60-31A8-4FED-8A65-A129FBF7CC8F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A6F7-D445-4EA7-B7EE-5508E71B8D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2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问题的角度</a:t>
            </a:r>
            <a:br>
              <a:rPr sz="32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指问题的思考方向，也叫思维的向度。问题设计要找准思维方向，引导学生沿着正确的思维方向或角度延伸思维的触角，如果思维的角度不准，问题就难于思考。如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乡愁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提问案例：设计提问式导语，目的是让学生说出课题。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                           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                          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乡   愁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                   余光中（台湾）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小时候，乡愁是一枚小小的邮票，我在这头，母亲在那头。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长大后，乡愁是一张窄窄的船票，我在这头，新娘在那头。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后来啊，乡愁是一方矮矮的坟墓，我在外头，母亲在里头。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而现在，乡愁是一湾浅浅的海峡，我在这头，大陆在那头。</a:t>
            </a:r>
            <a:br>
              <a:rPr sz="2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9356-E688-426C-97AF-06B046035174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AC2D-1E2C-4603-8065-24E6A5C2DA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1004760"/>
            <a:ext cx="8540640" cy="50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师：如果一个人到了一个遥远的地方，时间一长，他就开始思念自己的亲人，这叫做什么？</a:t>
            </a:r>
            <a:br>
              <a:rPr sz="2000"/>
            </a:b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        生：亲情。</a:t>
            </a:r>
            <a:br>
              <a:rPr sz="2000"/>
            </a:b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        师：可能是我问得不对，也可能是你理解有误。我换个角度再问：这个人在外乡的时间很长，长夜里他只要看见月亮就会想起自己的家，这叫做什么？</a:t>
            </a:r>
            <a:br>
              <a:rPr sz="2000"/>
            </a:b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        生：月是故乡明。</a:t>
            </a:r>
            <a:br>
              <a:rPr sz="2000"/>
            </a:b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        师：不是月亮明不明的问题，他看见月亮会很想家，甚至会偷偷流泪。</a:t>
            </a:r>
            <a:br>
              <a:rPr sz="2000"/>
            </a:b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        生：月朦胧鸟朦胧。</a:t>
            </a:r>
            <a:br>
              <a:rPr sz="2000"/>
            </a:b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        师：不能这样回答（急了）。</a:t>
            </a:r>
            <a:br>
              <a:rPr sz="2000"/>
            </a:b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        生：举头望明月，低头思故乡。</a:t>
            </a:r>
            <a:br>
              <a:rPr sz="2000"/>
            </a:b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        师：不是（满脸乌云）。</a:t>
            </a:r>
            <a:br>
              <a:rPr sz="2000"/>
            </a:b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        生：月亮走我也走。</a:t>
            </a:r>
            <a:br>
              <a:rPr sz="2000"/>
            </a:b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        师：我只要求你用两个字回答，而且不能用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月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字。</a:t>
            </a:r>
            <a:br>
              <a:rPr sz="2000"/>
            </a:b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        生：深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225B-174B-4531-8F40-06D8E3AFA456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0E64-7A8A-4852-A230-B3EECAA37D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"/>
          <p:cNvSpPr/>
          <p:nvPr/>
        </p:nvSpPr>
        <p:spPr>
          <a:xfrm>
            <a:off x="907920" y="1944720"/>
            <a:ext cx="4577040" cy="107964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结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谁   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3"/>
          <p:cNvSpPr/>
          <p:nvPr/>
        </p:nvSpPr>
        <p:spPr>
          <a:xfrm>
            <a:off x="907920" y="3544920"/>
            <a:ext cx="4605480" cy="1081080"/>
          </a:xfrm>
          <a:prstGeom prst="roundRect">
            <a:avLst>
              <a:gd name="adj" fmla="val 9106"/>
            </a:avLst>
          </a:prstGeom>
          <a:solidFill>
            <a:srgbClr val="f5f5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结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4"/>
          <p:cNvGrpSpPr/>
          <p:nvPr/>
        </p:nvGrpSpPr>
        <p:grpSpPr>
          <a:xfrm>
            <a:off x="6823080" y="1631880"/>
            <a:ext cx="2163600" cy="3165480"/>
            <a:chOff x="6823080" y="1631880"/>
            <a:chExt cx="2163600" cy="3165480"/>
          </a:xfrm>
        </p:grpSpPr>
        <p:sp>
          <p:nvSpPr>
            <p:cNvPr id="545" name="AutoShape 5"/>
            <p:cNvSpPr/>
            <p:nvPr/>
          </p:nvSpPr>
          <p:spPr>
            <a:xfrm>
              <a:off x="6823080" y="193968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6"/>
            <p:cNvSpPr/>
            <p:nvPr/>
          </p:nvSpPr>
          <p:spPr>
            <a:xfrm>
              <a:off x="6856560" y="194796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7"/>
            <p:cNvSpPr/>
            <p:nvPr/>
          </p:nvSpPr>
          <p:spPr>
            <a:xfrm>
              <a:off x="6873840" y="401148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8"/>
            <p:cNvSpPr/>
            <p:nvPr/>
          </p:nvSpPr>
          <p:spPr>
            <a:xfrm>
              <a:off x="6873840" y="196992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9"/>
            <p:cNvSpPr/>
            <p:nvPr/>
          </p:nvSpPr>
          <p:spPr>
            <a:xfrm>
              <a:off x="7567560" y="163188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10"/>
            <p:cNvSpPr/>
            <p:nvPr/>
          </p:nvSpPr>
          <p:spPr>
            <a:xfrm>
              <a:off x="7574040" y="163656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1"/>
            <p:cNvSpPr/>
            <p:nvPr/>
          </p:nvSpPr>
          <p:spPr>
            <a:xfrm>
              <a:off x="7581960" y="163980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2"/>
            <p:cNvSpPr/>
            <p:nvPr/>
          </p:nvSpPr>
          <p:spPr>
            <a:xfrm>
              <a:off x="7588080" y="164628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13"/>
            <p:cNvSpPr/>
            <p:nvPr/>
          </p:nvSpPr>
          <p:spPr>
            <a:xfrm>
              <a:off x="7623360" y="166212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7707600" y="1724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899400" y="2394000"/>
              <a:ext cx="205740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6" name="Picture 16" descr="花纹"/>
          <p:cNvPicPr/>
          <p:nvPr/>
        </p:nvPicPr>
        <p:blipFill>
          <a:blip r:embed="rId1"/>
          <a:stretch/>
        </p:blipFill>
        <p:spPr>
          <a:xfrm>
            <a:off x="0" y="4341960"/>
            <a:ext cx="1405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8917-01E2-4CA8-9740-72D12F07E14B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0232-169A-4B72-AA15-9E4BDEC3B3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22006_1028549191"/>
          <p:cNvPicPr/>
          <p:nvPr/>
        </p:nvPicPr>
        <p:blipFill>
          <a:blip r:embed="rId1"/>
          <a:stretch/>
        </p:blipFill>
        <p:spPr>
          <a:xfrm>
            <a:off x="-36360" y="22320"/>
            <a:ext cx="91803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02D8-FDF6-49F1-BF89-9186BF77F8E7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3CDB-E429-4A90-88C0-DC3FD471CD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2"/>
          <p:cNvSpPr/>
          <p:nvPr/>
        </p:nvSpPr>
        <p:spPr>
          <a:xfrm>
            <a:off x="5796000" y="2276640"/>
            <a:ext cx="2808360" cy="1944360"/>
          </a:xfrm>
          <a:prstGeom prst="wedgeRoundRectCallout">
            <a:avLst>
              <a:gd name="adj1" fmla="val -85162"/>
              <a:gd name="adj2" fmla="val 34898"/>
              <a:gd name="adj3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三角形的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内角和等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80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吗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2006710560928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4440" y="1557360"/>
            <a:ext cx="3191040" cy="39798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花纹"/>
          <p:cNvPicPr/>
          <p:nvPr/>
        </p:nvPicPr>
        <p:blipFill>
          <a:blip r:embed="rId3"/>
          <a:stretch/>
        </p:blipFill>
        <p:spPr>
          <a:xfrm>
            <a:off x="0" y="4255920"/>
            <a:ext cx="14050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40C6-8419-445F-8606-C59B3F82FC4B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EE74-B5C3-45BA-BDE5-F6D10B59CC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2" descr="d200382215378807"/>
          <p:cNvPicPr/>
          <p:nvPr/>
        </p:nvPicPr>
        <p:blipFill>
          <a:blip r:embed="rId1"/>
          <a:stretch/>
        </p:blipFill>
        <p:spPr>
          <a:xfrm>
            <a:off x="1309680" y="1684440"/>
            <a:ext cx="2822760" cy="3147840"/>
          </a:xfrm>
          <a:prstGeom prst="rect">
            <a:avLst/>
          </a:prstGeom>
          <a:ln w="0">
            <a:noFill/>
          </a:ln>
        </p:spPr>
      </p:pic>
      <p:sp>
        <p:nvSpPr>
          <p:cNvPr id="568" name="AutoShape 3"/>
          <p:cNvSpPr/>
          <p:nvPr/>
        </p:nvSpPr>
        <p:spPr>
          <a:xfrm>
            <a:off x="5032440" y="2133720"/>
            <a:ext cx="3816360" cy="2449440"/>
          </a:xfrm>
          <a:prstGeom prst="wedgeEllipseCallout">
            <a:avLst>
              <a:gd name="adj1" fmla="val -54824"/>
              <a:gd name="adj2" fmla="val -2161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充足气的球面上画有三个角的图形叫不叫三角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内角和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4" descr="花纹"/>
          <p:cNvPicPr/>
          <p:nvPr/>
        </p:nvPicPr>
        <p:blipFill>
          <a:blip r:embed="rId2"/>
          <a:stretch/>
        </p:blipFill>
        <p:spPr>
          <a:xfrm>
            <a:off x="0" y="4498920"/>
            <a:ext cx="14050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4D3C-D22B-4AD3-BC11-3DB819D5B179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C1BC-5EA4-4F95-A37D-189613C391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2" descr="tyn"/>
          <p:cNvPicPr/>
          <p:nvPr/>
        </p:nvPicPr>
        <p:blipFill>
          <a:blip r:embed="rId1"/>
          <a:stretch/>
        </p:blipFill>
        <p:spPr>
          <a:xfrm>
            <a:off x="5270400" y="1487520"/>
            <a:ext cx="2884680" cy="3646440"/>
          </a:xfrm>
          <a:prstGeom prst="rect">
            <a:avLst/>
          </a:prstGeom>
          <a:ln w="0">
            <a:noFill/>
          </a:ln>
        </p:spPr>
      </p:pic>
      <p:sp>
        <p:nvSpPr>
          <p:cNvPr id="573" name="AutoShape 3"/>
          <p:cNvSpPr/>
          <p:nvPr/>
        </p:nvSpPr>
        <p:spPr>
          <a:xfrm>
            <a:off x="395280" y="2590920"/>
            <a:ext cx="3745080" cy="2711160"/>
          </a:xfrm>
          <a:prstGeom prst="wedgeEllipseCallout">
            <a:avLst>
              <a:gd name="adj1" fmla="val 59412"/>
              <a:gd name="adj2" fmla="val -51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凹进去的球面上画三个角的图形叫不叫三角形？内角和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花纹"/>
          <p:cNvPicPr/>
          <p:nvPr/>
        </p:nvPicPr>
        <p:blipFill>
          <a:blip r:embed="rId2"/>
          <a:stretch/>
        </p:blipFill>
        <p:spPr>
          <a:xfrm>
            <a:off x="0" y="4641840"/>
            <a:ext cx="14050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593C-44B9-44E7-BF7F-9D01FBEA7014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1439-7279-455E-8D39-E7D4686B75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1312920" y="620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7+7+7+7-3=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1133640" y="1557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黑体"/>
              </a:rPr>
              <a:t>逐个计算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5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1133640" y="290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7x4-3=25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1133640" y="42274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7x5-10=25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6"/>
          <p:cNvSpPr/>
          <p:nvPr/>
        </p:nvSpPr>
        <p:spPr>
          <a:xfrm>
            <a:off x="5159520" y="2117880"/>
            <a:ext cx="3095640" cy="2554200"/>
          </a:xfrm>
          <a:prstGeom prst="wedgeEllipseCallout">
            <a:avLst>
              <a:gd name="adj1" fmla="val -75694"/>
              <a:gd name="adj2" fmla="val -9106"/>
            </a:avLst>
          </a:prstGeom>
          <a:solidFill>
            <a:srgbClr val="dff5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请评价这三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计算方法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7" descr="花纹"/>
          <p:cNvPicPr/>
          <p:nvPr/>
        </p:nvPicPr>
        <p:blipFill>
          <a:blip r:embed="rId1"/>
          <a:stretch/>
        </p:blipFill>
        <p:spPr>
          <a:xfrm>
            <a:off x="0" y="4498920"/>
            <a:ext cx="14050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623F-1DE7-4681-9AAA-66ACA7EFBFBE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8C62-AF55-4C98-87B7-39B5B2B8FC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2"/>
          <p:cNvSpPr/>
          <p:nvPr/>
        </p:nvSpPr>
        <p:spPr>
          <a:xfrm>
            <a:off x="826920" y="1557360"/>
            <a:ext cx="2951280" cy="1871640"/>
          </a:xfrm>
          <a:prstGeom prst="wedgeRectCallout">
            <a:avLst>
              <a:gd name="adj1" fmla="val 62212"/>
              <a:gd name="adj2" fmla="val 22263"/>
            </a:avLst>
          </a:prstGeom>
          <a:gradFill rotWithShape="0">
            <a:gsLst>
              <a:gs pos="0">
                <a:srgbClr val="dff5db"/>
              </a:gs>
              <a:gs pos="50000">
                <a:srgbClr val="ffffff"/>
              </a:gs>
              <a:gs pos="100000">
                <a:srgbClr val="dff5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+1=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3"/>
          <p:cNvSpPr/>
          <p:nvPr/>
        </p:nvSpPr>
        <p:spPr>
          <a:xfrm>
            <a:off x="4788000" y="620640"/>
            <a:ext cx="3368520" cy="2016360"/>
          </a:xfrm>
          <a:prstGeom prst="cloudCallout">
            <a:avLst>
              <a:gd name="adj1" fmla="val -71111"/>
              <a:gd name="adj2" fmla="val 42361"/>
            </a:avLst>
          </a:prstGeom>
          <a:gradFill rotWithShape="0">
            <a:gsLst>
              <a:gs pos="0">
                <a:srgbClr val="ffffff"/>
              </a:gs>
              <a:gs pos="50000">
                <a:srgbClr val="dff5d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+1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4"/>
          <p:cNvSpPr/>
          <p:nvPr/>
        </p:nvSpPr>
        <p:spPr>
          <a:xfrm>
            <a:off x="5148360" y="3213000"/>
            <a:ext cx="3168720" cy="2187720"/>
          </a:xfrm>
          <a:prstGeom prst="cloudCallout">
            <a:avLst>
              <a:gd name="adj1" fmla="val -82513"/>
              <a:gd name="adj2" fmla="val -46444"/>
            </a:avLst>
          </a:prstGeom>
          <a:gradFill rotWithShape="0">
            <a:gsLst>
              <a:gs pos="0">
                <a:srgbClr val="ffffff"/>
              </a:gs>
              <a:gs pos="50000">
                <a:srgbClr val="dff5d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+1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826920" y="4292640"/>
            <a:ext cx="2953080" cy="165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ff5d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思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半斤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八两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3A38-539A-4B90-A210-F632C8BE730B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BB50-D0D1-4430-86E4-641A2B9A9C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424160" y="417600"/>
            <a:ext cx="663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学校中的反教育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1284701661_27764400"/>
          <p:cNvPicPr/>
          <p:nvPr/>
        </p:nvPicPr>
        <p:blipFill>
          <a:blip r:embed="rId1"/>
          <a:stretch/>
        </p:blipFill>
        <p:spPr>
          <a:xfrm>
            <a:off x="1008000" y="2097000"/>
            <a:ext cx="7300800" cy="41166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7"/>
          <p:cNvSpPr/>
          <p:nvPr/>
        </p:nvSpPr>
        <p:spPr>
          <a:xfrm>
            <a:off x="2576160" y="144288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（一）标语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萧红“生前何须久睡 死后自会长眠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4C2B-3504-43D9-8CFD-C1F36DB287C7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4A61-5CF3-40AB-B4E9-200590F537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" descr="xinsrc_280303101044185188266"/>
          <p:cNvPicPr/>
          <p:nvPr/>
        </p:nvPicPr>
        <p:blipFill>
          <a:blip r:embed="rId1"/>
          <a:stretch/>
        </p:blipFill>
        <p:spPr>
          <a:xfrm>
            <a:off x="1633680" y="1554120"/>
            <a:ext cx="6111720" cy="382896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3"/>
          <p:cNvSpPr/>
          <p:nvPr/>
        </p:nvSpPr>
        <p:spPr>
          <a:xfrm>
            <a:off x="1312920" y="620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玩陀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4" descr="花纹"/>
          <p:cNvPicPr/>
          <p:nvPr/>
        </p:nvPicPr>
        <p:blipFill>
          <a:blip r:embed="rId2"/>
          <a:stretch/>
        </p:blipFill>
        <p:spPr>
          <a:xfrm>
            <a:off x="0" y="4584600"/>
            <a:ext cx="14050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653D-E207-41FC-8BEF-B9209A851773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3E70-5329-4AA9-9BF0-C5AB6FAEA4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2"/>
          <p:cNvGrpSpPr/>
          <p:nvPr/>
        </p:nvGrpSpPr>
        <p:grpSpPr>
          <a:xfrm>
            <a:off x="6440400" y="1625760"/>
            <a:ext cx="2163600" cy="3415320"/>
            <a:chOff x="6440400" y="1625760"/>
            <a:chExt cx="2163600" cy="3415320"/>
          </a:xfrm>
        </p:grpSpPr>
        <p:sp>
          <p:nvSpPr>
            <p:cNvPr id="597" name="AutoShape 3"/>
            <p:cNvSpPr/>
            <p:nvPr/>
          </p:nvSpPr>
          <p:spPr>
            <a:xfrm>
              <a:off x="6440400" y="193320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4"/>
            <p:cNvSpPr/>
            <p:nvPr/>
          </p:nvSpPr>
          <p:spPr>
            <a:xfrm>
              <a:off x="6473880" y="194148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5"/>
            <p:cNvSpPr/>
            <p:nvPr/>
          </p:nvSpPr>
          <p:spPr>
            <a:xfrm>
              <a:off x="6491160" y="400500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6"/>
            <p:cNvSpPr/>
            <p:nvPr/>
          </p:nvSpPr>
          <p:spPr>
            <a:xfrm>
              <a:off x="6491160" y="196344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Group 7"/>
            <p:cNvGrpSpPr/>
            <p:nvPr/>
          </p:nvGrpSpPr>
          <p:grpSpPr>
            <a:xfrm>
              <a:off x="7184880" y="1625760"/>
              <a:ext cx="642960" cy="642600"/>
              <a:chOff x="7184880" y="1625760"/>
              <a:chExt cx="642960" cy="642600"/>
            </a:xfrm>
          </p:grpSpPr>
          <p:sp>
            <p:nvSpPr>
              <p:cNvPr id="602" name="Oval 8"/>
              <p:cNvSpPr/>
              <p:nvPr/>
            </p:nvSpPr>
            <p:spPr>
              <a:xfrm>
                <a:off x="7184880" y="162576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Oval 9"/>
              <p:cNvSpPr/>
              <p:nvPr/>
            </p:nvSpPr>
            <p:spPr>
              <a:xfrm>
                <a:off x="7191360" y="163044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10"/>
              <p:cNvSpPr/>
              <p:nvPr/>
            </p:nvSpPr>
            <p:spPr>
              <a:xfrm>
                <a:off x="7199280" y="1634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11"/>
              <p:cNvSpPr/>
              <p:nvPr/>
            </p:nvSpPr>
            <p:spPr>
              <a:xfrm>
                <a:off x="7205760" y="163980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Oval 12"/>
              <p:cNvSpPr/>
              <p:nvPr/>
            </p:nvSpPr>
            <p:spPr>
              <a:xfrm>
                <a:off x="7239600" y="165564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Text Box 13"/>
            <p:cNvSpPr/>
            <p:nvPr/>
          </p:nvSpPr>
          <p:spPr>
            <a:xfrm>
              <a:off x="7324920" y="1717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14"/>
            <p:cNvSpPr/>
            <p:nvPr/>
          </p:nvSpPr>
          <p:spPr>
            <a:xfrm>
              <a:off x="6516720" y="2387520"/>
              <a:ext cx="205740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9" name="Picture 15" descr="花纹"/>
          <p:cNvPicPr/>
          <p:nvPr/>
        </p:nvPicPr>
        <p:blipFill>
          <a:blip r:embed="rId1"/>
          <a:stretch/>
        </p:blipFill>
        <p:spPr>
          <a:xfrm>
            <a:off x="0" y="4641840"/>
            <a:ext cx="1405080" cy="1873440"/>
          </a:xfrm>
          <a:prstGeom prst="rect">
            <a:avLst/>
          </a:prstGeom>
          <a:ln w="0">
            <a:noFill/>
          </a:ln>
        </p:spPr>
      </p:pic>
      <p:sp>
        <p:nvSpPr>
          <p:cNvPr id="610" name="AutoShape 16"/>
          <p:cNvSpPr/>
          <p:nvPr/>
        </p:nvSpPr>
        <p:spPr>
          <a:xfrm>
            <a:off x="793800" y="1944720"/>
            <a:ext cx="4576680" cy="10796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ffff"/>
              </a:gs>
              <a:gs pos="50000">
                <a:srgbClr val="dff5db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研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接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谁 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7"/>
          <p:cNvSpPr/>
          <p:nvPr/>
        </p:nvSpPr>
        <p:spPr>
          <a:xfrm>
            <a:off x="765000" y="3544920"/>
            <a:ext cx="4605480" cy="1081080"/>
          </a:xfrm>
          <a:prstGeom prst="roundRect">
            <a:avLst>
              <a:gd name="adj" fmla="val 9106"/>
            </a:avLst>
          </a:prstGeom>
          <a:solidFill>
            <a:srgbClr val="dfef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研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接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A2DD-4EAA-4881-8839-A8328FCED96F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3B77-E94D-4A89-BADD-1255F1A94E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"/>
          <p:cNvSpPr/>
          <p:nvPr/>
        </p:nvSpPr>
        <p:spPr>
          <a:xfrm>
            <a:off x="1258920" y="765000"/>
            <a:ext cx="72216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：英语中，关于学习的词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3"/>
          <p:cNvSpPr/>
          <p:nvPr/>
        </p:nvSpPr>
        <p:spPr>
          <a:xfrm>
            <a:off x="368280" y="1797120"/>
            <a:ext cx="2766960" cy="2844720"/>
          </a:xfrm>
          <a:prstGeom prst="cloudCallout">
            <a:avLst>
              <a:gd name="adj1" fmla="val 40819"/>
              <a:gd name="adj2" fmla="val 89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4"/>
          <p:cNvSpPr/>
          <p:nvPr/>
        </p:nvSpPr>
        <p:spPr>
          <a:xfrm>
            <a:off x="6454800" y="2874960"/>
            <a:ext cx="2509920" cy="2714760"/>
          </a:xfrm>
          <a:prstGeom prst="cloudCallout">
            <a:avLst>
              <a:gd name="adj1" fmla="val -67138"/>
              <a:gd name="adj2" fmla="val -81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5" descr="花纹"/>
          <p:cNvPicPr/>
          <p:nvPr/>
        </p:nvPicPr>
        <p:blipFill>
          <a:blip r:embed="rId1"/>
          <a:stretch/>
        </p:blipFill>
        <p:spPr>
          <a:xfrm>
            <a:off x="0" y="4513320"/>
            <a:ext cx="1405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710D-3382-42C1-A1BD-BA6BA152FA2E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E192-B5AD-4E8D-A272-E3D1E6E174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2"/>
          <p:cNvSpPr/>
          <p:nvPr/>
        </p:nvSpPr>
        <p:spPr>
          <a:xfrm>
            <a:off x="2050920" y="8110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关于研究的词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3"/>
          <p:cNvSpPr/>
          <p:nvPr/>
        </p:nvSpPr>
        <p:spPr>
          <a:xfrm>
            <a:off x="765000" y="2610000"/>
            <a:ext cx="2916360" cy="2539800"/>
          </a:xfrm>
          <a:prstGeom prst="cloudCallout">
            <a:avLst>
              <a:gd name="adj1" fmla="val 59361"/>
              <a:gd name="adj2" fmla="val -776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4"/>
          <p:cNvSpPr/>
          <p:nvPr/>
        </p:nvSpPr>
        <p:spPr>
          <a:xfrm>
            <a:off x="5538960" y="1913040"/>
            <a:ext cx="2768400" cy="2801880"/>
          </a:xfrm>
          <a:prstGeom prst="cloudCallout">
            <a:avLst>
              <a:gd name="adj1" fmla="val -59402"/>
              <a:gd name="adj2" fmla="val 757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F3CA-2579-4415-81F6-B7797498F624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FF78-C4F2-4471-BB36-697B0DC2D6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2"/>
          <p:cNvSpPr/>
          <p:nvPr/>
        </p:nvSpPr>
        <p:spPr>
          <a:xfrm>
            <a:off x="1042920" y="476280"/>
            <a:ext cx="6913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有一年高考，其中语文有一道要求归纳短文中心思想的题目：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3" descr="u=1560125238,306252631&amp;gp=46"/>
          <p:cNvPicPr/>
          <p:nvPr/>
        </p:nvPicPr>
        <p:blipFill>
          <a:blip r:embed="rId1"/>
          <a:stretch/>
        </p:blipFill>
        <p:spPr>
          <a:xfrm>
            <a:off x="1682640" y="1900080"/>
            <a:ext cx="6012000" cy="33483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" descr="花纹"/>
          <p:cNvPicPr/>
          <p:nvPr/>
        </p:nvPicPr>
        <p:blipFill>
          <a:blip r:embed="rId2"/>
          <a:stretch/>
        </p:blipFill>
        <p:spPr>
          <a:xfrm>
            <a:off x="0" y="4556160"/>
            <a:ext cx="1405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8281-FBF2-4789-921A-6DEBB1D9E060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B1ED-CE4C-4436-8366-84B26EC65D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2"/>
          <p:cNvSpPr/>
          <p:nvPr/>
        </p:nvSpPr>
        <p:spPr>
          <a:xfrm>
            <a:off x="1979640" y="914400"/>
            <a:ext cx="5199120" cy="1292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老师舍身救人的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3"/>
          <p:cNvSpPr/>
          <p:nvPr/>
        </p:nvSpPr>
        <p:spPr>
          <a:xfrm>
            <a:off x="1692360" y="2349360"/>
            <a:ext cx="5759280" cy="2159280"/>
          </a:xfrm>
          <a:prstGeom prst="upArrow">
            <a:avLst>
              <a:gd name="adj1" fmla="val 57296"/>
              <a:gd name="adj2" fmla="val 62796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4"/>
          <p:cNvGrpSpPr/>
          <p:nvPr/>
        </p:nvGrpSpPr>
        <p:grpSpPr>
          <a:xfrm>
            <a:off x="4714920" y="4222800"/>
            <a:ext cx="1512720" cy="1511280"/>
            <a:chOff x="4714920" y="4222800"/>
            <a:chExt cx="1512720" cy="1511280"/>
          </a:xfrm>
        </p:grpSpPr>
        <p:sp>
          <p:nvSpPr>
            <p:cNvPr id="633" name="Oval 5"/>
            <p:cNvSpPr/>
            <p:nvPr/>
          </p:nvSpPr>
          <p:spPr>
            <a:xfrm>
              <a:off x="471492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6"/>
            <p:cNvSpPr/>
            <p:nvPr/>
          </p:nvSpPr>
          <p:spPr>
            <a:xfrm>
              <a:off x="471492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7"/>
            <p:cNvSpPr/>
            <p:nvPr/>
          </p:nvSpPr>
          <p:spPr>
            <a:xfrm>
              <a:off x="481392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8"/>
            <p:cNvSpPr/>
            <p:nvPr/>
          </p:nvSpPr>
          <p:spPr>
            <a:xfrm>
              <a:off x="481392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a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Oval 9"/>
            <p:cNvSpPr/>
            <p:nvPr/>
          </p:nvSpPr>
          <p:spPr>
            <a:xfrm>
              <a:off x="4879800" y="438732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10"/>
          <p:cNvGrpSpPr/>
          <p:nvPr/>
        </p:nvGrpSpPr>
        <p:grpSpPr>
          <a:xfrm>
            <a:off x="1116000" y="4222800"/>
            <a:ext cx="1513080" cy="1511280"/>
            <a:chOff x="1116000" y="4222800"/>
            <a:chExt cx="1513080" cy="1511280"/>
          </a:xfrm>
        </p:grpSpPr>
        <p:sp>
          <p:nvSpPr>
            <p:cNvPr id="639" name="Oval 11"/>
            <p:cNvSpPr/>
            <p:nvPr/>
          </p:nvSpPr>
          <p:spPr>
            <a:xfrm>
              <a:off x="1116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12"/>
            <p:cNvSpPr/>
            <p:nvPr/>
          </p:nvSpPr>
          <p:spPr>
            <a:xfrm>
              <a:off x="1116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13"/>
            <p:cNvSpPr/>
            <p:nvPr/>
          </p:nvSpPr>
          <p:spPr>
            <a:xfrm>
              <a:off x="1215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1c1c53"/>
                </a:gs>
                <a:gs pos="50000">
                  <a:srgbClr val="333399"/>
                </a:gs>
                <a:gs pos="100000">
                  <a:srgbClr val="1c1c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14"/>
            <p:cNvSpPr/>
            <p:nvPr/>
          </p:nvSpPr>
          <p:spPr>
            <a:xfrm>
              <a:off x="1215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919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15"/>
            <p:cNvSpPr/>
            <p:nvPr/>
          </p:nvSpPr>
          <p:spPr>
            <a:xfrm>
              <a:off x="1280880" y="438732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181847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16"/>
          <p:cNvGrpSpPr/>
          <p:nvPr/>
        </p:nvGrpSpPr>
        <p:grpSpPr>
          <a:xfrm>
            <a:off x="6588000" y="4222800"/>
            <a:ext cx="1513080" cy="1511280"/>
            <a:chOff x="6588000" y="4222800"/>
            <a:chExt cx="1513080" cy="1511280"/>
          </a:xfrm>
        </p:grpSpPr>
        <p:sp>
          <p:nvSpPr>
            <p:cNvPr id="645" name="Oval 17"/>
            <p:cNvSpPr/>
            <p:nvPr/>
          </p:nvSpPr>
          <p:spPr>
            <a:xfrm>
              <a:off x="6588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be0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18"/>
            <p:cNvSpPr/>
            <p:nvPr/>
          </p:nvSpPr>
          <p:spPr>
            <a:xfrm>
              <a:off x="6588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19"/>
            <p:cNvSpPr/>
            <p:nvPr/>
          </p:nvSpPr>
          <p:spPr>
            <a:xfrm>
              <a:off x="6687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65797b"/>
                </a:gs>
                <a:gs pos="50000">
                  <a:srgbClr val="bbe0e3"/>
                </a:gs>
                <a:gs pos="100000">
                  <a:srgbClr val="657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20"/>
            <p:cNvSpPr/>
            <p:nvPr/>
          </p:nvSpPr>
          <p:spPr>
            <a:xfrm>
              <a:off x="6687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b6d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21"/>
            <p:cNvSpPr/>
            <p:nvPr/>
          </p:nvSpPr>
          <p:spPr>
            <a:xfrm>
              <a:off x="6752880" y="438732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22"/>
          <p:cNvGrpSpPr/>
          <p:nvPr/>
        </p:nvGrpSpPr>
        <p:grpSpPr>
          <a:xfrm>
            <a:off x="2916360" y="4222800"/>
            <a:ext cx="1512720" cy="1511280"/>
            <a:chOff x="2916360" y="4222800"/>
            <a:chExt cx="1512720" cy="1511280"/>
          </a:xfrm>
        </p:grpSpPr>
        <p:sp>
          <p:nvSpPr>
            <p:cNvPr id="651" name="Oval 23"/>
            <p:cNvSpPr/>
            <p:nvPr/>
          </p:nvSpPr>
          <p:spPr>
            <a:xfrm>
              <a:off x="291636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ab82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24"/>
            <p:cNvSpPr/>
            <p:nvPr/>
          </p:nvSpPr>
          <p:spPr>
            <a:xfrm>
              <a:off x="291636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ab8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25"/>
            <p:cNvSpPr/>
            <p:nvPr/>
          </p:nvSpPr>
          <p:spPr>
            <a:xfrm>
              <a:off x="301536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426411"/>
                </a:gs>
                <a:gs pos="50000">
                  <a:srgbClr val="7ab820"/>
                </a:gs>
                <a:gs pos="100000">
                  <a:srgbClr val="4264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26"/>
            <p:cNvSpPr/>
            <p:nvPr/>
          </p:nvSpPr>
          <p:spPr>
            <a:xfrm>
              <a:off x="301536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7ab820"/>
                </a:gs>
                <a:gs pos="100000">
                  <a:srgbClr val="3b59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27"/>
            <p:cNvSpPr/>
            <p:nvPr/>
          </p:nvSpPr>
          <p:spPr>
            <a:xfrm>
              <a:off x="3081240" y="438732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8550f"/>
                </a:gs>
                <a:gs pos="100000">
                  <a:srgbClr val="7ab8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Text Box 28"/>
          <p:cNvSpPr/>
          <p:nvPr/>
        </p:nvSpPr>
        <p:spPr>
          <a:xfrm>
            <a:off x="1600200" y="472428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9"/>
          <p:cNvSpPr/>
          <p:nvPr/>
        </p:nvSpPr>
        <p:spPr>
          <a:xfrm>
            <a:off x="3435840" y="4648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0"/>
          <p:cNvSpPr/>
          <p:nvPr/>
        </p:nvSpPr>
        <p:spPr>
          <a:xfrm>
            <a:off x="5264640" y="4648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1"/>
          <p:cNvSpPr/>
          <p:nvPr/>
        </p:nvSpPr>
        <p:spPr>
          <a:xfrm>
            <a:off x="7093440" y="4648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F5F3-38DB-4E70-8583-52262963201F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6290-E7B1-4CE7-B76A-4A1442880E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3" descr="094313"/>
          <p:cNvPicPr/>
          <p:nvPr/>
        </p:nvPicPr>
        <p:blipFill>
          <a:blip r:embed="rId1"/>
          <a:stretch/>
        </p:blipFill>
        <p:spPr>
          <a:xfrm>
            <a:off x="295200" y="987480"/>
            <a:ext cx="3600360" cy="51242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3" descr="094504"/>
          <p:cNvPicPr/>
          <p:nvPr/>
        </p:nvPicPr>
        <p:blipFill>
          <a:blip r:embed="rId2"/>
          <a:stretch/>
        </p:blipFill>
        <p:spPr>
          <a:xfrm>
            <a:off x="4699080" y="696960"/>
            <a:ext cx="345600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E0F8-09A6-4402-87D0-B6BAC755385F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F646-A620-4E0F-8D16-4365A61014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2"/>
          <p:cNvGrpSpPr/>
          <p:nvPr/>
        </p:nvGrpSpPr>
        <p:grpSpPr>
          <a:xfrm>
            <a:off x="1011240" y="1676520"/>
            <a:ext cx="1398600" cy="1079280"/>
            <a:chOff x="1011240" y="1676520"/>
            <a:chExt cx="1398600" cy="1079280"/>
          </a:xfrm>
        </p:grpSpPr>
        <p:grpSp>
          <p:nvGrpSpPr>
            <p:cNvPr id="667" name="Group 3"/>
            <p:cNvGrpSpPr/>
            <p:nvPr/>
          </p:nvGrpSpPr>
          <p:grpSpPr>
            <a:xfrm>
              <a:off x="1011240" y="1676520"/>
              <a:ext cx="1398600" cy="1079280"/>
              <a:chOff x="1011240" y="1676520"/>
              <a:chExt cx="1398600" cy="1079280"/>
            </a:xfrm>
          </p:grpSpPr>
          <p:pic>
            <p:nvPicPr>
              <p:cNvPr id="668" name="Picture 4" descr="花纹小"/>
              <p:cNvPicPr/>
              <p:nvPr/>
            </p:nvPicPr>
            <p:blipFill>
              <a:blip r:embed="rId1">
                <a:lum bright="70000" contrast="-70000"/>
              </a:blip>
              <a:stretch/>
            </p:blipFill>
            <p:spPr>
              <a:xfrm>
                <a:off x="1438560" y="1844640"/>
                <a:ext cx="643320" cy="70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9" name="AutoShape 5"/>
              <p:cNvGrpSpPr/>
              <p:nvPr/>
            </p:nvGrpSpPr>
            <p:grpSpPr>
              <a:xfrm>
                <a:off x="1011240" y="1676520"/>
                <a:ext cx="1398600" cy="1079280"/>
                <a:chOff x="1011240" y="1676520"/>
                <a:chExt cx="1398600" cy="1079280"/>
              </a:xfrm>
            </p:grpSpPr>
            <p:pic>
              <p:nvPicPr>
                <p:cNvPr id="670" name="AutoShape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011240" y="1676520"/>
                  <a:ext cx="1398600" cy="107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1" name=""/>
                <p:cNvSpPr/>
                <p:nvPr/>
              </p:nvSpPr>
              <p:spPr>
                <a:xfrm>
                  <a:off x="1220040" y="1838880"/>
                  <a:ext cx="9824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2" name="Rectangle 6"/>
            <p:cNvSpPr/>
            <p:nvPr/>
          </p:nvSpPr>
          <p:spPr>
            <a:xfrm>
              <a:off x="1312920" y="1977840"/>
              <a:ext cx="86364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AutoShape 7"/>
          <p:cNvSpPr/>
          <p:nvPr/>
        </p:nvSpPr>
        <p:spPr>
          <a:xfrm>
            <a:off x="3108240" y="1643040"/>
            <a:ext cx="5207040" cy="1165320"/>
          </a:xfrm>
          <a:prstGeom prst="roundRect">
            <a:avLst>
              <a:gd name="adj" fmla="val 13292"/>
            </a:avLst>
          </a:prstGeom>
          <a:solidFill>
            <a:srgbClr val="ffffff"/>
          </a:solidFill>
          <a:ln w="57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8"/>
          <p:cNvSpPr/>
          <p:nvPr/>
        </p:nvSpPr>
        <p:spPr>
          <a:xfrm>
            <a:off x="3279600" y="1805040"/>
            <a:ext cx="49215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教师主要功能的转变：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传知已不重要，启智方为良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9"/>
          <p:cNvGrpSpPr/>
          <p:nvPr/>
        </p:nvGrpSpPr>
        <p:grpSpPr>
          <a:xfrm>
            <a:off x="966960" y="4432320"/>
            <a:ext cx="1398240" cy="1079640"/>
            <a:chOff x="966960" y="4432320"/>
            <a:chExt cx="1398240" cy="1079640"/>
          </a:xfrm>
        </p:grpSpPr>
        <p:grpSp>
          <p:nvGrpSpPr>
            <p:cNvPr id="676" name="Group 10"/>
            <p:cNvGrpSpPr/>
            <p:nvPr/>
          </p:nvGrpSpPr>
          <p:grpSpPr>
            <a:xfrm>
              <a:off x="966960" y="4432320"/>
              <a:ext cx="1398240" cy="1079640"/>
              <a:chOff x="966960" y="4432320"/>
              <a:chExt cx="1398240" cy="1079640"/>
            </a:xfrm>
          </p:grpSpPr>
          <p:pic>
            <p:nvPicPr>
              <p:cNvPr id="677" name="Picture 11" descr="花纹小"/>
              <p:cNvPicPr/>
              <p:nvPr/>
            </p:nvPicPr>
            <p:blipFill>
              <a:blip r:embed="rId3">
                <a:lum bright="70000" contrast="-70000"/>
              </a:blip>
              <a:stretch/>
            </p:blipFill>
            <p:spPr>
              <a:xfrm>
                <a:off x="1392480" y="4600440"/>
                <a:ext cx="642960" cy="707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8" name="AutoShape 12"/>
              <p:cNvGrpSpPr/>
              <p:nvPr/>
            </p:nvGrpSpPr>
            <p:grpSpPr>
              <a:xfrm>
                <a:off x="966960" y="4432320"/>
                <a:ext cx="1398240" cy="1079640"/>
                <a:chOff x="966960" y="4432320"/>
                <a:chExt cx="1398240" cy="1079640"/>
              </a:xfrm>
            </p:grpSpPr>
            <p:pic>
              <p:nvPicPr>
                <p:cNvPr id="679" name="AutoShape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66960" y="4432320"/>
                  <a:ext cx="1398240" cy="107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0" name=""/>
                <p:cNvSpPr/>
                <p:nvPr/>
              </p:nvSpPr>
              <p:spPr>
                <a:xfrm>
                  <a:off x="1173960" y="4595040"/>
                  <a:ext cx="98208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1" name="Rectangle 13"/>
            <p:cNvSpPr/>
            <p:nvPr/>
          </p:nvSpPr>
          <p:spPr>
            <a:xfrm>
              <a:off x="1268280" y="4733640"/>
              <a:ext cx="8632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AutoShape 14"/>
          <p:cNvSpPr/>
          <p:nvPr/>
        </p:nvSpPr>
        <p:spPr>
          <a:xfrm>
            <a:off x="3121200" y="4484520"/>
            <a:ext cx="5206680" cy="1165320"/>
          </a:xfrm>
          <a:prstGeom prst="roundRect">
            <a:avLst>
              <a:gd name="adj" fmla="val 13292"/>
            </a:avLst>
          </a:prstGeom>
          <a:solidFill>
            <a:srgbClr val="ffffff"/>
          </a:solidFill>
          <a:ln w="57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15"/>
          <p:cNvSpPr/>
          <p:nvPr/>
        </p:nvSpPr>
        <p:spPr>
          <a:xfrm>
            <a:off x="3235320" y="4632480"/>
            <a:ext cx="48927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今后的教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启发学生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可能是什么样的，应该怎么想，可以从什么地方获得知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16"/>
          <p:cNvGrpSpPr/>
          <p:nvPr/>
        </p:nvGrpSpPr>
        <p:grpSpPr>
          <a:xfrm>
            <a:off x="968400" y="3009960"/>
            <a:ext cx="1398600" cy="1079280"/>
            <a:chOff x="968400" y="3009960"/>
            <a:chExt cx="1398600" cy="1079280"/>
          </a:xfrm>
        </p:grpSpPr>
        <p:grpSp>
          <p:nvGrpSpPr>
            <p:cNvPr id="685" name="Group 17"/>
            <p:cNvGrpSpPr/>
            <p:nvPr/>
          </p:nvGrpSpPr>
          <p:grpSpPr>
            <a:xfrm>
              <a:off x="968400" y="3009960"/>
              <a:ext cx="1398600" cy="1079280"/>
              <a:chOff x="968400" y="3009960"/>
              <a:chExt cx="1398600" cy="1079280"/>
            </a:xfrm>
          </p:grpSpPr>
          <p:pic>
            <p:nvPicPr>
              <p:cNvPr id="686" name="Picture 18" descr="花纹小"/>
              <p:cNvPicPr/>
              <p:nvPr/>
            </p:nvPicPr>
            <p:blipFill>
              <a:blip r:embed="rId5">
                <a:lum bright="70000" contrast="-70000"/>
              </a:blip>
              <a:stretch/>
            </p:blipFill>
            <p:spPr>
              <a:xfrm>
                <a:off x="1395720" y="3177000"/>
                <a:ext cx="643320" cy="70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7" name="AutoShape 19"/>
              <p:cNvGrpSpPr/>
              <p:nvPr/>
            </p:nvGrpSpPr>
            <p:grpSpPr>
              <a:xfrm>
                <a:off x="968400" y="3009960"/>
                <a:ext cx="1398600" cy="1079280"/>
                <a:chOff x="968400" y="3009960"/>
                <a:chExt cx="1398600" cy="1079280"/>
              </a:xfrm>
            </p:grpSpPr>
            <p:pic>
              <p:nvPicPr>
                <p:cNvPr id="688" name="AutoShape 1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68400" y="3009960"/>
                  <a:ext cx="1398600" cy="107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9" name=""/>
                <p:cNvSpPr/>
                <p:nvPr/>
              </p:nvSpPr>
              <p:spPr>
                <a:xfrm>
                  <a:off x="1176840" y="3170880"/>
                  <a:ext cx="9824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0" name="Rectangle 20"/>
            <p:cNvSpPr/>
            <p:nvPr/>
          </p:nvSpPr>
          <p:spPr>
            <a:xfrm>
              <a:off x="1270080" y="3311280"/>
              <a:ext cx="86364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AutoShape 21"/>
          <p:cNvSpPr/>
          <p:nvPr/>
        </p:nvSpPr>
        <p:spPr>
          <a:xfrm>
            <a:off x="3065400" y="3133800"/>
            <a:ext cx="5207040" cy="1165320"/>
          </a:xfrm>
          <a:prstGeom prst="roundRect">
            <a:avLst>
              <a:gd name="adj" fmla="val 13292"/>
            </a:avLst>
          </a:prstGeom>
          <a:solidFill>
            <a:srgbClr val="ffffff"/>
          </a:solidFill>
          <a:ln w="57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22"/>
          <p:cNvSpPr/>
          <p:nvPr/>
        </p:nvSpPr>
        <p:spPr>
          <a:xfrm>
            <a:off x="3236760" y="3267000"/>
            <a:ext cx="4905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昨天的教师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告诉学生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是什么样的，应该怎么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3"/>
          <p:cNvSpPr/>
          <p:nvPr/>
        </p:nvSpPr>
        <p:spPr>
          <a:xfrm>
            <a:off x="2608200" y="2236680"/>
            <a:ext cx="684360" cy="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24"/>
          <p:cNvSpPr/>
          <p:nvPr/>
        </p:nvSpPr>
        <p:spPr>
          <a:xfrm>
            <a:off x="2624040" y="3600360"/>
            <a:ext cx="684360" cy="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25"/>
          <p:cNvSpPr/>
          <p:nvPr/>
        </p:nvSpPr>
        <p:spPr>
          <a:xfrm>
            <a:off x="2638440" y="5094360"/>
            <a:ext cx="684360" cy="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26"/>
          <p:cNvSpPr/>
          <p:nvPr/>
        </p:nvSpPr>
        <p:spPr>
          <a:xfrm>
            <a:off x="1409760" y="646200"/>
            <a:ext cx="7172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总结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网络时代我们怎么做教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1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EEFF-037D-46AF-8CDB-413992E408EA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A10E-326C-48C0-9ACC-20B286868A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5"/>
          <p:cNvSpPr/>
          <p:nvPr/>
        </p:nvSpPr>
        <p:spPr>
          <a:xfrm>
            <a:off x="4708800" y="148896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Garamond"/>
                <a:ea typeface="华文行楷"/>
              </a:rPr>
              <a:t>谢谢倾听和赏识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0298-66EA-4D70-B03D-7EC24A719ADE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C1E5-9ACB-441E-8EF5-CC5439C9DC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2546640" y="631440"/>
            <a:ext cx="3926520" cy="442440"/>
          </a:xfrm>
          <a:prstGeom prst="rect">
            <a:avLst/>
          </a:prstGeom>
          <a:solidFill>
            <a:srgbClr val="fffc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（一）标语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只要学不死  就往死里学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13261221w4z-2h30"/>
          <p:cNvPicPr/>
          <p:nvPr/>
        </p:nvPicPr>
        <p:blipFill>
          <a:blip r:embed="rId1"/>
          <a:stretch/>
        </p:blipFill>
        <p:spPr>
          <a:xfrm>
            <a:off x="927000" y="1492200"/>
            <a:ext cx="73724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DC83-75B6-4AFC-B0A5-17E2DD3650CE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88BB-4E12-4923-85D5-41AC04011C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a3726049"/>
          <p:cNvPicPr/>
          <p:nvPr/>
        </p:nvPicPr>
        <p:blipFill>
          <a:blip r:embed="rId1"/>
          <a:stretch/>
        </p:blipFill>
        <p:spPr>
          <a:xfrm>
            <a:off x="884160" y="1539720"/>
            <a:ext cx="7499520" cy="412776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5"/>
          <p:cNvSpPr/>
          <p:nvPr/>
        </p:nvSpPr>
        <p:spPr>
          <a:xfrm>
            <a:off x="2345400" y="631440"/>
            <a:ext cx="2914560" cy="442440"/>
          </a:xfrm>
          <a:prstGeom prst="rect">
            <a:avLst/>
          </a:prstGeom>
          <a:solidFill>
            <a:srgbClr val="fffc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6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（一）标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零抬头  无声音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F525-88FA-44D5-B105-08CE78674D0E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2E30-7BE4-490B-ACE2-810C5B1CF2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201232110233140"/>
          <p:cNvPicPr/>
          <p:nvPr/>
        </p:nvPicPr>
        <p:blipFill>
          <a:blip r:embed="rId1"/>
          <a:stretch/>
        </p:blipFill>
        <p:spPr>
          <a:xfrm>
            <a:off x="923760" y="1504800"/>
            <a:ext cx="7561440" cy="423864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2457360" y="601560"/>
            <a:ext cx="3727080" cy="503280"/>
          </a:xfrm>
          <a:prstGeom prst="rect">
            <a:avLst/>
          </a:prstGeom>
          <a:solidFill>
            <a:srgbClr val="fffc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（一）标语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要成功  先发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274F-69A5-4123-895B-4F995F989540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0230-3C1D-41A3-8906-44E6EAD214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403280" y="465480"/>
            <a:ext cx="70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（一）标语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5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平顶山某高中高三学生上传的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班级励志标语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不学习就得穿地摊货 高三生另类标语引关注"/>
          <p:cNvPicPr/>
          <p:nvPr/>
        </p:nvPicPr>
        <p:blipFill>
          <a:blip r:embed="rId1"/>
          <a:stretch/>
        </p:blipFill>
        <p:spPr>
          <a:xfrm>
            <a:off x="763560" y="1487520"/>
            <a:ext cx="7813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</cp:lastModifiedBy>
  <dcterms:modified xsi:type="dcterms:W3CDTF">2014-07-09T10:11:15Z</dcterms:modified>
  <cp:revision>5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63</vt:lpwstr>
  </property>
  <property fmtid="{D5CDD505-2E9C-101B-9397-08002B2CF9AE}" pid="3" name="Version">
    <vt:r8>1</vt:r8>
  </property>
</Properties>
</file>