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7F1-1440-4B59-B2A7-336D356BC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80059-9F35-46E0-BF01-A7001000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A62F-D889-4594-8148-7CE95161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9B55-B3DB-4820-8B3E-0B64756B2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7307C-1CB9-4CB1-B08E-1EA1D003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D30A-FBBA-47DB-9A62-C80CAA00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103F-3628-43ED-A494-A5078D51F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6993-0B1A-40A5-9FFC-7577131B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F4B-174E-47D4-A3CC-CCB63A0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6D2E-4A9D-4BCA-86B8-88FD338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14FBC-9B17-4F2E-AFF4-58C58C8C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8A72-B1E0-4A4E-AB6D-3F19949B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图片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2" descr="图片1副本副本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42612-DD6B-4648-B590-786229000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悟知行-logo全"/>
          <p:cNvPicPr/>
          <p:nvPr/>
        </p:nvPicPr>
        <p:blipFill>
          <a:blip r:embed="rId1"/>
          <a:stretch/>
        </p:blipFill>
        <p:spPr>
          <a:xfrm>
            <a:off x="324000" y="235080"/>
            <a:ext cx="1245960" cy="1393560"/>
          </a:xfrm>
          <a:prstGeom prst="rect">
            <a:avLst/>
          </a:prstGeom>
          <a:ln w="0">
            <a:noFill/>
          </a:ln>
        </p:spPr>
      </p:pic>
      <p:pic>
        <p:nvPicPr>
          <p:cNvPr id="82" name="WordArt 19" descr=""/>
          <p:cNvPicPr/>
          <p:nvPr/>
        </p:nvPicPr>
        <p:blipFill>
          <a:blip r:embed="rId2"/>
          <a:stretch/>
        </p:blipFill>
        <p:spPr>
          <a:xfrm>
            <a:off x="1828800" y="895320"/>
            <a:ext cx="6138720" cy="506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3"/>
          <a:stretch/>
        </p:blipFill>
        <p:spPr>
          <a:xfrm>
            <a:off x="5796000" y="5805360"/>
            <a:ext cx="3114720" cy="827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611280" y="2276640"/>
            <a:ext cx="777564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《中学生学习管理与智慧》——做优秀教师 度幸福人生系列专题讲座</a:t>
            </a:r>
            <a:endParaRPr b="1" lang="en-US" sz="10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   </a:t>
            </a:r>
            <a:r>
              <a:rPr b="1" lang="zh-CN" sz="1000" spc="-1" strike="noStrike">
                <a:ln w="9360">
                  <a:solidFill>
                    <a:srgbClr val="ff9900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</a:rPr>
              <a:t>主 讲： 董 生 亮</a:t>
            </a:r>
            <a:endParaRPr b="1" lang="en-US" sz="1000" spc="-1" strike="noStrike">
              <a:ln w="9360">
                <a:solidFill>
                  <a:srgbClr val="ff9900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5" descr="U_3052~1"/>
          <p:cNvPicPr/>
          <p:nvPr/>
        </p:nvPicPr>
        <p:blipFill>
          <a:blip r:embed="rId1"/>
          <a:stretch/>
        </p:blipFill>
        <p:spPr>
          <a:xfrm>
            <a:off x="684360" y="3789360"/>
            <a:ext cx="1333440" cy="10857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f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f0000"/>
                </a:solidFill>
                <a:latin typeface="微软雅黑"/>
                <a:ea typeface="微软雅黑"/>
              </a:rPr>
              <a:t>联系电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5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30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01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af0000"/>
                </a:solidFill>
                <a:latin typeface="Arial"/>
                <a:ea typeface="微软雅黑"/>
              </a:rPr>
              <a:t>其它联系方式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3758097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1692360" y="4292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f0000"/>
                </a:solidFill>
                <a:latin typeface="Arial"/>
                <a:ea typeface="微软简粗黑"/>
              </a:rPr>
              <a:t>交流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悟知行-logo全"/>
          <p:cNvPicPr/>
          <p:nvPr/>
        </p:nvPicPr>
        <p:blipFill>
          <a:blip r:embed="rId2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23" name="WordArt 5" descr=""/>
          <p:cNvPicPr/>
          <p:nvPr/>
        </p:nvPicPr>
        <p:blipFill>
          <a:blip r:embed="rId3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}7G(F_0S3EDDD7FG]T~DV7"/>
          <p:cNvPicPr/>
          <p:nvPr/>
        </p:nvPicPr>
        <p:blipFill>
          <a:blip r:embed="rId4"/>
          <a:stretch/>
        </p:blipFill>
        <p:spPr>
          <a:xfrm>
            <a:off x="4932360" y="1773360"/>
            <a:ext cx="3672000" cy="36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U_2435~1"/>
          <p:cNvPicPr/>
          <p:nvPr/>
        </p:nvPicPr>
        <p:blipFill>
          <a:blip r:embed="rId5"/>
          <a:stretch/>
        </p:blipFill>
        <p:spPr>
          <a:xfrm>
            <a:off x="971640" y="206064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86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3"/>
          <a:stretch/>
        </p:blipFill>
        <p:spPr>
          <a:xfrm>
            <a:off x="34920" y="1413000"/>
            <a:ext cx="3127320" cy="47498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4284720" y="1486080"/>
            <a:ext cx="3456000" cy="3682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643280" y="1484280"/>
            <a:ext cx="27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讲    师    简    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"/>
          <p:cNvSpPr/>
          <p:nvPr/>
        </p:nvSpPr>
        <p:spPr>
          <a:xfrm>
            <a:off x="3205080" y="2133720"/>
            <a:ext cx="59040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悟知行教育集团首席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华东师范大学心理学硕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北京博瑞智教育专家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教育部国家教师培训计划专家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公务员培训专家讲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楷体"/>
                <a:ea typeface="楷体"/>
              </a:rPr>
              <a:t>EAP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企业调研咨询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af0000"/>
                </a:solidFill>
                <a:latin typeface="楷体"/>
                <a:ea typeface="楷体"/>
              </a:rPr>
              <a:t>☞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婚姻家庭咨询师、心理咨询师认证培训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楷体"/>
                <a:ea typeface="楷体"/>
              </a:rPr>
              <a:t>董 放 </a:t>
            </a:r>
            <a:r>
              <a:rPr b="0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老师有十多年的企事业单位和教育系统干部培训经验。陆续开发了</a:t>
            </a:r>
            <a:r>
              <a:rPr b="1" lang="zh-CN" sz="1600" spc="-1" strike="noStrike">
                <a:solidFill>
                  <a:srgbClr val="c00000"/>
                </a:solidFill>
                <a:latin typeface="楷体"/>
                <a:ea typeface="楷体"/>
              </a:rPr>
              <a:t>《卓越教师研习营》、《智慧父母工作坊》、《青少年乐学智慧工作坊》、《学科优化训练系统》</a:t>
            </a: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等系列经典课程和训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af0000"/>
                </a:solidFill>
                <a:latin typeface="楷体"/>
                <a:ea typeface="楷体"/>
              </a:rPr>
              <a:t>真实    真诚    向善    完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120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《中学生学习管理与智慧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95280" y="234900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一部分：学习现象背后的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座位与心理测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鼓掌的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倾听的层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改变的力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94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2400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二部分：人为什么要学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家长教师的困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学习是快乐的还是痛苦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人的基本知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无知是痛苦之源，学习是幸福之门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97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2400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三部分：乐学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方法、智慧和感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理智、情感与习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学习目的与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脑力劳动、求知欲与快乐原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24000" y="1988640"/>
            <a:ext cx="8229600" cy="37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第四部分：学习的智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学习的五步阶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学习效率阶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真知的探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、学习的高级智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经典课程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79280" y="2060640"/>
            <a:ext cx="8823600" cy="28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微软雅黑"/>
                <a:ea typeface="微软雅黑"/>
              </a:rPr>
              <a:t>☞</a:t>
            </a:r>
            <a:r>
              <a:rPr b="1" lang="zh-CN" sz="2400" spc="-1" strike="noStrike">
                <a:solidFill>
                  <a:srgbClr val="af0000"/>
                </a:solidFill>
                <a:latin typeface="华文楷体"/>
                <a:ea typeface="华文楷体"/>
              </a:rPr>
              <a:t>   </a:t>
            </a:r>
            <a:r>
              <a:rPr b="1" lang="zh-CN" sz="2000" spc="-1" strike="noStrike">
                <a:solidFill>
                  <a:srgbClr val="af0000"/>
                </a:solidFill>
                <a:latin typeface="楷体"/>
                <a:ea typeface="楷体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Part one——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卓越教师研习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全名为《做优秀教师 度幸福人生》卓越教师研习营。爱是教育职业的全部意义，爱是什么？如何爱？如何理解生命的深度需要？如何看清孩子行为背后的心理规律？如何轻松、快乐、幸福的做教师？生命的成长到底是一个什么样过程？什么因素让孩子的生命变的有动力。学习的真相是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更多精彩尽在幸福教师训练营……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6516720" y="4005360"/>
            <a:ext cx="2376360" cy="23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经典课程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50560" y="2276280"/>
            <a:ext cx="88232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楷体"/>
                <a:ea typeface="楷体"/>
              </a:rPr>
              <a:t>☞</a:t>
            </a:r>
            <a:r>
              <a:rPr b="1" lang="zh-CN" sz="1800" spc="-1" strike="noStrike">
                <a:solidFill>
                  <a:srgbClr val="af0000"/>
                </a:solidFill>
                <a:latin typeface="楷体"/>
                <a:ea typeface="楷体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Part two——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智慧父母工作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一个孩子命好不好取决于能不能碰到懂教育的父母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父母教育孩子的重点到底在哪里？我们的行为和目的是否一致？如何构建孩子精神的有氧空间？什么是真爱？爱的辩证哲学？如何爱？如何让孩子学会感恩？我们要塑造孩子什么样的精神品质？如何走出教育的误区？天才是教育出来的，优秀的孩子背后一定有优秀的教育方法？父母的观念才是孩子真正的起跑线？我们宁愿花那么多时间和金钱给孩子选学校，选老师等为了争夺教育资源，我们为什么不把自己变成最佳的教育资源，除了我们有谁能真正成为放飞孩子的导师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楷体"/>
                <a:ea typeface="楷体"/>
              </a:rPr>
              <a:t>还在等什么，快来我们一起学习吧！！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12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300720" y="4365720"/>
            <a:ext cx="273528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微软雅黑"/>
                <a:ea typeface="微软雅黑"/>
              </a:rPr>
              <a:t>经典课程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78920" y="2133720"/>
            <a:ext cx="8821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楷体"/>
                <a:ea typeface="楷体"/>
              </a:rPr>
              <a:t>☞</a:t>
            </a:r>
            <a:r>
              <a:rPr b="1" lang="en-US" sz="2000" spc="-1" strike="noStrike">
                <a:solidFill>
                  <a:srgbClr val="af0000"/>
                </a:solidFill>
                <a:latin typeface="楷体"/>
                <a:ea typeface="楷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Part three——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乐学智慧训练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优秀的民族一定是爱学习、乐学习和会学习的民族。学习本身就应该是一件快乐的事情！如何建立快乐学习感受的神经连接？如何呈现学科知识的背后奇妙的世界？如何激发孩子成长和学习的动力？如何破除孩子心中错误的学习观念？如何满足孩子的好奇心和精神需求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学习本来就很简单，模仿、尝试、思考而已！学习思维的高级形式，让孩子在闯关中体验学会思考的自由与畅快！！！快给孩子报名吧，多名学习专家在期待和孩子共享精神的盛宴！！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悟知行-logo全"/>
          <p:cNvPicPr/>
          <p:nvPr/>
        </p:nvPicPr>
        <p:blipFill>
          <a:blip r:embed="rId1"/>
          <a:stretch/>
        </p:blipFill>
        <p:spPr>
          <a:xfrm>
            <a:off x="179280" y="189000"/>
            <a:ext cx="1182960" cy="1322280"/>
          </a:xfrm>
          <a:prstGeom prst="rect">
            <a:avLst/>
          </a:prstGeom>
          <a:ln w="0">
            <a:noFill/>
          </a:ln>
        </p:spPr>
      </p:pic>
      <p:pic>
        <p:nvPicPr>
          <p:cNvPr id="117" name="WordArt 5" descr=""/>
          <p:cNvPicPr/>
          <p:nvPr/>
        </p:nvPicPr>
        <p:blipFill>
          <a:blip r:embed="rId2"/>
          <a:stretch/>
        </p:blipFill>
        <p:spPr>
          <a:xfrm>
            <a:off x="1609560" y="542880"/>
            <a:ext cx="5997600" cy="620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724360" y="4151160"/>
            <a:ext cx="3311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08:19:41Z</dcterms:created>
  <dc:creator/>
  <dc:description/>
  <dc:language>en-US</dc:language>
  <cp:lastModifiedBy/>
  <dcterms:modified xsi:type="dcterms:W3CDTF">2014-07-02T09:15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5</vt:lpwstr>
  </property>
</Properties>
</file>