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F59D-793F-42DF-A657-D6860D8B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2C85-1F04-48C1-AA44-AA809AA6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B60-B6B5-4CAC-8768-A76DE035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C0BA-EC7E-474F-B578-86D501C9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706-0986-4901-80CC-CCD50EED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447-A3B8-48F8-83FF-B44D2C0D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727B-3859-4DD8-A19B-7AC0E30F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7A8-0A9D-480E-AB11-FBC331FA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514-37FC-4B13-BABC-0BC0D2BF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C12-81F6-40FA-AFAA-6B561999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EEF7-81D5-41ED-A1D1-5662EB6B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24F-5C60-443D-8E61-B24F9533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565C-3526-479C-B793-0083A504E0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1484280"/>
            <a:ext cx="7129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隶书"/>
              </a:rPr>
              <a:t>我的成长</a:t>
            </a:r>
            <a:r>
              <a:rPr b="1" lang="en-US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隶书"/>
              </a:rPr>
              <a:t>·</a:t>
            </a:r>
            <a:r>
              <a:rPr b="1" lang="zh-CN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隶书"/>
              </a:rPr>
              <a:t>专业</a:t>
            </a:r>
            <a:r>
              <a:rPr b="1" lang="en-US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隶书"/>
              </a:rPr>
              <a:t>·</a:t>
            </a:r>
            <a:r>
              <a:rPr b="1" lang="zh-CN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隶书"/>
              </a:rPr>
              <a:t>在路上</a:t>
            </a:r>
            <a:endParaRPr b="1" lang="en-US" sz="1800" spc="1" strike="noStrike">
              <a:ln w="19080">
                <a:solidFill>
                  <a:srgbClr val="660033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5300640"/>
            <a:ext cx="5688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河南师范大学附属中学　周枫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187280" y="1484280"/>
            <a:ext cx="7129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隶书"/>
              </a:rPr>
              <a:t>第三部分：在路上</a:t>
            </a:r>
            <a:endParaRPr b="1" lang="en-US" sz="1800" spc="1" strike="noStrike">
              <a:ln w="19080">
                <a:solidFill>
                  <a:srgbClr val="660033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71000" cy="6858000"/>
            <a:chOff x="0" y="0"/>
            <a:chExt cx="9171000" cy="6858000"/>
          </a:xfrm>
        </p:grpSpPr>
        <p:grpSp>
          <p:nvGrpSpPr>
            <p:cNvPr id="105" name=""/>
            <p:cNvGrpSpPr/>
            <p:nvPr/>
          </p:nvGrpSpPr>
          <p:grpSpPr>
            <a:xfrm>
              <a:off x="0" y="0"/>
              <a:ext cx="9171000" cy="6858000"/>
              <a:chOff x="0" y="0"/>
              <a:chExt cx="9171000" cy="6858000"/>
            </a:xfrm>
          </p:grpSpPr>
          <p:pic>
            <p:nvPicPr>
              <p:cNvPr id="1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600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28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7564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1" name="" descr=""/>
            <p:cNvPicPr/>
            <p:nvPr/>
          </p:nvPicPr>
          <p:blipFill>
            <a:blip r:embed="rId6"/>
            <a:stretch/>
          </p:blipFill>
          <p:spPr>
            <a:xfrm>
              <a:off x="4356000" y="0"/>
              <a:ext cx="478800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"/>
          <p:cNvSpPr/>
          <p:nvPr/>
        </p:nvSpPr>
        <p:spPr>
          <a:xfrm>
            <a:off x="755640" y="148428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0000"/>
                </a:solidFill>
                <a:uFillTx/>
                <a:latin typeface="黑体"/>
                <a:ea typeface="黑体"/>
              </a:rPr>
              <a:t>结语：享受幸福人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今天，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 让我们一起努力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          一起分享</a:t>
            </a:r>
            <a:br>
              <a:rPr sz="4800"/>
            </a:b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 一起改变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0" y="0"/>
            <a:ext cx="9171000" cy="6858000"/>
            <a:chOff x="0" y="0"/>
            <a:chExt cx="9171000" cy="6858000"/>
          </a:xfrm>
        </p:grpSpPr>
        <p:grpSp>
          <p:nvGrpSpPr>
            <p:cNvPr id="115" name=""/>
            <p:cNvGrpSpPr/>
            <p:nvPr/>
          </p:nvGrpSpPr>
          <p:grpSpPr>
            <a:xfrm>
              <a:off x="0" y="0"/>
              <a:ext cx="9171000" cy="6858000"/>
              <a:chOff x="0" y="0"/>
              <a:chExt cx="9171000" cy="6858000"/>
            </a:xfrm>
          </p:grpSpPr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600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28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7564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" descr=""/>
            <p:cNvPicPr/>
            <p:nvPr/>
          </p:nvPicPr>
          <p:blipFill>
            <a:blip r:embed="rId6"/>
            <a:stretch/>
          </p:blipFill>
          <p:spPr>
            <a:xfrm>
              <a:off x="4356000" y="0"/>
              <a:ext cx="4788000" cy="49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84360" y="1197000"/>
            <a:ext cx="3476520" cy="252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32360" y="3357720"/>
            <a:ext cx="338472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87280" y="1484280"/>
            <a:ext cx="7129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隶书"/>
              </a:rPr>
              <a:t>第一部分：我的成长</a:t>
            </a:r>
            <a:endParaRPr b="1" lang="en-US" sz="1800" spc="1" strike="noStrike">
              <a:ln w="19080">
                <a:solidFill>
                  <a:srgbClr val="660033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7280" y="549360"/>
            <a:ext cx="4680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某日我进入一个陌生的小区找同学，被保安拦住，问了我三个哲学上的终极问题：“你是谁？”“你从哪里来？”“你要到哪里去？”于是我顿时陷入了沉思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…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3995640" cy="630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88000" cy="495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708360" y="6362640"/>
            <a:ext cx="5435640" cy="49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356000" y="0"/>
            <a:ext cx="47880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0920" y="1628280"/>
            <a:ext cx="56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个教师什么时候进步最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71000" cy="6858000"/>
            <a:chOff x="0" y="0"/>
            <a:chExt cx="9171000" cy="6858000"/>
          </a:xfrm>
        </p:grpSpPr>
        <p:grpSp>
          <p:nvGrpSpPr>
            <p:cNvPr id="53" name=""/>
            <p:cNvGrpSpPr/>
            <p:nvPr/>
          </p:nvGrpSpPr>
          <p:grpSpPr>
            <a:xfrm>
              <a:off x="0" y="0"/>
              <a:ext cx="9171000" cy="6858000"/>
              <a:chOff x="0" y="0"/>
              <a:chExt cx="9171000" cy="6858000"/>
            </a:xfrm>
          </p:grpSpPr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600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28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7564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4356000" y="0"/>
              <a:ext cx="478800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561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一个教师什么时候主动反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1628640"/>
            <a:ext cx="295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主动反思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2924280"/>
            <a:ext cx="295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外部刺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68360" y="765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．调整心态，创造奇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．发展自己，把握机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．珍惜优势，形成特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81360" y="4581360"/>
            <a:ext cx="4533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教师专业成长的关键在自己，如果自己没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发展的意愿，那就是自甘平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187280" y="1484280"/>
            <a:ext cx="71298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660033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90000">
                      <a:alpha val="50000"/>
                    </a:srgbClr>
                  </a:outerShdw>
                </a:effectLst>
                <a:latin typeface="隶书"/>
              </a:rPr>
              <a:t>第二部分：专业的</a:t>
            </a:r>
            <a:endParaRPr b="1" lang="en-US" sz="1800" spc="1" strike="noStrike">
              <a:ln w="19080">
                <a:solidFill>
                  <a:srgbClr val="660033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990000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Arial"/>
              </a:rPr>
              <a:t>第二部分：我要到哪里去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楷体_GB2312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0"/>
            <a:ext cx="9171000" cy="6858000"/>
            <a:chOff x="0" y="0"/>
            <a:chExt cx="9171000" cy="6858000"/>
          </a:xfrm>
        </p:grpSpPr>
        <p:grpSp>
          <p:nvGrpSpPr>
            <p:cNvPr id="71" name=""/>
            <p:cNvGrpSpPr/>
            <p:nvPr/>
          </p:nvGrpSpPr>
          <p:grpSpPr>
            <a:xfrm>
              <a:off x="0" y="0"/>
              <a:ext cx="9171000" cy="6858000"/>
              <a:chOff x="0" y="0"/>
              <a:chExt cx="9171000" cy="6858000"/>
            </a:xfrm>
          </p:grpSpPr>
          <p:pic>
            <p:nvPicPr>
              <p:cNvPr id="7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600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28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7564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" descr=""/>
            <p:cNvPicPr/>
            <p:nvPr/>
          </p:nvPicPr>
          <p:blipFill>
            <a:blip r:embed="rId6"/>
            <a:stretch/>
          </p:blipFill>
          <p:spPr>
            <a:xfrm>
              <a:off x="4356000" y="0"/>
              <a:ext cx="478800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611280" y="3789360"/>
            <a:ext cx="7993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要去做世界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       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最幸福的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92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人可以不知道从哪里来，但一定要知道到哪里去，怎么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71000" cy="6858000"/>
            <a:chOff x="0" y="0"/>
            <a:chExt cx="9171000" cy="6858000"/>
          </a:xfrm>
        </p:grpSpPr>
        <p:grpSp>
          <p:nvGrpSpPr>
            <p:cNvPr id="81" name=""/>
            <p:cNvGrpSpPr/>
            <p:nvPr/>
          </p:nvGrpSpPr>
          <p:grpSpPr>
            <a:xfrm>
              <a:off x="0" y="0"/>
              <a:ext cx="9171000" cy="6858000"/>
              <a:chOff x="0" y="0"/>
              <a:chExt cx="9171000" cy="6858000"/>
            </a:xfrm>
          </p:grpSpPr>
          <p:pic>
            <p:nvPicPr>
              <p:cNvPr id="8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600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28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7564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4356000" y="0"/>
              <a:ext cx="4788000" cy="49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 Box 4"/>
          <p:cNvSpPr/>
          <p:nvPr/>
        </p:nvSpPr>
        <p:spPr>
          <a:xfrm>
            <a:off x="857160" y="642960"/>
            <a:ext cx="645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做一个专业的老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1042920" y="2492280"/>
            <a:ext cx="6985080" cy="28908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857160" y="1844640"/>
            <a:ext cx="169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非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7292880" y="1844640"/>
            <a:ext cx="11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3635280" y="2905200"/>
            <a:ext cx="20322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专业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专业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专业态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57200" y="1527120"/>
            <a:ext cx="8229600" cy="1470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如何制订个人研修计划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71000" cy="6858000"/>
            <a:chOff x="0" y="0"/>
            <a:chExt cx="9171000" cy="6858000"/>
          </a:xfrm>
        </p:grpSpPr>
        <p:grpSp>
          <p:nvGrpSpPr>
            <p:cNvPr id="95" name=""/>
            <p:cNvGrpSpPr/>
            <p:nvPr/>
          </p:nvGrpSpPr>
          <p:grpSpPr>
            <a:xfrm>
              <a:off x="0" y="0"/>
              <a:ext cx="9171000" cy="6858000"/>
              <a:chOff x="0" y="0"/>
              <a:chExt cx="9171000" cy="6858000"/>
            </a:xfrm>
          </p:grpSpPr>
          <p:pic>
            <p:nvPicPr>
              <p:cNvPr id="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600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52280" y="6362640"/>
                <a:ext cx="4788000" cy="49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75640" y="0"/>
                <a:ext cx="49536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4356000" y="0"/>
              <a:ext cx="4788000" cy="495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6:00:44Z</dcterms:created>
  <dc:creator>Legend User</dc:creator>
  <dc:description/>
  <dc:language>en-US</dc:language>
  <cp:lastModifiedBy>User</cp:lastModifiedBy>
  <dcterms:modified xsi:type="dcterms:W3CDTF">2014-07-01T03:33:46Z</dcterms:modified>
  <cp:revision>277</cp:revision>
  <dc:subject/>
  <dc:title>幻灯片 1</dc:title>
</cp:coreProperties>
</file>