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137E-E02F-444A-A119-C1EA64649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A0D0-ECBC-420B-8F23-F4AA72DF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14E7-B5D1-44CE-A639-A9A89F91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DD12-904C-44AD-A5C4-5FC7CF8F2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9C8F-6FA5-4A3E-A4AE-062627BB5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D8B4-D4F7-40DD-9036-DF5E6076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D5AE-7531-4971-A5F0-C8008475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150D-D6FC-4508-9203-6655610E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C322-3256-4DEE-A958-5D3DF38D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D233-03FA-43AC-9038-2F6E56C4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BBB4-E3F2-407B-8598-4C20424F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CED6-96D5-4F98-AA41-708DD10B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7A25-0765-400E-82A2-E7E68C87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3BE3-DAC4-4BCD-8D8E-AB84CF47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7D8A-7404-429D-B6E3-79F821F5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A4D5-DD32-4657-A9DA-AE8BFCBFE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123E-8CD2-4BC5-83C9-F281BE213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556B-0DCB-46D9-8DD0-58F7BAF7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4725-2920-46D5-980D-F7206342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536D-1736-4221-A8A1-94BE306E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2C5B-11B2-4DA8-B942-FCEC764D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77ED-2CD1-4F0B-A16A-9D3DB2A7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F811-1198-4F7C-9AB3-2B6102DB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8DD2-F515-4546-8007-659CB9F0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7183-49DC-403D-88B9-47F56CA0C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4120"/>
              <a:chOff x="-3240" y="2479680"/>
              <a:chExt cx="9146880" cy="10141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4280" y="-1580760"/>
                <a:ext cx="97992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6280" y="2644560"/>
                <a:ext cx="9799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5200" y="2643840"/>
                <a:ext cx="979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6880" y="2788920"/>
                <a:ext cx="97956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9560" y="2745360"/>
                <a:ext cx="979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52000" y="2691360"/>
                <a:ext cx="97992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8040" y="2747880"/>
                <a:ext cx="99216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9640" y="2638080"/>
                <a:ext cx="97956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8920" y="2635920"/>
                <a:ext cx="979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53480" y="2780640"/>
                <a:ext cx="97956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4360" y="2737440"/>
                <a:ext cx="979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9680" y="2685600"/>
                <a:ext cx="97956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8880" y="2726280"/>
                <a:ext cx="99216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5160" y="2644560"/>
                <a:ext cx="9799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4080" y="2643840"/>
                <a:ext cx="979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2000" y="2781000"/>
                <a:ext cx="97956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81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7840" y="2685600"/>
                <a:ext cx="97956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7040" y="2725920"/>
                <a:ext cx="99216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477C-7D01-438D-89DE-3A439DC3D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8920" y="527040"/>
            <a:ext cx="8713800" cy="538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中国教育发展中的基本问题和基本政策</a:t>
            </a:r>
            <a:r>
              <a:rPr b="0" lang="zh-CN" sz="7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zh-CN" sz="7200" spc="-1" strike="noStrike">
                <a:solidFill>
                  <a:srgbClr val="003366"/>
                </a:solidFill>
                <a:latin typeface="Times New Roman"/>
              </a:rPr>
              <a:t>    </a:t>
            </a:r>
            <a:br>
              <a:rPr sz="7200"/>
            </a:br>
            <a:r>
              <a:rPr b="0" lang="zh-CN" sz="72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中国人民大学教育学院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                                         </a:t>
            </a:r>
            <a:br>
              <a:rPr sz="2800"/>
            </a:br>
            <a:r>
              <a:rPr b="0" lang="zh-CN" sz="72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秦惠民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771640" y="6857640"/>
            <a:ext cx="4795920" cy="11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8118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第二，经济社会发展的新特征和对教育发展的新要求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15640" y="1557000"/>
            <a:ext cx="7829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1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社会环境变化呈现新特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经济结构转型进入攻坚阶段，产业结构、需求结构、要素结构加快调整，能源资源和生态环境的约束日益强化，外部发展环境的不稳定性和不确定性上升，增强内生动力、提高创新能力的要求更加迫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城乡转化的压力增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.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社会消费结构从生存型向发展性转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.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民意识觉醒，权利意识增强，社会结构变动趋向多元，人口流动性持续扩大，社会组织形态、社会利益格局也在发生变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.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人口结构变化，老龄化速度加快，生育率持续保持较低水平，老龄速度加快，劳动力资源的增长趋缓，人口红利正在减弱和消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5493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2.2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经济社会对教育发展的新要求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2060640"/>
            <a:ext cx="76201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2.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要适应国际竞争新形势的需要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2.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适应我国经济社会发展的需要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2.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满足人民群众新期盼的需要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2.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实现教育事业的科学发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189000"/>
            <a:ext cx="8001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第三，“十二五”教育改革发展的政策取向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1628640"/>
            <a:ext cx="76201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1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新时期教育改革发展指导思想和工作方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纲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规定的指导思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纲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规定的工作方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以学生为中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把育人为本作为教育工作的根本要求；关心每个学生，为每个学生提供适合的教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促进教育公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理念的公平正义，义务教育均衡发展，高等教育入学机会平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提高教育质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学前教育、义务教育、高中教育到高等教育全面提高质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实现从有学上到上好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什么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好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存在争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333000"/>
            <a:ext cx="78026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3.2 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十二五”期间，教育改革发展的重点任务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804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2.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前教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2.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义务教育（均衡化、择校、满意度、农村中小学布局问题：为了推动新的社区发展和城市化，中小学布局被绑架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2.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保障流动人口子女就学权益（从义务教育到上高中、上大学，与当地居民的利益冲突与平衡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2.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关于高等教育毛入学率（目前的政策是基于资源约束还是有内在结构要求：如果人人都能上高中、上大学，中等职业教育还要不要办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2.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教育体制机制改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2.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展民办教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3170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第四，需要把握和处理好的几方面关系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560" y="2204640"/>
            <a:ext cx="79218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1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保障基本公共服务与提供多元选择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2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运用宏观调控与发挥市场机制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3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兼顾公平与效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4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充分发挥中央和地方两个积极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5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处理好当前与长远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-1285920"/>
            <a:ext cx="7772400" cy="744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讨论：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国家为什么强调把“促进公平作为国家基本教育政策”？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3"/>
          <p:cNvSpPr/>
          <p:nvPr/>
        </p:nvSpPr>
        <p:spPr>
          <a:xfrm>
            <a:off x="1116000" y="765000"/>
            <a:ext cx="770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、教育发展与教育公平并不总是呈正相关关系 ：教育事业的发展并不必然伴随资源配置的均衡和教育公平的改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、中国基础教育的非均衡状况：世界上最好的基础教育学校和巨大的城乡差距、地区差距、学校差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、长期的重点学校政策的巨大惯性和路径依赖依然存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、人们对公平的认识随经济与社会的发展而不断发展，不同的社会阶层和利益群体有不同的公平要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、高等教育入学机会的平等依然纠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2133720" y="266688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981080" y="32986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2124000" y="2637000"/>
            <a:ext cx="54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谢谢大家！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努力办好人民满意的教育”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557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教育从来没有像今天这样受到重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国老百姓最为关心的问题之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教育问题难解决，教育部长不好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民群众不满意教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办好人民满意的教育”的努力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教育问题高度受关注，不仅在中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钟道然的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不原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钱学森之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国教育问题的复杂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560" y="476280"/>
            <a:ext cx="8101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四方面的概括和一个基本政策讨论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700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中国教育发展主要成就、经验和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经济社会发展的新特征和对教育发展   的新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二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育改革发展的政策取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、需要把握和处理好的几方面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、讨论：国家为什么强调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促进公平作为国家基本教育政策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17324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一，中国教育发展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主要成就、经验和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8422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1.1  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中国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30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年来教育发展的</a:t>
            </a:r>
            <a:br>
              <a:rPr sz="3600"/>
            </a:b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主要成就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360" y="2060640"/>
            <a:ext cx="79246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1.1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建立覆盖城乡的教育公共服务体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1.2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形成了当今世界最大规模的教育体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1.3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育的发展水平整体提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1.4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国特色社会主义教育的发展道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1.5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人口大国向人力资源大国转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428760" y="514080"/>
            <a:ext cx="8143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新中国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黑体"/>
              </a:rPr>
              <a:t>60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多年教育：历经风雨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黑体"/>
              </a:rPr>
              <a:t>-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跨越发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单位：万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00040" y="1428840"/>
          <a:ext cx="8286840" cy="4076640"/>
        </p:xfrm>
        <a:graphic>
          <a:graphicData uri="http://schemas.openxmlformats.org/drawingml/2006/table">
            <a:tbl>
              <a:tblPr/>
              <a:tblGrid>
                <a:gridCol w="2808360"/>
                <a:gridCol w="1252440"/>
                <a:gridCol w="1408320"/>
                <a:gridCol w="1409400"/>
                <a:gridCol w="1408320"/>
              </a:tblGrid>
              <a:tr h="509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年    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50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高等教育在校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11.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a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271.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939.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33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09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高中阶段在校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43.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a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1720.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2447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4595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0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初中阶段在校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83.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a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4854.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6275.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4826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09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初等教育在校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3765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a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16273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13494.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9860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0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幼儿园在园儿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a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115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2244.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3685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09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各级各类教育总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3904.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af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24270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25400.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26292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09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占当年总人口比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8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af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24.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20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19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40" name="椭圆 3"/>
          <p:cNvSpPr/>
          <p:nvPr/>
        </p:nvSpPr>
        <p:spPr>
          <a:xfrm>
            <a:off x="3214800" y="4429080"/>
            <a:ext cx="1285920" cy="64296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椭圆 3"/>
          <p:cNvSpPr/>
          <p:nvPr/>
        </p:nvSpPr>
        <p:spPr>
          <a:xfrm>
            <a:off x="3214800" y="4929120"/>
            <a:ext cx="1285920" cy="57168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椭圆 3"/>
          <p:cNvSpPr/>
          <p:nvPr/>
        </p:nvSpPr>
        <p:spPr>
          <a:xfrm>
            <a:off x="7286760" y="4429080"/>
            <a:ext cx="1439640" cy="57636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椭圆 3"/>
          <p:cNvSpPr/>
          <p:nvPr/>
        </p:nvSpPr>
        <p:spPr>
          <a:xfrm>
            <a:off x="7286760" y="5000760"/>
            <a:ext cx="1439640" cy="50472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矩形 7"/>
          <p:cNvSpPr/>
          <p:nvPr/>
        </p:nvSpPr>
        <p:spPr>
          <a:xfrm>
            <a:off x="571680" y="5500800"/>
            <a:ext cx="81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12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年末全国大陆总人口为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35404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万人，比上年末增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69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万人，其中，全年出生人口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635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万人，出生率为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2.10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‰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1800" spc="-1" strike="noStrike">
                <a:solidFill>
                  <a:srgbClr val="47d1ff"/>
                </a:solidFill>
                <a:latin typeface="Times New Roman"/>
              </a:rPr>
              <a:t>城镇人口为</a:t>
            </a:r>
            <a:r>
              <a:rPr b="1" lang="en-US" sz="1800" spc="-1" strike="noStrike">
                <a:solidFill>
                  <a:srgbClr val="47d1ff"/>
                </a:solidFill>
                <a:latin typeface="Times New Roman"/>
              </a:rPr>
              <a:t>71182</a:t>
            </a:r>
            <a:r>
              <a:rPr b="1" lang="zh-CN" sz="1800" spc="-1" strike="noStrike">
                <a:solidFill>
                  <a:srgbClr val="47d1ff"/>
                </a:solidFill>
                <a:latin typeface="Times New Roman"/>
              </a:rPr>
              <a:t>万人，占总人口比重为</a:t>
            </a:r>
            <a:r>
              <a:rPr b="1" lang="en-US" sz="1800" spc="-1" strike="noStrike">
                <a:solidFill>
                  <a:srgbClr val="47d1ff"/>
                </a:solidFill>
                <a:latin typeface="Times New Roman"/>
              </a:rPr>
              <a:t>52.6%</a:t>
            </a:r>
            <a:r>
              <a:rPr b="1" lang="zh-CN" sz="1800" spc="-1" strike="noStrike">
                <a:solidFill>
                  <a:srgbClr val="47d1ff"/>
                </a:solidFill>
                <a:latin typeface="Times New Roman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矩形 8"/>
          <p:cNvSpPr/>
          <p:nvPr/>
        </p:nvSpPr>
        <p:spPr>
          <a:xfrm>
            <a:off x="3214800" y="3429000"/>
            <a:ext cx="1428480" cy="571680"/>
          </a:xfrm>
          <a:prstGeom prst="rect">
            <a:avLst/>
          </a:prstGeom>
          <a:solidFill>
            <a:srgbClr val="009999">
              <a:alpha val="50000"/>
            </a:srgbClr>
          </a:solidFill>
          <a:ln cap="sq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矩形 9"/>
          <p:cNvSpPr/>
          <p:nvPr/>
        </p:nvSpPr>
        <p:spPr>
          <a:xfrm>
            <a:off x="7215120" y="3429000"/>
            <a:ext cx="1714680" cy="571680"/>
          </a:xfrm>
          <a:prstGeom prst="rect">
            <a:avLst/>
          </a:prstGeom>
          <a:solidFill>
            <a:srgbClr val="009999">
              <a:alpha val="50000"/>
            </a:srgbClr>
          </a:solidFill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等腰三角形 10"/>
          <p:cNvSpPr/>
          <p:nvPr/>
        </p:nvSpPr>
        <p:spPr>
          <a:xfrm>
            <a:off x="3643200" y="1928880"/>
            <a:ext cx="571680" cy="1500120"/>
          </a:xfrm>
          <a:prstGeom prst="triangle">
            <a:avLst>
              <a:gd name="adj" fmla="val 50000"/>
            </a:avLst>
          </a:prstGeom>
          <a:solidFill>
            <a:srgbClr val="009999">
              <a:alpha val="50000"/>
            </a:srgbClr>
          </a:solidFill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梯形 11"/>
          <p:cNvSpPr/>
          <p:nvPr/>
        </p:nvSpPr>
        <p:spPr>
          <a:xfrm>
            <a:off x="7429680" y="1928880"/>
            <a:ext cx="1285560" cy="1500120"/>
          </a:xfrm>
          <a:custGeom>
            <a:avLst/>
            <a:gdLst/>
            <a:ahLst/>
            <a:rect l="l" t="t" r="r" b="b"/>
            <a:pathLst>
              <a:path w="1285875" h="1500187">
                <a:moveTo>
                  <a:pt x="0" y="1500187"/>
                </a:moveTo>
                <a:lnTo>
                  <a:pt x="398313" y="0"/>
                </a:lnTo>
                <a:lnTo>
                  <a:pt x="887562" y="0"/>
                </a:lnTo>
                <a:lnTo>
                  <a:pt x="1285875" y="1500187"/>
                </a:lnTo>
                <a:lnTo>
                  <a:pt x="0" y="1500187"/>
                </a:lnTo>
                <a:close/>
              </a:path>
            </a:pathLst>
          </a:custGeom>
          <a:solidFill>
            <a:srgbClr val="009999">
              <a:alpha val="50000"/>
            </a:srgbClr>
          </a:solidFill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等腰三角形 12"/>
          <p:cNvSpPr/>
          <p:nvPr/>
        </p:nvSpPr>
        <p:spPr>
          <a:xfrm>
            <a:off x="5286240" y="1928880"/>
            <a:ext cx="1276560" cy="1571400"/>
          </a:xfrm>
          <a:prstGeom prst="triangle">
            <a:avLst>
              <a:gd name="adj" fmla="val 50000"/>
            </a:avLst>
          </a:prstGeom>
          <a:solidFill>
            <a:srgbClr val="009999">
              <a:alpha val="50000"/>
            </a:srgbClr>
          </a:solidFill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矩形 13"/>
          <p:cNvSpPr/>
          <p:nvPr/>
        </p:nvSpPr>
        <p:spPr>
          <a:xfrm>
            <a:off x="5000760" y="3429000"/>
            <a:ext cx="1857240" cy="571680"/>
          </a:xfrm>
          <a:prstGeom prst="rect">
            <a:avLst/>
          </a:prstGeom>
          <a:solidFill>
            <a:srgbClr val="009999">
              <a:alpha val="50000"/>
            </a:srgbClr>
          </a:solidFill>
          <a:ln cap="sq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714240" y="1428840"/>
          <a:ext cx="7675560" cy="4527360"/>
        </p:xfrm>
        <a:graphic>
          <a:graphicData uri="http://schemas.openxmlformats.org/drawingml/2006/table">
            <a:tbl>
              <a:tblPr/>
              <a:tblGrid>
                <a:gridCol w="603360"/>
                <a:gridCol w="1857240"/>
                <a:gridCol w="1581480"/>
                <a:gridCol w="990360"/>
                <a:gridCol w="825480"/>
                <a:gridCol w="908280"/>
                <a:gridCol w="909360"/>
              </a:tblGrid>
              <a:tr h="496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年数据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大中小学综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小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初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高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各国算术平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8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北美和西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9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402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中东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8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拉美和加勒比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1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31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中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8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1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~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东亚和太平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7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1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阿拉伯国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6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西南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6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撒哈拉以南非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4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490a8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52" name="Line 101"/>
          <p:cNvSpPr/>
          <p:nvPr/>
        </p:nvSpPr>
        <p:spPr>
          <a:xfrm>
            <a:off x="1285920" y="3286080"/>
            <a:ext cx="7058160" cy="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右弧形箭头 4"/>
          <p:cNvSpPr/>
          <p:nvPr/>
        </p:nvSpPr>
        <p:spPr>
          <a:xfrm flipV="1">
            <a:off x="8072280" y="3071880"/>
            <a:ext cx="428760" cy="1000080"/>
          </a:xfrm>
          <a:custGeom>
            <a:avLst/>
            <a:gdLst>
              <a:gd name="textAreaLeft" fmla="*/ 57240 w 428760"/>
              <a:gd name="textAreaRight" fmla="*/ 371520 w 428760"/>
              <a:gd name="textAreaTop" fmla="*/ 198720 h 1000080"/>
              <a:gd name="textAreaBottom" fmla="*/ 73296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88" stAng="-5400000" swAng="5400000"/>
                <a:lnTo>
                  <a:pt x="21600" y="11538"/>
                </a:lnTo>
                <a:arcTo wR="21600" hR="8588" stAng="0" swAng="2718107"/>
                <a:lnTo>
                  <a:pt x="7908" y="21004"/>
                </a:lnTo>
                <a:lnTo>
                  <a:pt x="0" y="18651"/>
                </a:lnTo>
                <a:lnTo>
                  <a:pt x="7908" y="15106"/>
                </a:lnTo>
                <a:lnTo>
                  <a:pt x="7908" y="16580"/>
                </a:lnTo>
                <a:arcTo wR="21600" hR="8588" stAng="2718107" swAng="-2480193"/>
                <a:lnTo>
                  <a:pt x="21279" y="10063"/>
                </a:lnTo>
                <a:arcTo wR="21600" hR="8588" stAng="-237914" swAng="-5162086"/>
                <a:close/>
              </a:path>
              <a:path fill="darkenLess" w="21600" h="21600">
                <a:moveTo>
                  <a:pt x="0" y="0"/>
                </a:moveTo>
                <a:arcTo wR="21600" hR="8588" stAng="-5400000" swAng="5400000"/>
                <a:lnTo>
                  <a:pt x="21600" y="11538"/>
                </a:lnTo>
                <a:arcTo wR="21600" hR="8588" stAng="0" swAng="-237914"/>
                <a:lnTo>
                  <a:pt x="21279" y="10063"/>
                </a:lnTo>
                <a:arcTo wR="21600" hR="8588" stAng="-237914" swAng="-5162086"/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右弧形箭头 5"/>
          <p:cNvSpPr/>
          <p:nvPr/>
        </p:nvSpPr>
        <p:spPr>
          <a:xfrm flipV="1">
            <a:off x="8001000" y="4357080"/>
            <a:ext cx="500040" cy="928440"/>
          </a:xfrm>
          <a:custGeom>
            <a:avLst/>
            <a:gdLst>
              <a:gd name="textAreaLeft" fmla="*/ 66960 w 500040"/>
              <a:gd name="textAreaRight" fmla="*/ 433080 w 500040"/>
              <a:gd name="textAreaTop" fmla="*/ 193680 h 928440"/>
              <a:gd name="textAreaBottom" fmla="*/ 68364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18" stAng="-5400000" swAng="5400000"/>
                <a:lnTo>
                  <a:pt x="21600" y="11393"/>
                </a:lnTo>
                <a:arcTo wR="21600" hR="9018" stAng="0" swAng="2802026"/>
                <a:lnTo>
                  <a:pt x="7908" y="20974"/>
                </a:lnTo>
                <a:lnTo>
                  <a:pt x="0" y="19224"/>
                </a:lnTo>
                <a:lnTo>
                  <a:pt x="7908" y="16221"/>
                </a:lnTo>
                <a:lnTo>
                  <a:pt x="7908" y="17410"/>
                </a:lnTo>
                <a:arcTo wR="21600" hR="9018" stAng="2802026" swAng="-2611564"/>
                <a:lnTo>
                  <a:pt x="21412" y="10206"/>
                </a:lnTo>
                <a:arcTo wR="21600" hR="9018" stAng="-190462" swAng="-5209538"/>
                <a:close/>
              </a:path>
              <a:path fill="darkenLess" w="21600" h="21600">
                <a:moveTo>
                  <a:pt x="0" y="0"/>
                </a:moveTo>
                <a:arcTo wR="21600" hR="9018" stAng="-5400000" swAng="5400000"/>
                <a:lnTo>
                  <a:pt x="21600" y="11393"/>
                </a:lnTo>
                <a:arcTo wR="21600" hR="9018" stAng="0" swAng="-190462"/>
                <a:lnTo>
                  <a:pt x="21412" y="10206"/>
                </a:lnTo>
                <a:arcTo wR="21600" hR="9018" stAng="-190462" swAng="-5209538"/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214200" y="21852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全球“马拉松”：大中小学毛入学率比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Times New Roman"/>
                <a:ea typeface="黑体"/>
              </a:rPr>
              <a:t>(1)</a:t>
            </a:r>
            <a:r>
              <a:rPr b="1" lang="zh-CN" sz="2000" spc="-1" strike="noStrike">
                <a:solidFill>
                  <a:srgbClr val="ffc000"/>
                </a:solidFill>
                <a:latin typeface="Times New Roman"/>
                <a:ea typeface="黑体"/>
              </a:rPr>
              <a:t>高水平 组</a:t>
            </a:r>
            <a:r>
              <a:rPr b="1" lang="en-US" sz="2000" spc="-1" strike="noStrike">
                <a:solidFill>
                  <a:srgbClr val="ffc000"/>
                </a:solidFill>
                <a:latin typeface="Times New Roman"/>
                <a:ea typeface="黑体"/>
              </a:rPr>
              <a:t>&gt;90%</a:t>
            </a:r>
            <a:r>
              <a:rPr b="1" lang="zh-CN" sz="2000" spc="-1" strike="noStrike">
                <a:solidFill>
                  <a:srgbClr val="ffc000"/>
                </a:solidFill>
                <a:latin typeface="Times New Roman"/>
                <a:ea typeface="黑体"/>
              </a:rPr>
              <a:t>  </a:t>
            </a:r>
            <a:r>
              <a:rPr b="1" lang="en-US" sz="2000" spc="-1" strike="noStrike">
                <a:solidFill>
                  <a:srgbClr val="ffc000"/>
                </a:solidFill>
                <a:latin typeface="Times New Roman"/>
                <a:ea typeface="黑体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黑体"/>
              </a:rPr>
              <a:t>(2)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黑体"/>
              </a:rPr>
              <a:t>中上水平组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黑体"/>
              </a:rPr>
              <a:t>80~89%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黑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黑体"/>
              </a:rPr>
              <a:t>(3)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  <a:ea typeface="黑体"/>
              </a:rPr>
              <a:t>中下水平组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黑体"/>
              </a:rPr>
              <a:t>60~79%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000" spc="-1" strike="noStrike">
                <a:solidFill>
                  <a:srgbClr val="66ffff"/>
                </a:solidFill>
                <a:latin typeface="Times New Roman"/>
                <a:ea typeface="黑体"/>
              </a:rPr>
              <a:t>  </a:t>
            </a:r>
            <a:r>
              <a:rPr b="1" lang="zh-CN" sz="2000" spc="-1" strike="noStrike">
                <a:solidFill>
                  <a:srgbClr val="66ffff"/>
                </a:solidFill>
                <a:latin typeface="Times New Roman"/>
                <a:ea typeface="黑体"/>
              </a:rPr>
              <a:t> </a:t>
            </a:r>
            <a:r>
              <a:rPr b="1" lang="en-US" sz="2000" spc="-1" strike="noStrike">
                <a:solidFill>
                  <a:srgbClr val="66ffff"/>
                </a:solidFill>
                <a:latin typeface="Times New Roman"/>
                <a:ea typeface="黑体"/>
              </a:rPr>
              <a:t>(4)</a:t>
            </a:r>
            <a:r>
              <a:rPr b="1" lang="zh-CN" sz="2000" spc="-1" strike="noStrike">
                <a:solidFill>
                  <a:srgbClr val="66ffff"/>
                </a:solidFill>
                <a:latin typeface="Times New Roman"/>
                <a:ea typeface="黑体"/>
              </a:rPr>
              <a:t>低水平组</a:t>
            </a:r>
            <a:r>
              <a:rPr b="1" lang="en-US" sz="2000" spc="-1" strike="noStrike">
                <a:solidFill>
                  <a:srgbClr val="66ffff"/>
                </a:solidFill>
                <a:latin typeface="Times New Roman"/>
                <a:ea typeface="黑体"/>
              </a:rPr>
              <a:t>&lt;6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右弧形箭头 7"/>
          <p:cNvSpPr/>
          <p:nvPr/>
        </p:nvSpPr>
        <p:spPr>
          <a:xfrm flipH="1" flipV="1">
            <a:off x="1071000" y="4857120"/>
            <a:ext cx="285480" cy="561960"/>
          </a:xfrm>
          <a:custGeom>
            <a:avLst/>
            <a:gdLst>
              <a:gd name="textAreaLeft" fmla="*/ 38160 w 285480"/>
              <a:gd name="textAreaRight" fmla="*/ 247320 w 285480"/>
              <a:gd name="textAreaTop" fmla="*/ 107280 h 561960"/>
              <a:gd name="textAreaBottom" fmla="*/ 413280 h 5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277" stAng="-5400000" swAng="5400000"/>
                <a:lnTo>
                  <a:pt x="21600" y="11757"/>
                </a:lnTo>
                <a:arcTo wR="21600" hR="8277" stAng="0" swAng="2654711"/>
                <a:lnTo>
                  <a:pt x="7908" y="21025"/>
                </a:lnTo>
                <a:lnTo>
                  <a:pt x="0" y="18294"/>
                </a:lnTo>
                <a:lnTo>
                  <a:pt x="7908" y="14413"/>
                </a:lnTo>
                <a:lnTo>
                  <a:pt x="7908" y="15979"/>
                </a:lnTo>
                <a:arcTo wR="21600" hR="8277" stAng="2654711" swAng="-2372090"/>
                <a:lnTo>
                  <a:pt x="21117" y="10017"/>
                </a:lnTo>
                <a:arcTo wR="21600" hR="8277" stAng="-282621" swAng="-5117379"/>
                <a:close/>
              </a:path>
              <a:path fill="darkenLess" w="21600" h="21600">
                <a:moveTo>
                  <a:pt x="0" y="0"/>
                </a:moveTo>
                <a:arcTo wR="21600" hR="8277" stAng="-5400000" swAng="5400000"/>
                <a:lnTo>
                  <a:pt x="21600" y="11757"/>
                </a:lnTo>
                <a:arcTo wR="21600" hR="8277" stAng="0" swAng="-282621"/>
                <a:lnTo>
                  <a:pt x="21117" y="10017"/>
                </a:lnTo>
                <a:arcTo wR="21600" hR="8277" stAng="-282621" swAng="-5117379"/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右弧形箭头 8"/>
          <p:cNvSpPr/>
          <p:nvPr/>
        </p:nvSpPr>
        <p:spPr>
          <a:xfrm flipH="1" flipV="1">
            <a:off x="1071000" y="3499560"/>
            <a:ext cx="285480" cy="1071720"/>
          </a:xfrm>
          <a:custGeom>
            <a:avLst/>
            <a:gdLst>
              <a:gd name="textAreaLeft" fmla="*/ 38160 w 285480"/>
              <a:gd name="textAreaRight" fmla="*/ 247320 w 285480"/>
              <a:gd name="textAreaTop" fmla="*/ 234720 h 1071720"/>
              <a:gd name="textAreaBottom" fmla="*/ 79560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77" stAng="-5400000" swAng="5400000"/>
                <a:lnTo>
                  <a:pt x="21600" y="11302"/>
                </a:lnTo>
                <a:arcTo wR="21600" hR="9477" stAng="0" swAng="2887049"/>
                <a:lnTo>
                  <a:pt x="7908" y="20942"/>
                </a:lnTo>
                <a:lnTo>
                  <a:pt x="0" y="19867"/>
                </a:lnTo>
                <a:lnTo>
                  <a:pt x="7908" y="17475"/>
                </a:lnTo>
                <a:lnTo>
                  <a:pt x="7908" y="18296"/>
                </a:lnTo>
                <a:arcTo wR="21600" hR="9477" stAng="2887049" swAng="-2741230"/>
                <a:lnTo>
                  <a:pt x="21500" y="10390"/>
                </a:lnTo>
                <a:arcTo wR="21600" hR="9477" stAng="-145819" swAng="-5254181"/>
                <a:close/>
              </a:path>
              <a:path fill="darkenLess" w="21600" h="21600">
                <a:moveTo>
                  <a:pt x="0" y="0"/>
                </a:moveTo>
                <a:arcTo wR="21600" hR="9477" stAng="-5400000" swAng="5400000"/>
                <a:lnTo>
                  <a:pt x="21600" y="11302"/>
                </a:lnTo>
                <a:arcTo wR="21600" hR="9477" stAng="0" swAng="-145819"/>
                <a:lnTo>
                  <a:pt x="21500" y="10390"/>
                </a:lnTo>
                <a:arcTo wR="21600" hR="9477" stAng="-145819" swAng="-5254181"/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右弧形箭头 9"/>
          <p:cNvSpPr/>
          <p:nvPr/>
        </p:nvSpPr>
        <p:spPr>
          <a:xfrm flipH="1" flipV="1">
            <a:off x="1071720" y="3142440"/>
            <a:ext cx="357120" cy="714600"/>
          </a:xfrm>
          <a:custGeom>
            <a:avLst/>
            <a:gdLst>
              <a:gd name="textAreaLeft" fmla="*/ 47880 w 357120"/>
              <a:gd name="textAreaRight" fmla="*/ 309240 w 357120"/>
              <a:gd name="textAreaTop" fmla="*/ 137520 h 714600"/>
              <a:gd name="textAreaBottom" fmla="*/ 52596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20" stAng="-5400000" swAng="5400000"/>
                <a:lnTo>
                  <a:pt x="21600" y="11741"/>
                </a:lnTo>
                <a:arcTo wR="21600" hR="8320" stAng="0" swAng="2663512"/>
                <a:lnTo>
                  <a:pt x="7908" y="21022"/>
                </a:lnTo>
                <a:lnTo>
                  <a:pt x="0" y="18350"/>
                </a:lnTo>
                <a:lnTo>
                  <a:pt x="7908" y="14521"/>
                </a:lnTo>
                <a:lnTo>
                  <a:pt x="7908" y="16061"/>
                </a:lnTo>
                <a:arcTo wR="21600" hR="8320" stAng="2663512" swAng="-2385939"/>
                <a:lnTo>
                  <a:pt x="21139" y="10030"/>
                </a:lnTo>
                <a:arcTo wR="21600" hR="8320" stAng="-277573" swAng="-5122427"/>
                <a:close/>
              </a:path>
              <a:path fill="darkenLess" w="21600" h="21600">
                <a:moveTo>
                  <a:pt x="0" y="0"/>
                </a:moveTo>
                <a:arcTo wR="21600" hR="8320" stAng="-5400000" swAng="5400000"/>
                <a:lnTo>
                  <a:pt x="21600" y="11741"/>
                </a:lnTo>
                <a:arcTo wR="21600" hR="8320" stAng="0" swAng="-277573"/>
                <a:lnTo>
                  <a:pt x="21139" y="10030"/>
                </a:lnTo>
                <a:arcTo wR="21600" hR="8320" stAng="-277573" swAng="-5122427"/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右弧形箭头 10"/>
          <p:cNvSpPr/>
          <p:nvPr/>
        </p:nvSpPr>
        <p:spPr>
          <a:xfrm flipH="1" flipV="1">
            <a:off x="1071720" y="2500200"/>
            <a:ext cx="357120" cy="571680"/>
          </a:xfrm>
          <a:custGeom>
            <a:avLst/>
            <a:gdLst>
              <a:gd name="textAreaLeft" fmla="*/ 47880 w 357120"/>
              <a:gd name="textAreaRight" fmla="*/ 309240 w 357120"/>
              <a:gd name="textAreaTop" fmla="*/ 102240 h 571680"/>
              <a:gd name="textAreaBottom" fmla="*/ 41940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0" stAng="-5400000" swAng="5400000"/>
                <a:lnTo>
                  <a:pt x="21600" y="11975"/>
                </a:lnTo>
                <a:arcTo wR="21600" hR="7700" stAng="0" swAng="2530663"/>
                <a:lnTo>
                  <a:pt x="7908" y="21065"/>
                </a:lnTo>
                <a:lnTo>
                  <a:pt x="0" y="17537"/>
                </a:lnTo>
                <a:lnTo>
                  <a:pt x="7908" y="12938"/>
                </a:lnTo>
                <a:lnTo>
                  <a:pt x="7908" y="14864"/>
                </a:lnTo>
                <a:arcTo wR="21600" hR="7700" stAng="2530663" swAng="-2177794"/>
                <a:lnTo>
                  <a:pt x="20751" y="9837"/>
                </a:lnTo>
                <a:arcTo wR="21600" hR="7700" stAng="-352869" swAng="-5047131"/>
                <a:close/>
              </a:path>
              <a:path fill="darkenLess" w="21600" h="21600">
                <a:moveTo>
                  <a:pt x="0" y="0"/>
                </a:moveTo>
                <a:arcTo wR="21600" hR="7700" stAng="-5400000" swAng="5400000"/>
                <a:lnTo>
                  <a:pt x="21600" y="11975"/>
                </a:lnTo>
                <a:arcTo wR="21600" hR="7700" stAng="0" swAng="-352869"/>
                <a:lnTo>
                  <a:pt x="20751" y="9837"/>
                </a:lnTo>
                <a:arcTo wR="21600" hR="7700" stAng="-352869" swAng="-5047131"/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椭圆形标注 11"/>
          <p:cNvSpPr/>
          <p:nvPr/>
        </p:nvSpPr>
        <p:spPr>
          <a:xfrm>
            <a:off x="8358120" y="2214720"/>
            <a:ext cx="785880" cy="500040"/>
          </a:xfrm>
          <a:prstGeom prst="wedgeEllipseCallout">
            <a:avLst>
              <a:gd name="adj1" fmla="val -83898"/>
              <a:gd name="adj2" fmla="val 135388"/>
            </a:avLst>
          </a:prstGeom>
          <a:solidFill>
            <a:srgbClr val="c0000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椭圆形标注 12"/>
          <p:cNvSpPr/>
          <p:nvPr/>
        </p:nvSpPr>
        <p:spPr>
          <a:xfrm>
            <a:off x="8358120" y="5357880"/>
            <a:ext cx="785880" cy="500040"/>
          </a:xfrm>
          <a:prstGeom prst="wedgeEllipseCallout">
            <a:avLst>
              <a:gd name="adj1" fmla="val -98675"/>
              <a:gd name="adj2" fmla="val -79398"/>
            </a:avLst>
          </a:prstGeom>
          <a:solidFill>
            <a:srgbClr val="c0000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椭圆形标注 13"/>
          <p:cNvSpPr/>
          <p:nvPr/>
        </p:nvSpPr>
        <p:spPr>
          <a:xfrm>
            <a:off x="8358120" y="4071960"/>
            <a:ext cx="785880" cy="500040"/>
          </a:xfrm>
          <a:prstGeom prst="wedgeEllipseCallout">
            <a:avLst>
              <a:gd name="adj1" fmla="val -87587"/>
              <a:gd name="adj2" fmla="val 19287"/>
            </a:avLst>
          </a:prstGeom>
          <a:solidFill>
            <a:srgbClr val="c0000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71680" y="6000840"/>
            <a:ext cx="82152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毛入学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=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不分年龄在校（注册）学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÷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某一组年龄段人口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× %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矩形 19"/>
          <p:cNvSpPr/>
          <p:nvPr/>
        </p:nvSpPr>
        <p:spPr>
          <a:xfrm>
            <a:off x="4714920" y="1428840"/>
            <a:ext cx="1000080" cy="4572000"/>
          </a:xfrm>
          <a:prstGeom prst="rect">
            <a:avLst/>
          </a:prstGeom>
          <a:solidFill>
            <a:srgbClr val="00ff00">
              <a:alpha val="40000"/>
            </a:srgbClr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矩形 20"/>
          <p:cNvSpPr/>
          <p:nvPr/>
        </p:nvSpPr>
        <p:spPr>
          <a:xfrm>
            <a:off x="5715000" y="1428840"/>
            <a:ext cx="857160" cy="4572000"/>
          </a:xfrm>
          <a:prstGeom prst="rect">
            <a:avLst/>
          </a:prstGeom>
          <a:solidFill>
            <a:srgbClr val="ccffff">
              <a:alpha val="40000"/>
            </a:srgbClr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矩形 21"/>
          <p:cNvSpPr/>
          <p:nvPr/>
        </p:nvSpPr>
        <p:spPr>
          <a:xfrm>
            <a:off x="6572160" y="1428840"/>
            <a:ext cx="857520" cy="4572000"/>
          </a:xfrm>
          <a:prstGeom prst="rect">
            <a:avLst/>
          </a:prstGeom>
          <a:solidFill>
            <a:srgbClr val="ffff00">
              <a:alpha val="40000"/>
            </a:srgbClr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矩形 22"/>
          <p:cNvSpPr/>
          <p:nvPr/>
        </p:nvSpPr>
        <p:spPr>
          <a:xfrm>
            <a:off x="7429680" y="1428840"/>
            <a:ext cx="928440" cy="4572000"/>
          </a:xfrm>
          <a:prstGeom prst="rect">
            <a:avLst/>
          </a:prstGeom>
          <a:solidFill>
            <a:srgbClr val="ff0000">
              <a:alpha val="40000"/>
            </a:srgbClr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560" y="549360"/>
            <a:ext cx="83170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1.2  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中国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30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多年来教育发展的重要经验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79246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2.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科教兴国的方针和教育优先发展战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2.2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落实“方针”和“战略”的政策框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2.3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制度安排和具体政策措施逐步健全，体制机制改革创新不断深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2.4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增加政府的教育投入，提高全国财政性教育经费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D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比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2.5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处理好改革、发展和稳定的关系，为教育持续、快速、健康发展创造良好环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1.3   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当前教育领域呈现的突出矛盾和问题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13920" y="1699920"/>
            <a:ext cx="74581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3.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展失衡问题比较严重，资源配置和布局结构不尽合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3.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供求矛盾突出，发展不平衡导致优质服务严重短缺，上学远、上学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3.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展质量效益依然偏低，教育投入使用效率有待提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3.4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法制框架和政策体系尚不健全，缺乏配套衔接和协同推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3.5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管理体制和运行机制改革相对落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02:43:00Z</dcterms:created>
  <dc:creator>qinhuimin</dc:creator>
  <dc:description/>
  <dc:language>en-US</dc:language>
  <cp:lastModifiedBy>a</cp:lastModifiedBy>
  <dcterms:modified xsi:type="dcterms:W3CDTF">2014-07-10T06:33:02Z</dcterms:modified>
  <cp:revision>335</cp:revision>
  <dc:subject/>
  <dc:title>学术权力与行政权力          ——高校管理中的权力现象分析              秦惠民 </dc:title>
</cp:coreProperties>
</file>