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217-6550-4244-AAE8-9BB4E0F9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3E5-D746-4027-890A-881AA2DA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DBC-8447-4BE2-B7FE-82CC6D01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188-4001-44BE-98A6-5366A545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C6EBE-D041-4E8C-959C-97204698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FDF06-E231-46BD-97F3-553327FE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E69E5-0421-4BE0-A735-6859B338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0838B-17FC-4D38-8457-EE085669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FBBF4-16B1-4F32-A995-1310F9E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97008-73D5-42C0-BA46-8ED3D82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58E8D-D721-44B5-92BA-D36F13A4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6AB-10FF-4551-9693-BCC0B79A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04E6B-EC9C-4C38-8997-D46CFDA2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18345-7FCC-4186-94D7-E9EB822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29D2D-646D-456D-A28E-C96D3F54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18F94-9903-4FE9-9ECD-6F391E99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F94BC-0E47-4BFC-955E-159C163B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46D-4B77-41CF-BED1-61C17FA1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FC6-D31E-46DF-84AE-457D8B5B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E90-F65B-466F-A79A-BEF8C2A0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C92-3089-489D-BAC5-0AFEBC1F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942-A5BD-41A3-89A6-7C526A5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769-3A6D-4C8F-8AD5-A38A162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9CF-BD42-4394-AC84-D2C04E3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EC29-F355-457D-B586-2967B5CF76F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02CD-C588-4298-8883-765CB4F5C5E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971800" y="1981080"/>
            <a:ext cx="30481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三单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28600" y="3048120"/>
            <a:ext cx="8610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建设有中国特色的社会主义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657360" y="457200"/>
            <a:ext cx="5362560" cy="392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533520" y="1001880"/>
            <a:ext cx="8010360" cy="39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685800" y="5105520"/>
            <a:ext cx="7572240" cy="134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5"/>
          <a:stretch/>
        </p:blipFill>
        <p:spPr>
          <a:xfrm>
            <a:off x="3436920" y="1523880"/>
            <a:ext cx="2840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359760" cy="65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2362320" y="3076560"/>
            <a:ext cx="40384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457200"/>
            <a:ext cx="9143640" cy="3615840"/>
            <a:chOff x="0" y="457200"/>
            <a:chExt cx="9143640" cy="3615840"/>
          </a:xfrm>
        </p:grpSpPr>
        <p:pic>
          <p:nvPicPr>
            <p:cNvPr id="87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707760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3"/>
            <a:stretch/>
          </p:blipFill>
          <p:spPr>
            <a:xfrm>
              <a:off x="7034400" y="549000"/>
              <a:ext cx="2109240" cy="35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9"/>
          <p:cNvGrpSpPr/>
          <p:nvPr/>
        </p:nvGrpSpPr>
        <p:grpSpPr>
          <a:xfrm>
            <a:off x="0" y="4219560"/>
            <a:ext cx="9143640" cy="2028960"/>
            <a:chOff x="0" y="4219560"/>
            <a:chExt cx="9143640" cy="2028960"/>
          </a:xfrm>
        </p:grpSpPr>
        <p:pic>
          <p:nvPicPr>
            <p:cNvPr id="90" name="Picture 7" descr=""/>
            <p:cNvPicPr/>
            <p:nvPr/>
          </p:nvPicPr>
          <p:blipFill>
            <a:blip r:embed="rId4"/>
            <a:stretch/>
          </p:blipFill>
          <p:spPr>
            <a:xfrm>
              <a:off x="0" y="4219560"/>
              <a:ext cx="683604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"/>
            <p:cNvPicPr/>
            <p:nvPr/>
          </p:nvPicPr>
          <p:blipFill>
            <a:blip r:embed="rId5"/>
            <a:stretch/>
          </p:blipFill>
          <p:spPr>
            <a:xfrm>
              <a:off x="6799680" y="4295880"/>
              <a:ext cx="2343960" cy="150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10" descr=""/>
          <p:cNvPicPr/>
          <p:nvPr/>
        </p:nvPicPr>
        <p:blipFill>
          <a:blip r:embed="rId6"/>
          <a:stretch/>
        </p:blipFill>
        <p:spPr>
          <a:xfrm>
            <a:off x="1523880" y="482760"/>
            <a:ext cx="1193760" cy="33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7"/>
          <a:stretch/>
        </p:blipFill>
        <p:spPr>
          <a:xfrm>
            <a:off x="1409760" y="939960"/>
            <a:ext cx="1581120" cy="26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8"/>
          <a:stretch/>
        </p:blipFill>
        <p:spPr>
          <a:xfrm>
            <a:off x="2768760" y="2146320"/>
            <a:ext cx="990360" cy="276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9"/>
          <a:stretch/>
        </p:blipFill>
        <p:spPr>
          <a:xfrm>
            <a:off x="3543480" y="298440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10"/>
          <a:stretch/>
        </p:blipFill>
        <p:spPr>
          <a:xfrm>
            <a:off x="6400800" y="3403440"/>
            <a:ext cx="1066680" cy="24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11"/>
          <a:stretch/>
        </p:blipFill>
        <p:spPr>
          <a:xfrm>
            <a:off x="5638680" y="4292640"/>
            <a:ext cx="781200" cy="257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12"/>
          <a:stretch/>
        </p:blipFill>
        <p:spPr>
          <a:xfrm>
            <a:off x="3873600" y="4699080"/>
            <a:ext cx="285480" cy="247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"/>
          <p:cNvPicPr/>
          <p:nvPr/>
        </p:nvPicPr>
        <p:blipFill>
          <a:blip r:embed="rId13"/>
          <a:stretch/>
        </p:blipFill>
        <p:spPr>
          <a:xfrm>
            <a:off x="4267080" y="5118120"/>
            <a:ext cx="1295640" cy="257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"/>
          <p:cNvPicPr/>
          <p:nvPr/>
        </p:nvPicPr>
        <p:blipFill>
          <a:blip r:embed="rId14"/>
          <a:stretch/>
        </p:blipFill>
        <p:spPr>
          <a:xfrm>
            <a:off x="3048120" y="5492880"/>
            <a:ext cx="504720" cy="28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"/>
          <p:cNvPicPr/>
          <p:nvPr/>
        </p:nvPicPr>
        <p:blipFill>
          <a:blip r:embed="rId15"/>
          <a:stretch/>
        </p:blipFill>
        <p:spPr>
          <a:xfrm>
            <a:off x="4292640" y="5905440"/>
            <a:ext cx="102852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438280" y="457200"/>
            <a:ext cx="4059360" cy="77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93720" y="1295280"/>
            <a:ext cx="7916760" cy="3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909720" y="1828800"/>
            <a:ext cx="1681200" cy="38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5"/>
          <a:stretch/>
        </p:blipFill>
        <p:spPr>
          <a:xfrm>
            <a:off x="646200" y="2286000"/>
            <a:ext cx="796428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6"/>
          <a:stretch/>
        </p:blipFill>
        <p:spPr>
          <a:xfrm>
            <a:off x="716040" y="3276720"/>
            <a:ext cx="797076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7"/>
          <a:stretch/>
        </p:blipFill>
        <p:spPr>
          <a:xfrm>
            <a:off x="781200" y="4876920"/>
            <a:ext cx="79819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1735200" cy="3574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533520" y="1365120"/>
            <a:ext cx="8083080" cy="1911240"/>
            <a:chOff x="533520" y="1365120"/>
            <a:chExt cx="8083080" cy="1911240"/>
          </a:xfrm>
        </p:grpSpPr>
        <p:pic>
          <p:nvPicPr>
            <p:cNvPr id="110" name="Picture 5" descr=""/>
            <p:cNvPicPr/>
            <p:nvPr/>
          </p:nvPicPr>
          <p:blipFill>
            <a:blip r:embed="rId3"/>
            <a:stretch/>
          </p:blipFill>
          <p:spPr>
            <a:xfrm>
              <a:off x="533520" y="1365120"/>
              <a:ext cx="8083080" cy="84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"/>
            <p:cNvPicPr/>
            <p:nvPr/>
          </p:nvPicPr>
          <p:blipFill>
            <a:blip r:embed="rId4"/>
            <a:stretch/>
          </p:blipFill>
          <p:spPr>
            <a:xfrm>
              <a:off x="575280" y="2359440"/>
              <a:ext cx="7975800" cy="91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1486080" cy="33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1973160" y="895320"/>
            <a:ext cx="5265720" cy="3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1066680" y="1295280"/>
            <a:ext cx="70581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1"/>
          <p:cNvGrpSpPr/>
          <p:nvPr/>
        </p:nvGrpSpPr>
        <p:grpSpPr>
          <a:xfrm>
            <a:off x="1066680" y="4114800"/>
            <a:ext cx="7038360" cy="2010960"/>
            <a:chOff x="1066680" y="4114800"/>
            <a:chExt cx="7038360" cy="2010960"/>
          </a:xfrm>
        </p:grpSpPr>
        <p:grpSp>
          <p:nvGrpSpPr>
            <p:cNvPr id="116" name="Group 9"/>
            <p:cNvGrpSpPr/>
            <p:nvPr/>
          </p:nvGrpSpPr>
          <p:grpSpPr>
            <a:xfrm>
              <a:off x="1066680" y="4114800"/>
              <a:ext cx="7038360" cy="1591920"/>
              <a:chOff x="1066680" y="4114800"/>
              <a:chExt cx="7038360" cy="1591920"/>
            </a:xfrm>
          </p:grpSpPr>
          <p:pic>
            <p:nvPicPr>
              <p:cNvPr id="117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4114800"/>
                <a:ext cx="7038360" cy="72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8880" y="4983840"/>
                <a:ext cx="6986160" cy="722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9" name="Picture 10" descr=""/>
            <p:cNvPicPr/>
            <p:nvPr/>
          </p:nvPicPr>
          <p:blipFill>
            <a:blip r:embed="rId7"/>
            <a:stretch/>
          </p:blipFill>
          <p:spPr>
            <a:xfrm>
              <a:off x="1083960" y="5843160"/>
              <a:ext cx="3058560" cy="2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286000" y="779400"/>
            <a:ext cx="4067280" cy="82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85800" y="2057400"/>
            <a:ext cx="6831000" cy="35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609480" y="2741760"/>
            <a:ext cx="8010720" cy="243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7537320" y="3292560"/>
            <a:ext cx="2984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84548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5437080" cy="3808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7"/>
          <p:cNvGrpSpPr/>
          <p:nvPr/>
        </p:nvGrpSpPr>
        <p:grpSpPr>
          <a:xfrm>
            <a:off x="609480" y="1149480"/>
            <a:ext cx="8000640" cy="2964960"/>
            <a:chOff x="609480" y="1149480"/>
            <a:chExt cx="8000640" cy="2964960"/>
          </a:xfrm>
        </p:grpSpPr>
        <p:pic>
          <p:nvPicPr>
            <p:cNvPr id="127" name="Picture 5" descr=""/>
            <p:cNvPicPr/>
            <p:nvPr/>
          </p:nvPicPr>
          <p:blipFill>
            <a:blip r:embed="rId3"/>
            <a:stretch/>
          </p:blipFill>
          <p:spPr>
            <a:xfrm>
              <a:off x="609480" y="1149480"/>
              <a:ext cx="8000640" cy="247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"/>
            <p:cNvPicPr/>
            <p:nvPr/>
          </p:nvPicPr>
          <p:blipFill>
            <a:blip r:embed="rId4"/>
            <a:stretch/>
          </p:blipFill>
          <p:spPr>
            <a:xfrm>
              <a:off x="1252440" y="3781080"/>
              <a:ext cx="440496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8" descr=""/>
          <p:cNvPicPr/>
          <p:nvPr/>
        </p:nvPicPr>
        <p:blipFill>
          <a:blip r:embed="rId5"/>
          <a:stretch/>
        </p:blipFill>
        <p:spPr>
          <a:xfrm>
            <a:off x="609480" y="4268880"/>
            <a:ext cx="7863120" cy="1903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6"/>
          <a:stretch/>
        </p:blipFill>
        <p:spPr>
          <a:xfrm>
            <a:off x="5862600" y="1736640"/>
            <a:ext cx="385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joker</cp:lastModifiedBy>
  <dcterms:modified xsi:type="dcterms:W3CDTF">2013-03-15T01:25:40Z</dcterms:modified>
  <cp:revision>7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