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5C1A-4101-43CD-84A3-46E234790E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C45-3B9F-4C3A-83CE-DAE8674B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D85B-054C-4F46-A7F0-C41B0CA2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92A-871C-44B3-AAF3-B8E849A7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5372-B9C6-4D13-B10C-7EC5DC47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78A2-4CE1-4EE3-A48E-C2B49A0A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060-02F4-44CA-AC08-E2F0BF8A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64E-0F46-43F1-BA64-A91ACA86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A0E3-3658-428F-B89E-84A7A9BA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1B9-993B-43CD-8C46-6BB95B8E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5B4-F1B2-4131-93FD-2578A872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29D-99BC-4C24-9250-2FCEE02A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5AA6-34AE-48AC-8D21-FB75C3D2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3A26-95F1-4FD8-A20B-E5098EDDDA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八年级历史下册</a:t>
            </a:r>
            <a:br>
              <a:rPr sz="6600"/>
            </a:b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复习提要</a:t>
            </a:r>
            <a:br>
              <a:rPr sz="6600"/>
            </a:b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单元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五单元 国防建设与外交成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钢铁长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中国陆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陆军现役兵力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，分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军区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北京、沈阳、济南、 南京、广州、兰州、成都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。其中包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8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步兵师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装甲及机械化师、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炮兵师等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陆军装备坦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4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余辆，装甲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余辆，火箭炮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2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余门，直升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余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中国海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国海军现役兵力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人（其中包括海军航空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人，海军岸防部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人，海军陆战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新中国成立前夕，中国人民解放军的第一支海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-----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华东军区海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建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国海军作战单位为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北海舰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东海舰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南海舰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及海军航空兵和海防部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97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研制导弹驱逐艇；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97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研制第一艘核潜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4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三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国空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国空军现役兵力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万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包括战略部队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的防空兵在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956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国产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型歼击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四）中国“第二炮兵”部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33520" y="3573360"/>
            <a:ext cx="447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称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导弹部队 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957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开始组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总兵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备了中程、远程、洲际导弹核武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独立自主的和平外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075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（一）建国初严峻的外交形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宋体"/>
              </a:rPr>
              <a:t>以美国为首的西方阵营对中国的威胁和封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黑体"/>
              </a:rPr>
              <a:t>政治上不承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黑体"/>
              </a:rPr>
              <a:t>经济上禁运封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黑体"/>
              </a:rPr>
              <a:t>军事上武力包围威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二）外交关系的突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新中国的外交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平等、互利、互相尊重领土主权，奉行独立自主的和平外交政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与苏联等国建立外交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新中国成立初同中国建立外交关系有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17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个国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4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9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和平共处五项原则的提出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1953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年，周恩来首次提出；</a:t>
            </a:r>
            <a:br>
              <a:rPr sz="2000"/>
            </a:b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1954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年，得到印、缅认同；</a:t>
            </a:r>
            <a:br>
              <a:rPr sz="2000"/>
            </a:b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）现已成为处理国与国关系的基本准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互相尊重主权和领土完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互不侵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互不干涉内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平等互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和平共处</a:t>
            </a:r>
            <a:br>
              <a:rPr sz="1800"/>
            </a:br>
            <a:r>
              <a:rPr b="1" lang="zh-CN" sz="1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宋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宋体"/>
              </a:rPr>
              <a:t>、日内瓦会议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宋体"/>
              </a:rPr>
              <a:t>1954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宋体"/>
              </a:rPr>
              <a:t>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宋体"/>
              </a:rPr>
              <a:t>                 —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宋体"/>
              </a:rPr>
              <a:t>第一次以五大国身份参加的国际会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宋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宋体"/>
              </a:rPr>
              <a:t>、万隆会议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宋体"/>
              </a:rPr>
              <a:t>1955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宋体"/>
              </a:rPr>
              <a:t>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宋体"/>
              </a:rPr>
              <a:t>                  ——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宋体"/>
              </a:rPr>
              <a:t>求同存异”方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亚非人民团结一致，保卫世界和平，增进各国人民间友谊的精神，称为“万隆精神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1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1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6" dur="2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1" dur="20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阅读下列材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亚非的绝大多数国家和人民，自近代以来起都曾受过，并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现在仍然受着殖民主义所造成的灾难和痛苦。这是我们大家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承认的。从解除殖民主义痛苦和灾难中找共同的基础，我们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很容易互相了解和尊重，互相同情和支持，而不是互相疑虑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恐慌，互相排斥和对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们的会议应该求同存异。会议应该将这些共同愿望和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肯定下来。这是我们中间的主要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周恩来在亚非会议上的讲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回答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亚非会议的特点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第一次没有殖民主义国家参加的亚非国际会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“求同存异”中的“同”应如何理解？“存异”又指的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共同的经历，即受过资本主义国家的殖民掠夺和统治，同时希望解除殖民主义的奴役和灾难。存异指各国可采取不同的社会制度和政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会议的直接影响是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会后，我国与更多的亚非国家建立了外交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外交事业的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)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代初国际形势的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中国国际地位的提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与中国建交的国家达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中苏关系的恶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美国在美苏争霸中转为守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美关系正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乒乓外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基辛格访华（中美关系开始转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尼克松访华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97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年）《中美联合公报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中美建交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979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年）两国关系开始走向正常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中国恢复在联合国的合法席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971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年第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26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77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77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77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9" dur="77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3" dur="77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77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77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77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2" dur="77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6" dur="77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77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3" dur="77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5" dur="77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7" dur="77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77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77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6" dur="77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8" dur="77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77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77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四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与中国建交的热潮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）中国承办亚太经合组织会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00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APEC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会议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新世纪、新挑战：参与、合作，促进共同繁荣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中国迄今举行的规模最大规格最高的多边外交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六）上海合作组织的成立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9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90480" y="620640"/>
            <a:ext cx="26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197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年中日建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六单元  科技教育与文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科学技术的成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中国核武器的研制与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原子弹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964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核导弹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966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年中近程地地导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氢弹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967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年）－－－邓稼先（两弹元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航天技术的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一颗人造地球卫星 —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970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年，东方红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一艘宇宙飞船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999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年神舟一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三）生物技术的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籼型杂交水稻 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97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 杂交水稻之父：袁隆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四）建国后，科学技术得到迅速发展的原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经济的发展，为科学技术的发展提供了物质基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广大科技工作者的热情投入和海外一些中国优秀科学家的纷纷回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民政府重视科技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五）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86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计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4480" y="1197000"/>
            <a:ext cx="89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《关于跟踪世界战略性高科技发展的建议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王大珩、王淦昌、杨嘉墀、陈芳允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邓小平的批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6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计划纲要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技术发展的重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生物技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航天技术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信息技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激光技术、自动化技术、能源技术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新材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海洋高技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计算机网络技术的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四单元 民族团结与祖国统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民族团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一）中国民族分布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以汉族为主体的各民族大杂居、小聚居格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黑体"/>
              </a:rPr>
              <a:t>（二）民族区域自治制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民族聚居的地方，建立民族自治区域和自治机关，由当地民族当家作主，管理本民族地方性的内部事务，行使自治权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你知道我们国家有哪几个省级民族自治区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、新疆维吾尔族自治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、西藏藏族自治区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60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年代初进入社会主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、宁夏回族自治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、内蒙古蒙古族自治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、广西壮族自治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、改革发展中的教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科教兴国的奠基工程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——九年义务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义务教育的“义务”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义务教育是国家为了发展基础教育，强制要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适龄儿童、少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必须接受的国民教育，并要求国家、社会、学校和家庭必须予以保障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高等教育的大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三、百花齐放 百家争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（一）现代文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95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——“百花齐放、百家争鸣”的方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国后著名的文学作品《红旗谱》《红日》《红岩》《青春之歌》 《茶馆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、“文革”以后——反思文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《班主任》 《伤痕》《李自成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茅盾文学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（二）艺术的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（三）体育事业的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、“东亚病夫”的耻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93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，第十届奥运会在美国洛杉矶举行，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中国第一次参加奥运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9900"/>
                </a:solidFill>
                <a:latin typeface="华文中宋"/>
                <a:ea typeface="华文中宋"/>
              </a:rPr>
              <a:t>1936</a:t>
            </a:r>
            <a:r>
              <a:rPr b="1" lang="zh-CN" sz="1800" spc="-1" strike="noStrike">
                <a:solidFill>
                  <a:srgbClr val="009900"/>
                </a:solidFill>
                <a:latin typeface="华文中宋"/>
                <a:ea typeface="华文中宋"/>
              </a:rPr>
              <a:t>年第</a:t>
            </a:r>
            <a:r>
              <a:rPr b="1" lang="zh-CN" sz="1800" spc="-1" strike="noStrike">
                <a:solidFill>
                  <a:srgbClr val="009900"/>
                </a:solidFill>
                <a:latin typeface="华文中宋"/>
                <a:ea typeface="华文中宋"/>
              </a:rPr>
              <a:t>11</a:t>
            </a:r>
            <a:r>
              <a:rPr b="1" lang="zh-CN" sz="1800" spc="-1" strike="noStrike">
                <a:solidFill>
                  <a:srgbClr val="009900"/>
                </a:solidFill>
                <a:latin typeface="华文中宋"/>
                <a:ea typeface="华文中宋"/>
              </a:rPr>
              <a:t>届奥运会在德国柏林举行，中国选派了</a:t>
            </a:r>
            <a:r>
              <a:rPr b="1" lang="zh-CN" sz="1800" spc="-1" strike="noStrike">
                <a:solidFill>
                  <a:srgbClr val="009900"/>
                </a:solidFill>
                <a:latin typeface="华文中宋"/>
                <a:ea typeface="华文中宋"/>
              </a:rPr>
              <a:t>69</a:t>
            </a:r>
            <a:r>
              <a:rPr b="1" lang="zh-CN" sz="1800" spc="-1" strike="noStrike">
                <a:solidFill>
                  <a:srgbClr val="009900"/>
                </a:solidFill>
                <a:latin typeface="华文中宋"/>
                <a:ea typeface="华文中宋"/>
              </a:rPr>
              <a:t>名运动员前往参赛。</a:t>
            </a:r>
            <a:r>
              <a:rPr b="1" lang="zh-CN" sz="1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旧中国最后一次参加奥运会</a:t>
            </a:r>
            <a:r>
              <a:rPr b="1" lang="zh-CN" sz="1800" spc="-1" strike="noStrike">
                <a:solidFill>
                  <a:srgbClr val="009900"/>
                </a:solidFill>
                <a:latin typeface="华文中宋"/>
                <a:ea typeface="华文中宋"/>
              </a:rPr>
              <a:t>是在</a:t>
            </a:r>
            <a:r>
              <a:rPr b="1" lang="zh-CN" sz="1800" spc="-1" strike="noStrike">
                <a:solidFill>
                  <a:srgbClr val="009900"/>
                </a:solidFill>
                <a:latin typeface="华文中宋"/>
                <a:ea typeface="华文中宋"/>
              </a:rPr>
              <a:t>1948</a:t>
            </a:r>
            <a:r>
              <a:rPr b="1" lang="zh-CN" sz="1800" spc="-1" strike="noStrike">
                <a:solidFill>
                  <a:srgbClr val="009900"/>
                </a:solidFill>
                <a:latin typeface="华文中宋"/>
                <a:ea typeface="华文中宋"/>
              </a:rPr>
              <a:t>年。第</a:t>
            </a:r>
            <a:r>
              <a:rPr b="1" lang="zh-CN" sz="1800" spc="-1" strike="noStrike">
                <a:solidFill>
                  <a:srgbClr val="009900"/>
                </a:solidFill>
                <a:latin typeface="华文中宋"/>
                <a:ea typeface="华文中宋"/>
              </a:rPr>
              <a:t>14</a:t>
            </a:r>
            <a:r>
              <a:rPr b="1" lang="zh-CN" sz="1800" spc="-1" strike="noStrike">
                <a:solidFill>
                  <a:srgbClr val="009900"/>
                </a:solidFill>
                <a:latin typeface="华文中宋"/>
                <a:ea typeface="华文中宋"/>
              </a:rPr>
              <a:t>届奥运会在英国伦敦举行，中国派出了</a:t>
            </a:r>
            <a:r>
              <a:rPr b="1" lang="zh-CN" sz="1800" spc="-1" strike="noStrike">
                <a:solidFill>
                  <a:srgbClr val="009900"/>
                </a:solidFill>
                <a:latin typeface="华文中宋"/>
                <a:ea typeface="华文中宋"/>
              </a:rPr>
              <a:t>33</a:t>
            </a:r>
            <a:r>
              <a:rPr b="1" lang="zh-CN" sz="1800" spc="-1" strike="noStrike">
                <a:solidFill>
                  <a:srgbClr val="009900"/>
                </a:solidFill>
                <a:latin typeface="华文中宋"/>
                <a:ea typeface="华文中宋"/>
              </a:rPr>
              <a:t>名运动员参加比赛。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949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年之前，中国运动员参加了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届奥运会，一牌未得。当时一家外国报纸刊出了这样的一幅漫画：奥运五环旗下，一群蓄着长辫、身穿长袍马褂、形容枯槁的中国人，扛着一个硕大无比的鸭蛋，画题为“东亚病夫”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2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、零的突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5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容国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获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届世界乒乓球锦标赛男子单打冠军，成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我国历史上第一个世界冠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中国女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荣获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届世界杯女子排球赛冠军，实现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我国三大球中第一个夺取世界桂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夙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中国参加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届洛杉矶奥运会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许海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男子自选手枪比赛中获得冠军，实现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金牌“零的突破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在这次运动会上中国选手共获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枚金牌。“奥林匹克舞台上出现了一个新的体育大国——中国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3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、走向世界体育强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757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中国近年在奥运会上获得金牌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8360" y="1628640"/>
          <a:ext cx="7931160" cy="3351240"/>
        </p:xfrm>
        <a:graphic>
          <a:graphicData uri="http://schemas.openxmlformats.org/drawingml/2006/table">
            <a:tbl>
              <a:tblPr/>
              <a:tblGrid>
                <a:gridCol w="2643120"/>
                <a:gridCol w="2644920"/>
                <a:gridCol w="2643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美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中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99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年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2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届亚特兰大奥运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20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年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27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届悉尼奥运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200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年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28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届雅典奥运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5013360"/>
            <a:ext cx="3456000" cy="1628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51280" y="5157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舞动的北京”以印章作为主体表现形式，将中国传统的印章和书法等艺术形式与运动特征结合起来，经过艺术手法夸张变形，巧妙地幻化成一个向前奔跑、舞动着迎接胜利的运动人形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七单元人们社会生活的变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四大件的变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的四大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转一响”——缝纫机、自行车、手表、收音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的四大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彩电、冰箱、洗衣机、空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新世纪新四大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手机、电脑、汽车、住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人们衣食住行的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三）就业和社会保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改革开放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分配工作，“铁饭碗”、大锅饭，公费医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改革开放后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持证上岗、公开招聘、医疗养老保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048120" y="380880"/>
            <a:ext cx="3047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黄牛课件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657600" cy="308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30280" y="4572000"/>
            <a:ext cx="702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Verdana"/>
              </a:rPr>
              <a:t>中国首家</a:t>
            </a:r>
            <a:r>
              <a:rPr b="1" lang="zh-CN" sz="2200" spc="-1" strike="noStrike">
                <a:solidFill>
                  <a:srgbClr val="ff0000"/>
                </a:solidFill>
                <a:latin typeface="Verdana"/>
              </a:rPr>
              <a:t>新课标免费</a:t>
            </a:r>
            <a:r>
              <a:rPr b="1" lang="zh-CN" sz="2200" spc="-1" strike="noStrike">
                <a:solidFill>
                  <a:srgbClr val="000066"/>
                </a:solidFill>
                <a:latin typeface="Verdana"/>
              </a:rPr>
              <a:t>资源网（</a:t>
            </a:r>
            <a:r>
              <a:rPr b="1" lang="zh-CN" sz="2200" spc="-1" strike="noStrike">
                <a:solidFill>
                  <a:srgbClr val="ff0000"/>
                </a:solidFill>
                <a:latin typeface="Verdana"/>
              </a:rPr>
              <a:t>不必注册，免费下载</a:t>
            </a:r>
            <a:r>
              <a:rPr b="1" lang="zh-CN" sz="2200" spc="-1" strike="noStrike">
                <a:solidFill>
                  <a:srgbClr val="000066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53341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请记住我们的网址：</a:t>
            </a:r>
            <a:r>
              <a:rPr b="1" lang="zh-CN" sz="1800" spc="-1" strike="noStrike">
                <a:solidFill>
                  <a:srgbClr val="ff0000"/>
                </a:solidFill>
                <a:latin typeface="Verdana"/>
              </a:rPr>
              <a:t>www.kejian123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689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（四）各民族共同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、政府对少数民族的经济支援与资金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人民政府尽一切努力促进各民族共同发展的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少数民族地区的基础设施建设，促进生产发展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展少数民族地区农牧业经济，加大少数民族地区改革开放的力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少数民族地区实行优惠的财政政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少数民族地区发展贸易，照顾少数民族用品生产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帮助少数民族地区脱贫致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F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少数民族地区实行宽于汉族的计划生育政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孔繁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香港和澳门的回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英国和葡萄牙是分别是怎样占据香港与澳门地区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1842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年   《南京条约》割占香港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1860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年    《北京条约》割占九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1898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年       英国租借新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Arial"/>
                <a:ea typeface="黑体"/>
              </a:rPr>
              <a:t>葡萄牙侵占澳门的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55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葡萄牙人借口曝晒水浸货物，强行进入澳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55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葡萄牙通过贿赂明朝官员，取得在澳门的定居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世纪五六十年代，葡萄牙人先后侵占了氹仔岛和路环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二）结合香港的历史和实际情况，想想解决香港问题的途径和方式有哪些？采用这些方式会有什么样的结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武力解决 ： 影响中英、中葡关系的正常发展，伤害港澳人民的生命和财产安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平解决： 有利于港澳的稳定、繁荣、发展，符合人民的心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“一国两制”的构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国家：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国家主权是统一的，不可分割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用：有利于实现祖国的统一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种制度：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在统一的中华人民共和国内，大陆实行社会主义制度，港澳台地区实行资本主义制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用：有利于港澳台地区的稳定、繁荣和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四）香港的回归和澳门的回归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世纪中叶，葡萄牙侵占了澳门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多年前，英国侵占了香港。为什么到了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世纪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9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代，中国能够收回香港和澳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香港自古以来是中国的神圣领土，收回香港得到全国人民的支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中国综合国力的增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一国两制的伟大构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义：香港、澳门回归祖国，中国人民洗雪了百年耻辱，标志着国在完成祖国统一大业的道路上，迈出了重要的一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文鼎特圆"/>
                <a:ea typeface="文鼎特圆"/>
              </a:rPr>
              <a:t>三、海峡两岸的交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（一）海峡两岸同属一个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卫温赴夷洲，元设巡检司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收台湾，清置台湾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（二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党和政府对台湾问题政策的转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新中国成立后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武装解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世纪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年代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和平解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改革开放以后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和平统一、一国两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1995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年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江泽民提出“八项主张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1)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坚持一个中国原则，是实现和平统一的基础和前提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对于台湾同外国发展民间性经济文化关系不持异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进行海峡两岸和平统一谈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4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努力实现和平统一，中国人不打中国人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大力发展两岸经济交流与合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6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华各族儿女共同创造的五千年灿烂文化，是维系全体中国人的精神纽带，也是实现和平统一的一个重要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7)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充分尊重台胞的生活方式和当家作主的愿望，保护台湾一切正当权益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8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欢迎台当局的领导人以适当身份前来访问；也愿意接受台方的邀请，前往台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三）两岸僵局的打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幼圆"/>
                <a:ea typeface="幼圆"/>
              </a:rPr>
              <a:t>A</a:t>
            </a:r>
            <a:r>
              <a:rPr b="1" lang="zh-CN" sz="3200" spc="-1" strike="noStrike">
                <a:solidFill>
                  <a:srgbClr val="6600ff"/>
                </a:solidFill>
                <a:latin typeface="幼圆"/>
                <a:ea typeface="幼圆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台湾当局调整“三不”政策（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1987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年）</a:t>
            </a:r>
            <a:r>
              <a:rPr b="1" lang="zh-CN" sz="3200" spc="-1" strike="noStrike">
                <a:solidFill>
                  <a:srgbClr val="6600ff"/>
                </a:solidFill>
                <a:latin typeface="幼圆"/>
                <a:ea typeface="幼圆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幼圆"/>
                <a:ea typeface="幼圆"/>
              </a:rPr>
              <a:t>B</a:t>
            </a:r>
            <a:r>
              <a:rPr b="1" lang="zh-CN" sz="3200" spc="-1" strike="noStrike">
                <a:solidFill>
                  <a:srgbClr val="6600ff"/>
                </a:solidFill>
                <a:latin typeface="幼圆"/>
                <a:ea typeface="幼圆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九二共识（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1990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台海基；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1991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陆海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幼圆"/>
                <a:ea typeface="幼圆"/>
              </a:rPr>
              <a:t>C</a:t>
            </a:r>
            <a:r>
              <a:rPr b="1" lang="zh-CN" sz="3200" spc="-1" strike="noStrike">
                <a:solidFill>
                  <a:srgbClr val="6600ff"/>
                </a:solidFill>
                <a:latin typeface="幼圆"/>
                <a:ea typeface="幼圆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汪辜会谈（台辜振甫；陆汪道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文鼎古印体"/>
              </a:rPr>
              <a:t>（四）海峡两岸日益密切的交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五）声势浩大的反分裂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2005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年通过《反国家分裂法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4:38:44Z</dcterms:created>
  <dc:creator>csl</dc:creator>
  <dc:description/>
  <dc:language>en-US</dc:language>
  <cp:lastModifiedBy>User</cp:lastModifiedBy>
  <dcterms:modified xsi:type="dcterms:W3CDTF">2015-04-29T01:53:21Z</dcterms:modified>
  <cp:revision>45</cp:revision>
  <dc:subject/>
  <dc:title>八年级历史下册复习纲要 （4－7单元）</dc:title>
</cp:coreProperties>
</file>