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chimes.wav" ContentType="audio/x-wav"/>
  <Override PartName="/ppt/media/drumroll.wav" ContentType="audio/x-wav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15BCC-E1B2-40DE-86D9-8885D1033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95280" y="1855800"/>
            <a:ext cx="822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95280" y="4107240"/>
            <a:ext cx="822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01BFE-A970-4A20-94F8-F3E1089DB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95280" y="185580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12320" y="185580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95280" y="410724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12320" y="410724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2A1B1-4724-4E65-8AF5-8E4AB06DA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95280" y="1855800"/>
            <a:ext cx="264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7720" y="1855800"/>
            <a:ext cx="264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0160" y="1855800"/>
            <a:ext cx="264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95280" y="4107240"/>
            <a:ext cx="264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7720" y="4107240"/>
            <a:ext cx="264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0160" y="4107240"/>
            <a:ext cx="264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D8C72-C4CC-49B1-B3EB-E2144794E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F9BEC-EDA6-41C8-B144-B908B9D89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95280" y="1855800"/>
            <a:ext cx="8229600" cy="430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F49EE-6DB4-4BEB-9CF0-7A4947074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95280" y="1855800"/>
            <a:ext cx="8229600" cy="43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81FDA-26F6-4DC4-AC8F-AB5E3CBBC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95280" y="1855800"/>
            <a:ext cx="4015800" cy="43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12320" y="1855800"/>
            <a:ext cx="4015800" cy="43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33538-CDD6-4573-BE3F-8BEDC2512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7FF00-152B-492E-B335-536DACA16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06080" y="776160"/>
            <a:ext cx="8210520" cy="433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6E355-AE07-4247-B6E4-6EF8CF6CD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95280" y="185580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12320" y="1855800"/>
            <a:ext cx="4015800" cy="43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95280" y="410724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5A4CB-22A4-4462-B9CA-97BCD6575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95280" y="1855800"/>
            <a:ext cx="8229600" cy="430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87F66-DA04-43D4-8005-41F5C97C1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95280" y="1855800"/>
            <a:ext cx="4015800" cy="43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12320" y="185580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12320" y="410724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91B80-B738-47C9-98EB-DD2280AB3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95280" y="185580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12320" y="185580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95280" y="4107240"/>
            <a:ext cx="822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58CC9-B6EE-4BB8-BA89-FE68381B6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95280" y="1855800"/>
            <a:ext cx="822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95280" y="4107240"/>
            <a:ext cx="822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C56D5-6663-4867-8263-EF066E625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95280" y="185580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12320" y="185580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95280" y="410724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12320" y="410724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51C22-EDCF-4F52-BFAD-0C56825B6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95280" y="1855800"/>
            <a:ext cx="264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7720" y="1855800"/>
            <a:ext cx="264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0160" y="1855800"/>
            <a:ext cx="264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95280" y="4107240"/>
            <a:ext cx="264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7720" y="4107240"/>
            <a:ext cx="264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0160" y="4107240"/>
            <a:ext cx="264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5953E-552E-4BD3-801E-B348F6FD3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95280" y="1855800"/>
            <a:ext cx="8229600" cy="43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6B60D-23C1-43AD-A3B5-B2FD8D160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95280" y="1855800"/>
            <a:ext cx="4015800" cy="43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12320" y="1855800"/>
            <a:ext cx="4015800" cy="43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14833-142C-4B91-A066-BC5608E7D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7325E-0428-47AE-88F1-1A9F1A29D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06080" y="776160"/>
            <a:ext cx="8210520" cy="433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29BE3-4D3D-4139-815A-7CAF49D0A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95280" y="185580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12320" y="1855800"/>
            <a:ext cx="4015800" cy="43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95280" y="410724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40A4E-29C9-4A25-96C3-5BA550CEF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95280" y="1855800"/>
            <a:ext cx="4015800" cy="43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12320" y="185580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12320" y="410724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9594B-3386-4944-9B5B-717DF80E6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95280" y="185580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12320" y="185580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95280" y="4107240"/>
            <a:ext cx="822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D6EE2-0724-4D7F-B6BB-B25626C38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Rounded MT Bold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95280" y="1855800"/>
            <a:ext cx="8229600" cy="43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DB96E-1529-490D-B990-47D707731FC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1866600"/>
            <a:ext cx="7772400" cy="14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Rounded MT Bol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B0B58-184E-4681-83D0-AD3279ED12C2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 Rounded MT Bold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 Rounded MT Bold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audio" Target="../media/drumroll.wav"/><Relationship Id="rId4" Type="http://schemas.openxmlformats.org/officeDocument/2006/relationships/audio" Target="../media/drumroll.wav"/><Relationship Id="rId5" Type="http://schemas.openxmlformats.org/officeDocument/2006/relationships/audio" Target="../media/drumroll.wav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73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3" name=""/>
          <p:cNvSpPr/>
          <p:nvPr/>
        </p:nvSpPr>
        <p:spPr>
          <a:xfrm>
            <a:off x="301680" y="685800"/>
            <a:ext cx="8540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cc9900"/>
                </a:solidFill>
                <a:uFillTx/>
                <a:latin typeface="黑体"/>
                <a:ea typeface="黑体"/>
              </a:rPr>
              <a:t>人教版八年级下册第</a:t>
            </a:r>
            <a:r>
              <a:rPr b="1" lang="en-US" sz="2800" spc="-1" strike="noStrike" u="sng">
                <a:solidFill>
                  <a:srgbClr val="cc9900"/>
                </a:solidFill>
                <a:uFillTx/>
                <a:latin typeface="黑体"/>
                <a:ea typeface="黑体"/>
              </a:rPr>
              <a:t>13</a:t>
            </a:r>
            <a:r>
              <a:rPr b="1" lang="zh-CN" sz="2800" spc="-1" strike="noStrike" u="sng">
                <a:solidFill>
                  <a:srgbClr val="cc9900"/>
                </a:solidFill>
                <a:uFillTx/>
                <a:latin typeface="黑体"/>
                <a:ea typeface="黑体"/>
              </a:rPr>
              <a:t>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1258920" y="2492280"/>
            <a:ext cx="662472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cap="rnd"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黑体"/>
              </a:rPr>
              <a:t>海峡两岸的交往</a:t>
            </a:r>
            <a:endParaRPr b="1" lang="en-US" sz="4800" spc="1" strike="noStrike">
              <a:ln cap="rnd"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黑体"/>
              <a:ea typeface="黑体"/>
            </a:endParaRPr>
          </a:p>
        </p:txBody>
      </p:sp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611280" y="9079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67299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08000" y="1179360"/>
            <a:ext cx="4819680" cy="556272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24000" y="439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00"/>
                </a:solidFill>
                <a:latin typeface="Arial Black"/>
              </a:rPr>
              <a:t>我们拥有一个名字叫中国</a:t>
            </a: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655360" y="1341000"/>
            <a:ext cx="85410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00"/>
                </a:solidFill>
                <a:latin typeface="Arial Rounded MT Bold"/>
              </a:rPr>
              <a:t>一把黄土塑成千万个你我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00"/>
                </a:solidFill>
                <a:latin typeface="Arial Rounded MT Bold"/>
              </a:rPr>
              <a:t>静脉是长城     动脉是黄河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00"/>
                </a:solidFill>
                <a:latin typeface="Arial Rounded MT Bold"/>
              </a:rPr>
              <a:t>五千年的文化是生生不息的脉搏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00"/>
                </a:solidFill>
                <a:latin typeface="Arial Rounded MT Bold"/>
              </a:rPr>
              <a:t>提醒你     提醒我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00"/>
                </a:solidFill>
                <a:latin typeface="Arial Rounded MT Bold"/>
              </a:rPr>
              <a:t>我们拥有一个名字叫中国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00"/>
                </a:solidFill>
                <a:latin typeface="Arial Rounded MT Bold"/>
              </a:rPr>
              <a:t>再大的风雨我们都见过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00"/>
                </a:solidFill>
                <a:latin typeface="Arial Rounded MT Bold"/>
              </a:rPr>
              <a:t>再苦的逆境我们同熬过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00"/>
                </a:solidFill>
                <a:latin typeface="Arial Rounded MT Bold"/>
              </a:rPr>
              <a:t>就是民族的气节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00"/>
                </a:solidFill>
                <a:latin typeface="Arial Rounded MT Bold"/>
              </a:rPr>
              <a:t>就是泱泱的气节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00"/>
                </a:solidFill>
                <a:latin typeface="Arial Rounded MT Bold"/>
              </a:rPr>
              <a:t>从来没变过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00"/>
                </a:solidFill>
                <a:latin typeface="Arial Rounded MT Bold"/>
              </a:rPr>
              <a:t>手牵手     什么也别说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00"/>
                </a:solidFill>
                <a:latin typeface="Arial Rounded MT Bold"/>
              </a:rPr>
              <a:t>哪怕沉默都是歌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00"/>
                </a:solidFill>
                <a:latin typeface="Arial Rounded MT Bold"/>
              </a:rPr>
              <a:t>因为我们拥有一个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00"/>
                </a:solidFill>
                <a:latin typeface="Arial Rounded MT Bold"/>
              </a:rPr>
              <a:t>名字叫中国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826920" y="7650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 txBox="1"/>
          <p:nvPr/>
        </p:nvSpPr>
        <p:spPr>
          <a:xfrm>
            <a:off x="-252360" y="4508640"/>
            <a:ext cx="882000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愿祖国早日实现统一！更加繁荣昌盛！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0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6" dur="226402" fill="hold"/>
                                        <p:tgtEl>
                                          <p:spTgt spid="1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9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2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2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1" dur="20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29">
                                  <p:stCondLst>
                                    <p:cond delay="900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20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20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6" dur="20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29">
                                  <p:stCondLst>
                                    <p:cond delay="1300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20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20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1" dur="20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29">
                                  <p:stCondLst>
                                    <p:cond delay="1900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20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6" dur="20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9">
                                  <p:stCondLst>
                                    <p:cond delay="2400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20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20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1" dur="2000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29">
                                  <p:stCondLst>
                                    <p:cond delay="3100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20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20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6" dur="2000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29">
                                  <p:stCondLst>
                                    <p:cond delay="3700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2000" fill="hold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2000" fill="hold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1" dur="2000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29">
                                  <p:stCondLst>
                                    <p:cond delay="4200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2000" fill="hold"/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2000" fill="hold"/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6" dur="2000"/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29">
                                  <p:stCondLst>
                                    <p:cond delay="4400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2000" fill="hold"/>
                                        <p:tgtEl>
                                          <p:spTgt spid="1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2000" fill="hold"/>
                                        <p:tgtEl>
                                          <p:spTgt spid="1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1" dur="2000"/>
                                        <p:tgtEl>
                                          <p:spTgt spid="1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29">
                                  <p:stCondLst>
                                    <p:cond delay="4800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2000" fill="hold"/>
                                        <p:tgtEl>
                                          <p:spTgt spid="1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2000" fill="hold"/>
                                        <p:tgtEl>
                                          <p:spTgt spid="1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6" dur="2000"/>
                                        <p:tgtEl>
                                          <p:spTgt spid="1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29">
                                  <p:stCondLst>
                                    <p:cond delay="5300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2000" fill="hold"/>
                                        <p:tgtEl>
                                          <p:spTgt spid="1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2000" fill="hold"/>
                                        <p:tgtEl>
                                          <p:spTgt spid="1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1" dur="2000"/>
                                        <p:tgtEl>
                                          <p:spTgt spid="1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29">
                                  <p:stCondLst>
                                    <p:cond delay="5800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2000" fill="hold"/>
                                        <p:tgtEl>
                                          <p:spTgt spid="1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2000" fill="hold"/>
                                        <p:tgtEl>
                                          <p:spTgt spid="1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6" dur="2000"/>
                                        <p:tgtEl>
                                          <p:spTgt spid="1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29">
                                  <p:stCondLst>
                                    <p:cond delay="5900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2000" fill="hold"/>
                                        <p:tgtEl>
                                          <p:spTgt spid="1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2000" fill="hold"/>
                                        <p:tgtEl>
                                          <p:spTgt spid="1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1" dur="2000"/>
                                        <p:tgtEl>
                                          <p:spTgt spid="1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9">
                                  <p:stCondLst>
                                    <p:cond delay="6000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2000" fill="hold"/>
                                        <p:tgtEl>
                                          <p:spTgt spid="15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2000" fill="hold"/>
                                        <p:tgtEl>
                                          <p:spTgt spid="15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6" dur="2000"/>
                                        <p:tgtEl>
                                          <p:spTgt spid="15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xit" presetID="5" presetSubtype="5">
                                  <p:stCondLst>
                                    <p:cond delay="83000"/>
                                  </p:stCondLst>
                                  <p:childTnLst>
                                    <p:animEffect filter="checkerboard(down)" transition="out">
                                      <p:cBhvr additive="repl">
                                        <p:cTn id="368" dur="20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0" nodeType="withEffect" fill="hold" presetClass="exit" presetID="5" presetSubtype="5">
                                  <p:stCondLst>
                                    <p:cond delay="90000"/>
                                  </p:stCondLst>
                                  <p:childTnLst>
                                    <p:animEffect filter="checkerboard(down)" transition="out">
                                      <p:cBhvr additive="repl">
                                        <p:cTn id="371" dur="20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nodeType="withEffect" fill="hold" presetClass="exit" presetID="5" presetSubtype="5">
                                  <p:stCondLst>
                                    <p:cond delay="90000"/>
                                  </p:stCondLst>
                                  <p:childTnLst>
                                    <p:animEffect filter="checkerboard(down)" transition="out">
                                      <p:cBhvr additive="repl">
                                        <p:cTn id="374" dur="20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6" nodeType="withEffect" fill="hold" presetClass="exit" presetID="5" presetSubtype="5">
                                  <p:stCondLst>
                                    <p:cond delay="90000"/>
                                  </p:stCondLst>
                                  <p:childTnLst>
                                    <p:animEffect filter="checkerboard(down)" transition="out">
                                      <p:cBhvr additive="repl">
                                        <p:cTn id="377" dur="20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" nodeType="withEffect" fill="hold" presetClass="exit" presetID="5" presetSubtype="5">
                                  <p:stCondLst>
                                    <p:cond delay="90000"/>
                                  </p:stCondLst>
                                  <p:childTnLst>
                                    <p:animEffect filter="checkerboard(down)" transition="out">
                                      <p:cBhvr additive="repl">
                                        <p:cTn id="380" dur="2000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2" nodeType="withEffect" fill="hold" presetClass="exit" presetID="5" presetSubtype="5">
                                  <p:stCondLst>
                                    <p:cond delay="90000"/>
                                  </p:stCondLst>
                                  <p:childTnLst>
                                    <p:animEffect filter="checkerboard(down)" transition="out">
                                      <p:cBhvr additive="repl">
                                        <p:cTn id="383" dur="2000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5" nodeType="withEffect" fill="hold" presetClass="exit" presetID="5" presetSubtype="5">
                                  <p:stCondLst>
                                    <p:cond delay="90000"/>
                                  </p:stCondLst>
                                  <p:childTnLst>
                                    <p:animEffect filter="checkerboard(down)" transition="out">
                                      <p:cBhvr additive="repl">
                                        <p:cTn id="386" dur="2000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8" nodeType="withEffect" fill="hold" presetClass="exit" presetID="5" presetSubtype="5">
                                  <p:stCondLst>
                                    <p:cond delay="90000"/>
                                  </p:stCondLst>
                                  <p:childTnLst>
                                    <p:animEffect filter="checkerboard(down)" transition="out">
                                      <p:cBhvr additive="repl">
                                        <p:cTn id="389" dur="2000"/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1" nodeType="withEffect" fill="hold" presetClass="exit" presetID="5" presetSubtype="5">
                                  <p:stCondLst>
                                    <p:cond delay="90000"/>
                                  </p:stCondLst>
                                  <p:childTnLst>
                                    <p:animEffect filter="checkerboard(down)" transition="out">
                                      <p:cBhvr additive="repl">
                                        <p:cTn id="392" dur="2000"/>
                                        <p:tgtEl>
                                          <p:spTgt spid="1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4" nodeType="withEffect" fill="hold" presetClass="exit" presetID="5" presetSubtype="5">
                                  <p:stCondLst>
                                    <p:cond delay="90000"/>
                                  </p:stCondLst>
                                  <p:childTnLst>
                                    <p:animEffect filter="checkerboard(down)" transition="out">
                                      <p:cBhvr additive="repl">
                                        <p:cTn id="395" dur="2000"/>
                                        <p:tgtEl>
                                          <p:spTgt spid="1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7" nodeType="withEffect" fill="hold" presetClass="exit" presetID="5" presetSubtype="5">
                                  <p:stCondLst>
                                    <p:cond delay="90000"/>
                                  </p:stCondLst>
                                  <p:childTnLst>
                                    <p:animEffect filter="checkerboard(down)" transition="out">
                                      <p:cBhvr additive="repl">
                                        <p:cTn id="398" dur="2000"/>
                                        <p:tgtEl>
                                          <p:spTgt spid="1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0" nodeType="withEffect" fill="hold" presetClass="exit" presetID="5" presetSubtype="5">
                                  <p:stCondLst>
                                    <p:cond delay="90000"/>
                                  </p:stCondLst>
                                  <p:childTnLst>
                                    <p:animEffect filter="checkerboard(down)" transition="out">
                                      <p:cBhvr additive="repl">
                                        <p:cTn id="401" dur="2000"/>
                                        <p:tgtEl>
                                          <p:spTgt spid="1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3" nodeType="withEffect" fill="hold" presetClass="exit" presetID="5" presetSubtype="5">
                                  <p:stCondLst>
                                    <p:cond delay="90000"/>
                                  </p:stCondLst>
                                  <p:childTnLst>
                                    <p:animEffect filter="checkerboard(down)" transition="out">
                                      <p:cBhvr additive="repl">
                                        <p:cTn id="404" dur="2000"/>
                                        <p:tgtEl>
                                          <p:spTgt spid="1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6" nodeType="withEffect" fill="hold" presetClass="exit" presetID="5" presetSubtype="5">
                                  <p:stCondLst>
                                    <p:cond delay="90000"/>
                                  </p:stCondLst>
                                  <p:childTnLst>
                                    <p:animEffect filter="checkerboard(down)" transition="out">
                                      <p:cBhvr additive="repl">
                                        <p:cTn id="407" dur="2000"/>
                                        <p:tgtEl>
                                          <p:spTgt spid="15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9" restart="whenNotActive" nodeType="interactiveSeq" fill="hold">
                <p:stCondLst>
                  <p:cond evt="onClick">
                    <p:tgtEl>
                      <p:spTgt spid="154"/>
                    </p:tgtEl>
                  </p:cond>
                </p:stCondLst>
                <p:childTnLst>
                  <p:par>
                    <p:cTn id="410" fill="hold">
                      <p:stCondLst>
                        <p:cond evt="onClick">
                          <p:tgtEl>
                            <p:spTgt spid="154"/>
                          </p:tgtEl>
                        </p:cond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afterEffect" fill="hold" presetClass="entr" presetID="51">
                                  <p:stCondLst>
                                    <p:cond delay="9200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77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5" dur="770" fill="hold"/>
                                        <p:tgtEl>
                                          <p:spTgt spid="15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17" dur="77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19" dur="77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361440" cy="7021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1116000" y="1231920"/>
            <a:ext cx="2158920" cy="36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</a:rPr>
              <a:t>回眸历史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68360" y="2060280"/>
            <a:ext cx="3672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 Rounded MT Bold"/>
              </a:rPr>
              <a:t>台湾问题的形成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0" name=""/>
          <p:cNvSpPr/>
          <p:nvPr/>
        </p:nvSpPr>
        <p:spPr>
          <a:xfrm>
            <a:off x="1823400" y="2997360"/>
            <a:ext cx="53985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、内战遗留问题（</a:t>
            </a:r>
            <a:r>
              <a:rPr b="0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1949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年，中国人民解放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推翻国民党政府，国民党败逃盘踞台湾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39640" y="4724280"/>
            <a:ext cx="7632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隶书"/>
                <a:ea typeface="隶书"/>
              </a:rPr>
              <a:t>2</a:t>
            </a:r>
            <a:r>
              <a:rPr b="0" lang="zh-CN" sz="3000" spc="-1" strike="noStrike">
                <a:solidFill>
                  <a:srgbClr val="000000"/>
                </a:solidFill>
                <a:latin typeface="隶书"/>
                <a:ea typeface="隶书"/>
              </a:rPr>
              <a:t>、反华势力介入（</a:t>
            </a:r>
            <a:r>
              <a:rPr b="0" lang="en-US" sz="3000" spc="-1" strike="noStrike">
                <a:solidFill>
                  <a:srgbClr val="000000"/>
                </a:solidFill>
                <a:latin typeface="隶书"/>
                <a:ea typeface="隶书"/>
              </a:rPr>
              <a:t>1950</a:t>
            </a:r>
            <a:r>
              <a:rPr b="0" lang="zh-CN" sz="3000" spc="-1" strike="noStrike">
                <a:solidFill>
                  <a:srgbClr val="000000"/>
                </a:solidFill>
                <a:latin typeface="隶书"/>
                <a:ea typeface="隶书"/>
              </a:rPr>
              <a:t>年，美国派第七舰队阻止人民解放军解放台湾。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11280" y="1197000"/>
            <a:ext cx="358560" cy="431640"/>
          </a:xfrm>
          <a:custGeom>
            <a:avLst/>
            <a:gdLst>
              <a:gd name="textAreaLeft" fmla="*/ 147600 w 358560"/>
              <a:gd name="textAreaRight" fmla="*/ 210960 w 358560"/>
              <a:gd name="textAreaTop" fmla="*/ 177840 h 431640"/>
              <a:gd name="textAreaBottom" fmla="*/ 253800 h 431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394920" y="1989000"/>
            <a:ext cx="453708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、结合课文  完成表格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116000" y="1231920"/>
            <a:ext cx="2158920" cy="36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</a:rPr>
              <a:t>关注现状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隶书"/>
              <a:ea typeface="隶书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395280" y="2781360"/>
          <a:ext cx="8424720" cy="3583080"/>
        </p:xfrm>
        <a:graphic>
          <a:graphicData uri="http://schemas.openxmlformats.org/drawingml/2006/table">
            <a:tbl>
              <a:tblPr/>
              <a:tblGrid>
                <a:gridCol w="3159000"/>
                <a:gridCol w="1754280"/>
                <a:gridCol w="3511440"/>
              </a:tblGrid>
              <a:tr h="45972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党和政府对台湾问题的政策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时        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领导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政策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新中国成立之初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20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世纪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50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年代中期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改革开放以后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6" name=""/>
          <p:cNvSpPr/>
          <p:nvPr/>
        </p:nvSpPr>
        <p:spPr>
          <a:xfrm>
            <a:off x="3635280" y="3933720"/>
            <a:ext cx="165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0000"/>
                </a:solidFill>
                <a:latin typeface="黑体"/>
                <a:ea typeface="黑体"/>
              </a:rPr>
              <a:t>毛泽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851280" y="458136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0000"/>
                </a:solidFill>
                <a:latin typeface="黑体"/>
                <a:ea typeface="黑体"/>
              </a:rPr>
              <a:t>邓小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940360" y="1413000"/>
            <a:ext cx="1008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635280" y="508464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0000"/>
                </a:solidFill>
                <a:latin typeface="黑体"/>
                <a:ea typeface="黑体"/>
              </a:rPr>
              <a:t>江泽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851280" y="5734080"/>
            <a:ext cx="11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0000"/>
                </a:solidFill>
                <a:latin typeface="黑体"/>
                <a:ea typeface="黑体"/>
              </a:rPr>
              <a:t>胡锦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867280" y="3645000"/>
            <a:ext cx="23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0000"/>
                </a:solidFill>
                <a:latin typeface="黑体"/>
                <a:ea typeface="黑体"/>
              </a:rPr>
              <a:t>武装解放台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435640" y="4149720"/>
            <a:ext cx="32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0000"/>
                </a:solidFill>
                <a:latin typeface="黑体"/>
                <a:ea typeface="黑体"/>
              </a:rPr>
              <a:t>和平解放 “和为上计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27640" y="501336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0000"/>
                </a:solidFill>
                <a:latin typeface="黑体"/>
                <a:ea typeface="黑体"/>
              </a:rPr>
              <a:t>八项主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292720" y="551664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0000"/>
                </a:solidFill>
                <a:latin typeface="黑体"/>
                <a:ea typeface="黑体"/>
              </a:rPr>
              <a:t>四点意见          </a:t>
            </a:r>
            <a:r>
              <a:rPr b="0" lang="en-US" sz="2400" spc="-1" strike="noStrike">
                <a:solidFill>
                  <a:srgbClr val="990000"/>
                </a:solidFill>
                <a:latin typeface="黑体"/>
                <a:ea typeface="黑体"/>
              </a:rPr>
              <a:t>《</a:t>
            </a:r>
            <a:r>
              <a:rPr b="0" lang="zh-CN" sz="2400" spc="-1" strike="noStrike">
                <a:solidFill>
                  <a:srgbClr val="990000"/>
                </a:solidFill>
                <a:latin typeface="黑体"/>
                <a:ea typeface="黑体"/>
              </a:rPr>
              <a:t>反分裂国家法</a:t>
            </a:r>
            <a:r>
              <a:rPr b="0" lang="en-US" sz="2400" spc="-1" strike="noStrike">
                <a:solidFill>
                  <a:srgbClr val="990000"/>
                </a:solidFill>
                <a:latin typeface="黑体"/>
                <a:ea typeface="黑体"/>
              </a:rPr>
              <a:t>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076720" y="4581360"/>
            <a:ext cx="37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0000"/>
                </a:solidFill>
                <a:latin typeface="黑体"/>
                <a:ea typeface="黑体"/>
              </a:rPr>
              <a:t>和平统一 一国两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11280" y="1197000"/>
            <a:ext cx="358560" cy="431640"/>
          </a:xfrm>
          <a:custGeom>
            <a:avLst/>
            <a:gdLst>
              <a:gd name="textAreaLeft" fmla="*/ 147600 w 358560"/>
              <a:gd name="textAreaRight" fmla="*/ 210960 w 358560"/>
              <a:gd name="textAreaTop" fmla="*/ 177840 h 431640"/>
              <a:gd name="textAreaBottom" fmla="*/ 253800 h 431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" dur="2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" dur="8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" dur="8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" dur="8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" dur="80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" dur="80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" dur="80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" dur="80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1" dur="80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" dur="80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7" dur="8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8" dur="8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" dur="8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4" dur="8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5" dur="8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" dur="8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1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2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3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324000" y="907920"/>
            <a:ext cx="4038480" cy="7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、海峡两岸话交往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826920" y="1557360"/>
            <a:ext cx="6840720" cy="513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0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1" restart="whenNotActive" nodeType="interactiveSeq" fill="hold">
                <p:stCondLst>
                  <p:cond evt="onClick">
                    <p:tgtEl>
                      <p:spTgt spid="108"/>
                    </p:tgtEl>
                  </p:cond>
                </p:stCondLst>
                <p:childTnLst>
                  <p:par>
                    <p:cTn id="112" fill="hold">
                      <p:stCondLst>
                        <p:cond evt="onClick">
                          <p:tgtEl>
                            <p:spTgt spid="108"/>
                          </p:tgtEl>
                        </p:cond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5" dur="1" fill="hold"/>
                                        <p:tgtEl>
                                          <p:spTgt spid="1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24000" y="2205000"/>
            <a:ext cx="790560" cy="3024360"/>
          </a:xfrm>
          <a:prstGeom prst="rect">
            <a:avLst/>
          </a:prstGeom>
          <a:noFill/>
          <a:ln w="6048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990099"/>
                </a:solidFill>
                <a:latin typeface="隶书"/>
                <a:ea typeface="隶书"/>
              </a:rPr>
              <a:t>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990099"/>
                </a:solidFill>
                <a:latin typeface="隶书"/>
                <a:ea typeface="隶书"/>
              </a:rPr>
              <a:t>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990099"/>
                </a:solidFill>
                <a:latin typeface="隶书"/>
                <a:ea typeface="隶书"/>
              </a:rPr>
              <a:t>抢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990099"/>
                </a:solidFill>
                <a:latin typeface="隶书"/>
                <a:ea typeface="隶书"/>
              </a:rPr>
              <a:t>答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258920" y="1944720"/>
            <a:ext cx="874872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99"/>
                </a:solidFill>
                <a:latin typeface="Arial"/>
              </a:rPr>
              <a:t>1.</a:t>
            </a:r>
            <a:r>
              <a:rPr b="1" lang="zh-CN" sz="2400" spc="-1" strike="noStrike">
                <a:solidFill>
                  <a:srgbClr val="990099"/>
                </a:solidFill>
                <a:latin typeface="Arial"/>
              </a:rPr>
              <a:t>“</a:t>
            </a:r>
            <a:r>
              <a:rPr b="1" lang="zh-CN" sz="2400" spc="-1" strike="noStrike">
                <a:solidFill>
                  <a:srgbClr val="990099"/>
                </a:solidFill>
                <a:latin typeface="Arial"/>
              </a:rPr>
              <a:t>一国两制”的出发点是维护： （    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99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990099"/>
                </a:solidFill>
                <a:latin typeface="Arial"/>
              </a:rPr>
              <a:t>A</a:t>
            </a:r>
            <a:r>
              <a:rPr b="1" lang="zh-CN" sz="2400" spc="-1" strike="noStrike">
                <a:solidFill>
                  <a:srgbClr val="990099"/>
                </a:solidFill>
                <a:latin typeface="Arial"/>
              </a:rPr>
              <a:t>台湾的根本利益       </a:t>
            </a:r>
            <a:r>
              <a:rPr b="1" lang="en-US" sz="2400" spc="-1" strike="noStrike">
                <a:solidFill>
                  <a:srgbClr val="990099"/>
                </a:solidFill>
                <a:latin typeface="Arial"/>
              </a:rPr>
              <a:t>B</a:t>
            </a:r>
            <a:r>
              <a:rPr b="1" lang="zh-CN" sz="2400" spc="-1" strike="noStrike">
                <a:solidFill>
                  <a:srgbClr val="990099"/>
                </a:solidFill>
                <a:latin typeface="Arial"/>
              </a:rPr>
              <a:t>香港、澳门的根本利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99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990099"/>
                </a:solidFill>
                <a:latin typeface="Arial"/>
              </a:rPr>
              <a:t>C</a:t>
            </a:r>
            <a:r>
              <a:rPr b="1" lang="zh-CN" sz="2400" spc="-1" strike="noStrike">
                <a:solidFill>
                  <a:srgbClr val="990099"/>
                </a:solidFill>
                <a:latin typeface="Arial"/>
              </a:rPr>
              <a:t>大陆的根本利益       </a:t>
            </a:r>
            <a:r>
              <a:rPr b="1" lang="en-US" sz="2400" spc="-1" strike="noStrike">
                <a:solidFill>
                  <a:srgbClr val="990099"/>
                </a:solidFill>
                <a:latin typeface="Arial"/>
              </a:rPr>
              <a:t>D</a:t>
            </a:r>
            <a:r>
              <a:rPr b="1" lang="zh-CN" sz="2400" spc="-1" strike="noStrike">
                <a:solidFill>
                  <a:srgbClr val="990099"/>
                </a:solidFill>
                <a:latin typeface="Arial"/>
              </a:rPr>
              <a:t>祖国和中华民族的根本利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90099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796000" y="1944720"/>
            <a:ext cx="93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971640" y="3673440"/>
            <a:ext cx="676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99"/>
                </a:solidFill>
                <a:latin typeface="Arial"/>
              </a:rPr>
              <a:t>2. “</a:t>
            </a:r>
            <a:r>
              <a:rPr b="1" lang="zh-CN" sz="2400" spc="-1" strike="noStrike">
                <a:solidFill>
                  <a:srgbClr val="990099"/>
                </a:solidFill>
                <a:latin typeface="Arial"/>
              </a:rPr>
              <a:t>一国两制”构想首先成功运用于：（    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99"/>
                </a:solidFill>
                <a:latin typeface="Arial"/>
              </a:rPr>
              <a:t>A</a:t>
            </a:r>
            <a:r>
              <a:rPr b="1" lang="zh-CN" sz="2400" spc="-1" strike="noStrike">
                <a:solidFill>
                  <a:srgbClr val="990099"/>
                </a:solidFill>
                <a:latin typeface="Arial"/>
              </a:rPr>
              <a:t>台湾      </a:t>
            </a:r>
            <a:r>
              <a:rPr b="1" lang="en-US" sz="2400" spc="-1" strike="noStrike">
                <a:solidFill>
                  <a:srgbClr val="990099"/>
                </a:solidFill>
                <a:latin typeface="Arial"/>
              </a:rPr>
              <a:t>B</a:t>
            </a:r>
            <a:r>
              <a:rPr b="1" lang="zh-CN" sz="2400" spc="-1" strike="noStrike">
                <a:solidFill>
                  <a:srgbClr val="990099"/>
                </a:solidFill>
                <a:latin typeface="Arial"/>
              </a:rPr>
              <a:t>香港      </a:t>
            </a:r>
            <a:r>
              <a:rPr b="1" lang="en-US" sz="2400" spc="-1" strike="noStrike">
                <a:solidFill>
                  <a:srgbClr val="990099"/>
                </a:solidFill>
                <a:latin typeface="Arial"/>
              </a:rPr>
              <a:t>C</a:t>
            </a:r>
            <a:r>
              <a:rPr b="1" lang="zh-CN" sz="2400" spc="-1" strike="noStrike">
                <a:solidFill>
                  <a:srgbClr val="990099"/>
                </a:solidFill>
                <a:latin typeface="Arial"/>
              </a:rPr>
              <a:t>澳门      </a:t>
            </a:r>
            <a:r>
              <a:rPr b="1" lang="en-US" sz="2400" spc="-1" strike="noStrike">
                <a:solidFill>
                  <a:srgbClr val="990099"/>
                </a:solidFill>
                <a:latin typeface="Arial"/>
              </a:rPr>
              <a:t>D</a:t>
            </a:r>
            <a:r>
              <a:rPr b="1" lang="zh-CN" sz="2400" spc="-1" strike="noStrike">
                <a:solidFill>
                  <a:srgbClr val="990099"/>
                </a:solidFill>
                <a:latin typeface="Arial"/>
              </a:rPr>
              <a:t>威海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443640" y="364500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4000" y="5062680"/>
            <a:ext cx="7921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99"/>
                </a:solidFill>
                <a:latin typeface="Arial"/>
              </a:rPr>
              <a:t>         </a:t>
            </a:r>
            <a:r>
              <a:rPr b="1" lang="en-US" sz="2400" spc="-1" strike="noStrike">
                <a:solidFill>
                  <a:srgbClr val="990099"/>
                </a:solidFill>
                <a:latin typeface="Arial"/>
              </a:rPr>
              <a:t>3. “</a:t>
            </a:r>
            <a:r>
              <a:rPr b="1" lang="zh-CN" sz="2400" spc="-1" strike="noStrike">
                <a:solidFill>
                  <a:srgbClr val="990099"/>
                </a:solidFill>
                <a:latin typeface="Arial"/>
              </a:rPr>
              <a:t>一国两制”最早是为解决（      ）问题提出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99"/>
                </a:solidFill>
                <a:latin typeface="Arial"/>
              </a:rPr>
              <a:t>A</a:t>
            </a:r>
            <a:r>
              <a:rPr b="1" lang="zh-CN" sz="2400" spc="-1" strike="noStrike">
                <a:solidFill>
                  <a:srgbClr val="990099"/>
                </a:solidFill>
                <a:latin typeface="Arial"/>
              </a:rPr>
              <a:t>香港      </a:t>
            </a:r>
            <a:r>
              <a:rPr b="1" lang="en-US" sz="2400" spc="-1" strike="noStrike">
                <a:solidFill>
                  <a:srgbClr val="990099"/>
                </a:solidFill>
                <a:latin typeface="Arial"/>
              </a:rPr>
              <a:t>B</a:t>
            </a:r>
            <a:r>
              <a:rPr b="1" lang="zh-CN" sz="2400" spc="-1" strike="noStrike">
                <a:solidFill>
                  <a:srgbClr val="990099"/>
                </a:solidFill>
                <a:latin typeface="Arial"/>
              </a:rPr>
              <a:t>澳门      </a:t>
            </a:r>
            <a:r>
              <a:rPr b="1" lang="en-US" sz="2400" spc="-1" strike="noStrike">
                <a:solidFill>
                  <a:srgbClr val="990099"/>
                </a:solidFill>
                <a:latin typeface="Arial"/>
              </a:rPr>
              <a:t>C</a:t>
            </a:r>
            <a:r>
              <a:rPr b="1" lang="zh-CN" sz="2400" spc="-1" strike="noStrike">
                <a:solidFill>
                  <a:srgbClr val="990099"/>
                </a:solidFill>
                <a:latin typeface="Arial"/>
              </a:rPr>
              <a:t>台湾      </a:t>
            </a:r>
            <a:r>
              <a:rPr b="1" lang="en-US" sz="2400" spc="-1" strike="noStrike">
                <a:solidFill>
                  <a:srgbClr val="990099"/>
                </a:solidFill>
                <a:latin typeface="Arial"/>
              </a:rPr>
              <a:t>D</a:t>
            </a:r>
            <a:r>
              <a:rPr b="1" lang="zh-CN" sz="2400" spc="-1" strike="noStrike">
                <a:solidFill>
                  <a:srgbClr val="990099"/>
                </a:solidFill>
                <a:latin typeface="Arial"/>
              </a:rPr>
              <a:t>西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99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932360" y="508464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388680" y="100008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99"/>
                </a:solidFill>
                <a:latin typeface="Arial"/>
              </a:rPr>
              <a:t>第一轮：选择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1238400" y="1855800"/>
            <a:ext cx="8229600" cy="43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0099"/>
                </a:solidFill>
                <a:latin typeface="Arial Rounded MT Bold"/>
              </a:rPr>
              <a:t>海峡两岸的发展迈出了              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0099"/>
                </a:solidFill>
                <a:latin typeface="Arial Rounded MT Bold"/>
              </a:rPr>
              <a:t>历史性的重要一步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0099"/>
                </a:solidFill>
                <a:latin typeface="Arial Rounded MT Bold"/>
              </a:rPr>
              <a:t>新时期推进祖国和平统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0099"/>
                </a:solidFill>
                <a:latin typeface="Arial Rounded MT Bold"/>
              </a:rPr>
              <a:t>一进程的指导思想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99"/>
                </a:solidFill>
                <a:latin typeface="Arial Rounded MT Bold"/>
              </a:rPr>
              <a:t>2005</a:t>
            </a:r>
            <a:r>
              <a:rPr b="0" lang="zh-CN" sz="3200" spc="-1" strike="noStrike">
                <a:solidFill>
                  <a:srgbClr val="990099"/>
                </a:solidFill>
                <a:latin typeface="Arial Rounded MT Bold"/>
              </a:rPr>
              <a:t>年连战、宋楚瑜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0099"/>
                </a:solidFill>
                <a:latin typeface="Arial Rounded MT Bold"/>
              </a:rPr>
              <a:t>访问大陆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18" name=""/>
          <p:cNvSpPr/>
          <p:nvPr/>
        </p:nvSpPr>
        <p:spPr>
          <a:xfrm>
            <a:off x="324000" y="2205000"/>
            <a:ext cx="790560" cy="3024360"/>
          </a:xfrm>
          <a:prstGeom prst="rect">
            <a:avLst/>
          </a:prstGeom>
          <a:noFill/>
          <a:ln w="6048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990099"/>
                </a:solidFill>
                <a:latin typeface="隶书"/>
                <a:ea typeface="隶书"/>
              </a:rPr>
              <a:t>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990099"/>
                </a:solidFill>
                <a:latin typeface="隶书"/>
                <a:ea typeface="隶书"/>
              </a:rPr>
              <a:t>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990099"/>
                </a:solidFill>
                <a:latin typeface="隶书"/>
                <a:ea typeface="隶书"/>
              </a:rPr>
              <a:t>抢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990099"/>
                </a:solidFill>
                <a:latin typeface="隶书"/>
                <a:ea typeface="隶书"/>
              </a:rPr>
              <a:t>答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819520" y="100008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99"/>
                </a:solidFill>
                <a:latin typeface="Arial"/>
              </a:rPr>
              <a:t>第二轮：连线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258920" y="1844640"/>
            <a:ext cx="4176720" cy="1079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258920" y="3429000"/>
            <a:ext cx="4176720" cy="1079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260360" y="5013360"/>
            <a:ext cx="4248360" cy="115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332480" y="1916280"/>
            <a:ext cx="1155960" cy="58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0099"/>
                </a:solidFill>
                <a:latin typeface="Arial"/>
              </a:rPr>
              <a:t>和平之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32480" y="3560760"/>
            <a:ext cx="1155960" cy="58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0099"/>
                </a:solidFill>
                <a:latin typeface="Arial"/>
              </a:rPr>
              <a:t>汪辜会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346880" y="5229360"/>
            <a:ext cx="1155960" cy="58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0099"/>
                </a:solidFill>
                <a:latin typeface="Arial"/>
              </a:rPr>
              <a:t>八项主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580000" y="2421000"/>
            <a:ext cx="1224000" cy="143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580000" y="4005360"/>
            <a:ext cx="1224000" cy="151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5651640" y="2637000"/>
            <a:ext cx="1296720" cy="29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9640" y="1125360"/>
            <a:ext cx="2159280" cy="360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</a:rPr>
              <a:t>展望未来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30" name=""/>
          <p:cNvSpPr/>
          <p:nvPr/>
        </p:nvSpPr>
        <p:spPr>
          <a:xfrm>
            <a:off x="179280" y="1052640"/>
            <a:ext cx="358920" cy="431640"/>
          </a:xfrm>
          <a:custGeom>
            <a:avLst/>
            <a:gdLst>
              <a:gd name="textAreaLeft" fmla="*/ 147960 w 358920"/>
              <a:gd name="textAreaRight" fmla="*/ 210960 w 358920"/>
              <a:gd name="textAreaTop" fmla="*/ 177840 h 431640"/>
              <a:gd name="textAreaBottom" fmla="*/ 253800 h 431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124000" y="1744560"/>
            <a:ext cx="6769080" cy="51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 Rounded MT Bold"/>
                <a:ea typeface="黑体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Arial Rounded MT Bold"/>
                <a:ea typeface="黑体"/>
              </a:rPr>
              <a:t>材料：“春风犹化千层雪，海水流连两岸断。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  <a:ea typeface="黑体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  <a:ea typeface="黑体"/>
              </a:rPr>
              <a:t>2005</a:t>
            </a:r>
            <a:r>
              <a:rPr b="0" lang="zh-CN" sz="2000" spc="-1" strike="noStrike">
                <a:solidFill>
                  <a:srgbClr val="000000"/>
                </a:solidFill>
                <a:latin typeface="Arial Rounded MT Bold"/>
                <a:ea typeface="黑体"/>
              </a:rPr>
              <a:t>年随着连战，宋楚瑜访问大陆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  <a:ea typeface="黑体"/>
              </a:rPr>
              <a:t>——“</a:t>
            </a:r>
            <a:r>
              <a:rPr b="0" lang="zh-CN" sz="2000" spc="-1" strike="noStrike">
                <a:solidFill>
                  <a:srgbClr val="000000"/>
                </a:solidFill>
                <a:latin typeface="Arial Rounded MT Bold"/>
                <a:ea typeface="黑体"/>
              </a:rPr>
              <a:t>和平之旅”“搭桥之旅”“历史性握手”成为国人最热门的话题，热情的网民为此写了一首诗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 Rounded MT Bold"/>
                <a:ea typeface="黑体"/>
              </a:rPr>
              <a:t>            </a:t>
            </a:r>
            <a:r>
              <a:rPr b="0" lang="zh-CN" sz="2000" spc="-1" strike="noStrike">
                <a:solidFill>
                  <a:srgbClr val="000000"/>
                </a:solidFill>
                <a:latin typeface="Arial Rounded MT Bold"/>
                <a:ea typeface="黑体"/>
              </a:rPr>
              <a:t>紧紧相握的双手，推开了冰封六十年的大门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 Rounded MT Bold"/>
                <a:ea typeface="黑体"/>
              </a:rPr>
              <a:t>            </a:t>
            </a:r>
            <a:r>
              <a:rPr b="0" lang="zh-CN" sz="2000" spc="-1" strike="noStrike">
                <a:solidFill>
                  <a:srgbClr val="000000"/>
                </a:solidFill>
                <a:latin typeface="Arial Rounded MT Bold"/>
                <a:ea typeface="黑体"/>
              </a:rPr>
              <a:t>和平搭桥之旅，注入了互信双赢的春天气息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 Rounded MT Bold"/>
                <a:ea typeface="黑体"/>
              </a:rPr>
              <a:t>            </a:t>
            </a:r>
            <a:r>
              <a:rPr b="0" lang="zh-CN" sz="2000" spc="-1" strike="noStrike">
                <a:solidFill>
                  <a:srgbClr val="000000"/>
                </a:solidFill>
                <a:latin typeface="Arial Rounded MT Bold"/>
                <a:ea typeface="黑体"/>
              </a:rPr>
              <a:t>背井离乡的骨肉同胞啊，何时才能踏上回家的路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 Rounded MT Bold"/>
                <a:ea typeface="黑体"/>
              </a:rPr>
              <a:t> </a:t>
            </a:r>
            <a:r>
              <a:rPr b="0" lang="zh-CN" sz="2000" spc="-1" strike="noStrike">
                <a:solidFill>
                  <a:srgbClr val="000099"/>
                </a:solidFill>
                <a:latin typeface="Arial Rounded MT Bold"/>
                <a:ea typeface="黑体"/>
              </a:rPr>
              <a:t>请你感悟小诗意蕴，评说社会热点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99"/>
                </a:solidFill>
                <a:latin typeface="Arial Rounded MT Bold"/>
                <a:ea typeface="黑体"/>
              </a:rPr>
              <a:t>       </a:t>
            </a:r>
            <a:r>
              <a:rPr b="0" lang="zh-CN" sz="2000" spc="-1" strike="noStrike">
                <a:solidFill>
                  <a:srgbClr val="000099"/>
                </a:solidFill>
                <a:latin typeface="Arial Rounded MT Bold"/>
                <a:ea typeface="黑体"/>
              </a:rPr>
              <a:t>感悟（</a:t>
            </a:r>
            <a:r>
              <a:rPr b="0" lang="en-US" sz="2000" spc="-1" strike="noStrike">
                <a:solidFill>
                  <a:srgbClr val="000099"/>
                </a:solidFill>
                <a:latin typeface="Arial Rounded MT Bold"/>
                <a:ea typeface="黑体"/>
              </a:rPr>
              <a:t>1</a:t>
            </a:r>
            <a:r>
              <a:rPr b="0" lang="zh-CN" sz="2000" spc="-1" strike="noStrike">
                <a:solidFill>
                  <a:srgbClr val="000099"/>
                </a:solidFill>
                <a:latin typeface="Arial Rounded MT Bold"/>
                <a:ea typeface="黑体"/>
              </a:rPr>
              <a:t>）“背井离乡的骨肉同胞啊，何时才能踏上回家的路？”这沉甸甸的发问表达了海峡两岸同胞的什么共同心愿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99"/>
                </a:solidFill>
                <a:latin typeface="Arial Rounded MT Bold"/>
                <a:ea typeface="黑体"/>
              </a:rPr>
              <a:t>       </a:t>
            </a:r>
            <a:r>
              <a:rPr b="0" lang="zh-CN" sz="2000" spc="-1" strike="noStrike">
                <a:solidFill>
                  <a:srgbClr val="000099"/>
                </a:solidFill>
                <a:latin typeface="Arial Rounded MT Bold"/>
                <a:ea typeface="黑体"/>
              </a:rPr>
              <a:t>感悟（</a:t>
            </a:r>
            <a:r>
              <a:rPr b="0" lang="en-US" sz="2000" spc="-1" strike="noStrike">
                <a:solidFill>
                  <a:srgbClr val="000099"/>
                </a:solidFill>
                <a:latin typeface="Arial Rounded MT Bold"/>
                <a:ea typeface="黑体"/>
              </a:rPr>
              <a:t>2</a:t>
            </a:r>
            <a:r>
              <a:rPr b="0" lang="zh-CN" sz="2000" spc="-1" strike="noStrike">
                <a:solidFill>
                  <a:srgbClr val="000099"/>
                </a:solidFill>
                <a:latin typeface="Arial Rounded MT Bold"/>
                <a:ea typeface="黑体"/>
              </a:rPr>
              <a:t>）“踏上回家的路”实现祖国的完全统一是谁也抵挡不了的。请你说明理由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8101080" y="623736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3" restart="whenNotActive" nodeType="interactiveSeq" fill="hold">
                <p:stCondLst>
                  <p:cond evt="onClick">
                    <p:tgtEl>
                      <p:spTgt spid="132"/>
                    </p:tgtEl>
                  </p:cond>
                </p:stCondLst>
                <p:childTnLst>
                  <p:par>
                    <p:cTn id="184" fill="hold">
                      <p:stCondLst>
                        <p:cond evt="onClick">
                          <p:tgtEl>
                            <p:spTgt spid="132"/>
                          </p:tgtEl>
                        </p:cond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7" dur="180036" fill="hold"/>
                                        <p:tgtEl>
                                          <p:spTgt spid="1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3059280" y="2565360"/>
            <a:ext cx="2663640" cy="2736720"/>
          </a:xfrm>
          <a:prstGeom prst="ellipse">
            <a:avLst/>
          </a:prstGeom>
          <a:noFill/>
          <a:ln w="1015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908000" y="3933720"/>
            <a:ext cx="1009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692360" y="357336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隶书"/>
              </a:rPr>
              <a:t>促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4000" y="371628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隶书"/>
              </a:rPr>
              <a:t>两岸交往</a:t>
            </a:r>
            <a:r>
              <a:rPr b="0" lang="zh-CN" sz="1800" spc="-1" strike="noStrike">
                <a:solidFill>
                  <a:srgbClr val="99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095640" y="1841040"/>
            <a:ext cx="504720" cy="874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 flipV="1">
            <a:off x="5040360" y="5225040"/>
            <a:ext cx="504720" cy="874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3240000" y="5294880"/>
            <a:ext cx="505080" cy="874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5256360" y="1841040"/>
            <a:ext cx="504720" cy="874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5866920" y="3933720"/>
            <a:ext cx="1009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276720" y="198900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隶书"/>
              </a:rPr>
              <a:t>推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979640" y="134136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隶书"/>
              </a:rPr>
              <a:t>对台政策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076720" y="140652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隶书"/>
              </a:rPr>
              <a:t>同根文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948360" y="378936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隶书"/>
              </a:rPr>
              <a:t>台湾同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003640" y="6237360"/>
            <a:ext cx="17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隶书"/>
              </a:rPr>
              <a:t>综合国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268360" y="623736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隶书"/>
              </a:rPr>
              <a:t>两岸人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292720" y="206064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隶书"/>
              </a:rPr>
              <a:t>认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867280" y="3573360"/>
            <a:ext cx="11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隶书"/>
              </a:rPr>
              <a:t>支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148360" y="544500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隶书"/>
              </a:rPr>
              <a:t>奠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484360" y="5516640"/>
            <a:ext cx="11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隶书"/>
              </a:rPr>
              <a:t>渴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276720" y="3141720"/>
            <a:ext cx="2160360" cy="1587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祖国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统一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9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0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9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3T15:38:46Z</dcterms:created>
  <dc:creator>公爵</dc:creator>
  <dc:description/>
  <cp:keywords/>
  <dc:language>en-US</dc:language>
  <cp:lastModifiedBy>User</cp:lastModifiedBy>
  <cp:lastPrinted>1899-12-30T00:00:00Z</cp:lastPrinted>
  <dcterms:modified xsi:type="dcterms:W3CDTF">2015-04-21T00:41:30Z</dcterms:modified>
  <cp:revision>82</cp:revision>
  <dc:subject/>
  <dc:title>欲善其教育    先利其装备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3.0.1705</vt:lpwstr>
  </property>
</Properties>
</file>