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24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2.gif" ContentType="image/gif"/>
  <Override PartName="/ppt/media/image18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59.png" ContentType="image/png"/>
  <Override PartName="/ppt/media/image56.gif" ContentType="image/gif"/>
  <Override PartName="/ppt/media/image66.jpeg" ContentType="image/jpeg"/>
  <Override PartName="/ppt/media/image11.png" ContentType="image/png"/>
  <Override PartName="/ppt/media/image9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42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E6C-4DD7-4CA0-AC15-69136A6D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1B2-0777-4DAF-B69D-5676693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539-275D-4027-8305-01E7049C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DFB-39F5-4A1E-991F-5F8569A3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372-FEC1-4964-BCC5-89B7BAD6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E02-F406-4688-8BED-4AC8F383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0DB-ED83-411D-A2EF-0DCEDB82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E65-1C3E-4B4C-999D-C62BE223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CA4-BE09-49D7-A59D-3020CBD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BAE-9ABA-4066-80CD-B7E8EC80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105-D301-4012-8C8D-54901C7E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7D8-060C-4622-9E72-A3B768FD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0ADB-D99D-42C1-B0F9-5DA001DE94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jpe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3149640" cy="4267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743200" y="685800"/>
            <a:ext cx="310500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396252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709720" cy="39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629400" y="0"/>
            <a:ext cx="2492280" cy="350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0"/>
            <a:ext cx="67057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第五课   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三面红旗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0492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二、“大跃进”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17324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、“大跃进”的发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84560" y="175248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——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年赶超英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960" y="2682720"/>
            <a:ext cx="81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分指标，十二分措施，二十四分干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342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敢教日月换新天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3740040" cy="5410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780080" y="609480"/>
            <a:ext cx="372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584280"/>
            <a:ext cx="8534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5662800" cy="6019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679080" y="2971800"/>
            <a:ext cx="115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全面开展大跃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73480" cy="6476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29200" y="541008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放卫星”成为全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最时髦的用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521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08040" y="5881680"/>
            <a:ext cx="72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各地纷纷以虚假的高指标、高纪录相夸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5600" y="0"/>
            <a:ext cx="6602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700040" y="2057400"/>
            <a:ext cx="6678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农业的“巨大成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543800" cy="5166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69360" y="5791320"/>
            <a:ext cx="322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958</a:t>
            </a: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年，河南襄城人民公社员大翻“卫星田”深达一丈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4707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739116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516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99120" y="5551560"/>
            <a:ext cx="32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徽省枞阳县一块号称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亩产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.6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万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“卫星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66680" y="76320"/>
            <a:ext cx="685800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280" y="0"/>
            <a:ext cx="27511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14800" y="152280"/>
            <a:ext cx="4224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741240"/>
            <a:ext cx="80773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6781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9880" y="3267000"/>
            <a:ext cx="5238720" cy="3514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67080" y="685800"/>
            <a:ext cx="51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稻谷赶黄豆，黄豆像地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芝麻裹玉米，玉米有人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花生像山芋，山芋超冬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477120" y="3505320"/>
            <a:ext cx="2130480" cy="3124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762120"/>
            <a:ext cx="6705720" cy="4343400"/>
          </a:xfrm>
          <a:prstGeom prst="cloudCallout">
            <a:avLst>
              <a:gd name="adj1" fmla="val 42967"/>
              <a:gd name="adj2" fmla="val 58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7920" y="1676520"/>
            <a:ext cx="701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中国的农业问题已经完全解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应该以“农业逼工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8560" y="30160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农业以粮为纲，工业以钢为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钢铁挂帅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2578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1958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年钢产量从原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620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万吨提高至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10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万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325760" y="-76320"/>
            <a:ext cx="4818240" cy="74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 rot="21297000">
            <a:off x="2598480" y="75960"/>
            <a:ext cx="349884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5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全民大炼钢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33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8077320" cy="5573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33520" y="1143000"/>
            <a:ext cx="822960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33520" y="1143000"/>
            <a:ext cx="8229600" cy="559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1523880"/>
            <a:ext cx="929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底，全国钢铁冶炼的劳动力是几十万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达几百万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人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底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达到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9000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万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即全国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八分一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人口都在专职炼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040" y="3589200"/>
            <a:ext cx="839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国各地农村建立的炼钢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小高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1000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余万座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兴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“土法炼钢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可谓奇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05200" y="2309760"/>
            <a:ext cx="3333600" cy="2238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7620120" cy="511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 rot="10777200">
            <a:off x="2057040" y="5932440"/>
            <a:ext cx="67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北京市居民捐献家中铁制用具送去炼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5486400" cy="5340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345200" y="59580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毛主席在中南海观看机关干部炼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428920" cy="3047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476800" cy="2971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222912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019920" y="3809880"/>
            <a:ext cx="210636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666880" y="1600200"/>
            <a:ext cx="3254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-380880"/>
            <a:ext cx="93726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400" y="0"/>
            <a:ext cx="4732200" cy="6019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848120" y="1295280"/>
            <a:ext cx="4295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489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6096240" cy="6315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81280" y="3809880"/>
            <a:ext cx="6069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载重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5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491000" cy="6400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95840" y="152280"/>
            <a:ext cx="5195880" cy="6477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64832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大跃进”时赛诗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成了一大时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33520" y="533520"/>
            <a:ext cx="7924680" cy="5073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021920" y="58816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往展览会送“除四害战利品”的车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556080" cy="5232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3556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1360" y="320760"/>
            <a:ext cx="64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“大跃进”的心态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268800">
            <a:off x="2819160" y="1676520"/>
            <a:ext cx="56005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彩云"/>
              </a:rPr>
              <a:t>“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彩云"/>
              </a:rPr>
              <a:t>大跃进”为什么会发生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8080" y="304920"/>
            <a:ext cx="5791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彩云"/>
              </a:rPr>
              <a:t>“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彩云"/>
              </a:rPr>
              <a:t>大跃进”为什么会发生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6462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最直接的源头，是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1955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年以来经济领域的冒进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7680" y="2452680"/>
            <a:ext cx="86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跃进的背后，是强烈的使命感和急于求成的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062160"/>
            <a:ext cx="45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穷”是跃进的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440" y="3733920"/>
            <a:ext cx="915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中共和毛泽东乃至全国人民或多或少存在过于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心理。这很大程度上来自中共对人的主观能动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过分夸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149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武器是战争的重要因素，但不是决定因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决定的因素是人，而不是物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9960" y="608472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有了人，什么人间奇迹都可以创造出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040" y="304920"/>
            <a:ext cx="72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三、人民公社化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             ——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跑步进入共产主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587760" cy="4800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818240" y="1600200"/>
            <a:ext cx="3411360" cy="4800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8381880" y="45720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5790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577800"/>
            <a:ext cx="76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一、社会主义建设总路线的制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040" y="1447920"/>
            <a:ext cx="61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中共八大的正确决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2880" y="1447920"/>
            <a:ext cx="7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P27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303048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67080" y="5029200"/>
            <a:ext cx="58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八大的决策，是探索建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社会主义道路的良好开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4572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人民公社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360" y="1295280"/>
            <a:ext cx="87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织特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——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大二公，政社合一，多级管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3400" y="26258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彩云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彩云"/>
              </a:rPr>
              <a:t>一大二公”：规模大，公有化程度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35200"/>
            <a:ext cx="79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彩云"/>
              </a:rPr>
              <a:t>政社合一：既是生产单位，又是农村基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彩云"/>
              </a:rPr>
              <a:t>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彩云"/>
              </a:rPr>
              <a:t>政权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4880" y="480060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彩云"/>
              </a:rPr>
              <a:t>多级管理：生产队  </a:t>
            </a:r>
            <a:r>
              <a:rPr b="1" lang="zh-CN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彩云"/>
              </a:rPr>
              <a:t>  大队  </a:t>
            </a:r>
            <a:r>
              <a:rPr b="1" lang="zh-CN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彩云"/>
              </a:rPr>
              <a:t>  公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产上统一经营，集中劳动，多干少干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质区别。公社普遍兴办公共食堂、幼儿园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发室、公共浴室、农业中学等，把农民引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体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693432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4572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人民公社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360" y="1295280"/>
            <a:ext cx="87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织特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——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大二公，政社合一，多级管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4382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产上统一经营，集中劳动，多干少干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质区别。公社普遍兴办公共食堂、幼儿园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发室、公共浴室、农业中学等，把农民引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体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3280" y="48132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配上实行供给制和工资制相结合的办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否认“多劳多得”“按劳分配”的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-1371600" y="0"/>
            <a:ext cx="49608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038480" y="2590920"/>
            <a:ext cx="49532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95280" y="457200"/>
            <a:ext cx="6553440" cy="5119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55680" y="5867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元里人民公社的农民游行队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648320" y="-38160"/>
            <a:ext cx="44956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62120" y="82440"/>
            <a:ext cx="761976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80880"/>
            <a:ext cx="55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“跑步进入共产主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6248520" cy="4519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838080" y="1371600"/>
            <a:ext cx="7162920" cy="4737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85800" y="1219320"/>
            <a:ext cx="7391520" cy="4887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87520" y="6186600"/>
            <a:ext cx="60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徐水人民公社，修建的熔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85800" y="1219320"/>
            <a:ext cx="7315200" cy="488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057400" y="6172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徐水人民公社，大炼钢铁的场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685800" y="1219320"/>
            <a:ext cx="7391520" cy="485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2895480" y="990720"/>
            <a:ext cx="3521160" cy="5257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2895480" y="990720"/>
            <a:ext cx="3240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4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3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380880"/>
            <a:ext cx="55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“跑步进入共产主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7524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两年进入共产主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三年丰衣足食，五年内向共产主义过渡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大战两百天，过渡到共产主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1360" y="48744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冒进 —— 反冒进 —— 反反冒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523880"/>
            <a:ext cx="37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冒进风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6286800">
            <a:off x="6642000" y="1807920"/>
            <a:ext cx="647640" cy="914400"/>
          </a:xfrm>
          <a:prstGeom prst="uturnArrow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8335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少奇、周恩来、陈云等提出“反冒进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51240" y="332100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人民日报社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《要反对保守主义，也要反对急躁情绪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6286800">
            <a:off x="6794280" y="4324320"/>
            <a:ext cx="647640" cy="914400"/>
          </a:xfrm>
          <a:prstGeom prst="uturnArrow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5272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毛泽东决定“反反冒进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349200"/>
            <a:ext cx="59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四、成就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·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模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149640" cy="4267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581280" y="1111320"/>
            <a:ext cx="68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邓稼先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4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——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弹元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4572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581280" y="22860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雷锋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40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6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——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国人民的榜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3276720" cy="4190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641760" y="3436920"/>
            <a:ext cx="512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进喜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3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7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——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28600" y="1295280"/>
            <a:ext cx="3209760" cy="4648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657600" y="4503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焦裕禄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2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6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党的好干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3251160" cy="457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657600" y="5410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秀丽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33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6186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农业学大寨”“工业学大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4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490760"/>
            <a:ext cx="46483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五风狂吹”：高指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瞎指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浮夸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共产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干部特殊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强迫命令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43689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28600"/>
            <a:ext cx="6781680" cy="4952880"/>
          </a:xfrm>
          <a:prstGeom prst="wedgeRoundRectCallout">
            <a:avLst>
              <a:gd name="adj1" fmla="val 41314"/>
              <a:gd name="adj2" fmla="val 670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2143080" cy="293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98560" y="5475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促退委员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21932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反冒进是“寻寻觅觅，冷冷清清，凄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惨惨戚戚”；反反冒进是“轰轰烈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高高兴兴，不尽长江滚滚来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757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经济建设必须快快快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505320"/>
            <a:ext cx="92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要相信人的力量，没有做不到，只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想不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45720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总路线的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9880" y="533520"/>
            <a:ext cx="7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1958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447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八大二次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981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鼓足干劲，力争上游，多快好省建设社会主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2143080" cy="293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2971800"/>
            <a:ext cx="4572000" cy="2819520"/>
          </a:xfrm>
          <a:prstGeom prst="wedgeRoundRectCallout">
            <a:avLst>
              <a:gd name="adj1" fmla="val 51773"/>
              <a:gd name="adj2" fmla="val 6064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30280" y="3397320"/>
            <a:ext cx="475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破除迷信，解放思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敢想敢说，敢作敢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46623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革命加拼命，无往而不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二、“大跃进”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             ——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一跃千里？一泻千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8272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、“大跃进”的发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84560" y="231624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——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年赶超英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0866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软件仓库</cp:lastModifiedBy>
  <dcterms:modified xsi:type="dcterms:W3CDTF">2004-01-22T01:13:15Z</dcterms:modified>
  <cp:revision>1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