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D61-9948-4E3A-B5EF-1F3F3629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AF0-04F5-48D7-92E7-635CE281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A73DB-3B76-4597-9270-5584BD50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979D7-BB23-4F54-AAA2-07A814D9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6B401-A641-46BF-BA1B-0BF1D3E2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007BD-FAE1-4ADA-B478-EBB99229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588DC-D55D-474B-8040-3C881F13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6FAAE-1CFE-40DC-BBAD-2E551B47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481F8-B5E3-483F-8682-74F64AFD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984DB-3E21-4EF8-B6B5-98E5CC03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A346F-7D80-4F3D-845B-ADF3A6FE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795-350E-4B0C-932F-135E569D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A4B-7320-422F-81C1-99A522EA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4F11-2762-460F-AC49-07649ABF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6CE0-B1E6-4570-B8AA-50E1C8F4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1E47-AE62-401C-AE0F-2F56B9EA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9AE0-27D4-4775-9429-2324B0EC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2123-B440-44EC-96CF-0E60CFD9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D83B-91EC-42EE-B3C0-14EB6731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FFDA-1583-42EC-A509-0E7660DB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A0D-99F6-471B-88F1-17F34275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82CF-0757-4066-ABD4-AFC0E471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94DB-4BFB-4A7C-8DFE-0A86908B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9C98-6EA8-4A35-99E0-5137FABE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468E-5B2F-4A1B-A52B-6976DAE8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FD95-9F7F-428B-8B9F-DDA34129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9E0B-F0A4-402C-BC48-176B1C33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BB8C-F8AF-47EA-8A8B-8156C822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E791B-028F-4868-A9EE-CE80B1FD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9332-F04B-48FD-ADE0-7791D503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85F21-3C5F-4192-94A4-52BB004E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387-F3BF-4798-B679-0EE26A20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985D-B101-4D50-9A15-1710E74B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4B83-1305-4A06-BBC1-0B2ACEC9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95042-87F7-499A-A1BF-F183D14B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CF954-FBDF-48EF-8170-74A309BE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D559-F5AA-4644-B26A-6AAE4308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2ACB4-3BAB-44F2-B149-69173857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F24D-9F3A-45A2-AC9A-3B11FB11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E4B4-6242-40A0-B36A-958C9F79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A76A-26F0-4C9B-B3AE-3B41DA69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545D-2EFB-4BBA-987E-121C5FE6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679-EFD0-4868-80EE-3A279010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B80D2-99BE-47C0-B2DF-0C91C9CC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B71D3-597B-4385-8FAF-92513A9C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498DB-8126-4FA5-A8FA-2EE2CFD1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98925-A4A0-444C-87D1-29D5471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2E550-ECAB-4FB9-A3AB-4E73BA5F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97AF-5C3A-48A5-8BB5-F0D0BAF7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5864D-8D6C-4753-ADF1-C94E012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D207A-EBA2-47DE-B39E-14F6CA7D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9E06D-3F81-45E2-99C7-75F64401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D3387-6D3C-49D1-BCEE-4DC0A897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E1D-8FD5-4937-8E22-D70F4219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9DFF8-8885-4C79-8656-3F971C25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8A727-6AE7-4113-B839-8E152BD7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2E1BF-DC2C-42C7-A63A-98B89B02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84D07-2935-4360-90DD-160BF24A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798E7-790D-4BB1-8372-B528C2AF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94BCD-834E-4376-8ECE-B3000A52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EB549-6FF4-4970-BB60-CD23B9D9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9CE73-60F0-4783-919E-C2BB8A3E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B94EF-1837-4F2E-8527-AE76DC23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B688-E86A-46A9-8F21-F4CA5F44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E00-51D7-46E6-9313-70166EAF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CAF3F-75D6-4619-9295-98250D73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45CE-0DA0-493F-9F39-D9129792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A3B3C-4A28-4616-93EF-C58C1CFF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8E149-3333-455F-9860-62172F8C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E694A-76E2-4501-926D-CE59DE4B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67BE9-3BDB-420E-A0EF-0765E7AE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F9ACD-A7F2-4F96-902C-747D2127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A8EC4-F5FB-44C3-96A2-5683130E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595D1-ADB9-4589-AA08-A29D0789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5605D-9EE0-4CD6-AD63-52994AAE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73A-1C58-4C2F-988C-A1AF96E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C5FAD-A09B-448D-BE6A-63145355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9692C-03E4-4B3E-8E76-5F7EA9F2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3F69-C171-4A03-BE07-3FD09AD6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94A3D-7FFC-4D25-8DD1-DE6FCDF3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B9587-1BA2-4D9C-8732-9E6AF82B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4CBBA-12C4-419E-803E-46385CBD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A076A-322E-4B18-B3B1-B353AE24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58F8-F4DC-4CD6-B183-1648E579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0753C-7285-46D1-B6D0-52DB9A4F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1AB27-09E3-4375-B1DF-E6C1DD9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729-9DBE-473B-89D2-AF6F6B19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780FD-7B41-4DC2-A766-E52F60E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684FA-890F-41C7-A0CF-B0AEE7C0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F4C89-CB3A-4789-BFDB-EC066B78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D2C02-515B-44D8-91C0-F5DC34CD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34FB2-079A-4C1A-B54D-5EC10397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EDB7A-06D5-4066-A714-A84FC2AB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B8FE8-C99E-4B88-82D5-F2828E1F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B81B4-FAE1-4B02-9F0C-EFC5917C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2F72D-5493-4225-81A1-34E76710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25677-B7FE-4995-BE41-3A5DE471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7D08-01EF-49A8-A160-864ABA9D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E8068-29B4-4E73-80BF-DF77DD1D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E419D-7741-4731-B0EC-C4724B0F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428D89-EC77-4AB9-B6C5-BBB24AC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A9D91-A747-40A6-9A4A-B212D187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04872-8E8C-4899-8FEF-224D5F35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FAD57-2F90-4445-8116-9CA11F9B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5DD98-7D8C-4395-80BC-236B5AEB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8D232-37C5-4D14-A29B-63D1264B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4ADB6-14DA-4459-9C7C-238004B3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EC8BF-598C-409A-8101-88090273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CF02-9D5D-4A79-935E-A77DB91181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0DC2-263A-40CB-9B80-86CCDFD2547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91B8-3EFD-4327-A28F-43D40EF3CC5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00280" y="105264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080" y="140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2800" y="17352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54D4-80F4-4AF0-A3FF-FEEF6435A5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4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4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4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E0C5-DCF7-4A30-8394-2BDFAD98DC2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9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3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5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6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7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49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50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2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2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0F70-BCA4-4A9B-93EB-979D41FEC8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57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59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dt" idx="19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7BEB-D161-41CE-B8C0-3DF955DF26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4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79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9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9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9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80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80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3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3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4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84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84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85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85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6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0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FD7F-4E4E-4A88-92C6-4DFCE61DD1D3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96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96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97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97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97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97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98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98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98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99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99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99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00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00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00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01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01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01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02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2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2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3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3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4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04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06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06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06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7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07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7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07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07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08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042C-7F0A-44BB-993B-2507AB29A41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36164;&#26009;/1.MPG" TargetMode="External"/><Relationship Id="rId2" Type="http://schemas.openxmlformats.org/officeDocument/2006/relationships/hyperlink" Target="file:///&#36164;&#26009;/2.MPG" TargetMode="External"/><Relationship Id="rId3" Type="http://schemas.openxmlformats.org/officeDocument/2006/relationships/hyperlink" Target="file:///&#36164;&#26009;/3.MPG" TargetMode="External"/><Relationship Id="rId4" Type="http://schemas.openxmlformats.org/officeDocument/2006/relationships/hyperlink" Target="file:///&#36164;&#26009;/4.MPG" TargetMode="External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826920" y="260280"/>
            <a:ext cx="734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e40000"/>
                </a:solidFill>
                <a:latin typeface="隶书"/>
              </a:rPr>
              <a:t>第二节 外交事业的发展</a:t>
            </a:r>
            <a:endParaRPr b="0" lang="en-US" sz="1800" spc="1" strike="noStrike">
              <a:ln w="0">
                <a:noFill/>
              </a:ln>
              <a:solidFill>
                <a:srgbClr val="e40000"/>
              </a:solidFill>
              <a:latin typeface="隶书"/>
              <a:ea typeface="隶书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905800" cy="4105080"/>
          </a:xfrm>
          <a:prstGeom prst="rect">
            <a:avLst/>
          </a:prstGeom>
          <a:ln w="0">
            <a:noFill/>
          </a:ln>
        </p:spPr>
      </p:pic>
      <p:pic>
        <p:nvPicPr>
          <p:cNvPr id="1142" name="" descr=""/>
          <p:cNvPicPr/>
          <p:nvPr/>
        </p:nvPicPr>
        <p:blipFill>
          <a:blip r:embed="rId2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9494" fill="hold"/>
                                        <p:tgtEl>
                                          <p:spTgt spid="1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1332000" y="76500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导之以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042920" y="2060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外交从恶化到改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042920" y="3213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疑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与建国初期相比，外交环境有何变化，具体表现在那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1692360" y="3429000"/>
            <a:ext cx="6048360" cy="3357720"/>
          </a:xfrm>
          <a:prstGeom prst="rect">
            <a:avLst/>
          </a:prstGeom>
          <a:ln w="0">
            <a:noFill/>
          </a:ln>
        </p:spPr>
      </p:pic>
      <p:sp>
        <p:nvSpPr>
          <p:cNvPr id="1158" name=""/>
          <p:cNvSpPr/>
          <p:nvPr/>
        </p:nvSpPr>
        <p:spPr>
          <a:xfrm>
            <a:off x="6300720" y="544500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340000" y="6338880"/>
            <a:ext cx="58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中国边防士兵与入侵的苏军交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7488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755640" y="981000"/>
            <a:ext cx="7632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讨论：美国敌视中国并不奇怪，为什么苏联同中国交恶呢？或者说中苏关系恶化的根本原因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点拨：苏联提出与中国共同建立长波电台联合舰队，中国为何拒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684360" y="69228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设疑：对于苏联大国沙文主义行径，中方的态度是什么？这说明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826920" y="3213000"/>
            <a:ext cx="79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设疑：如何改善我们外交困境呢？点拨：谁会是我们真正的朋友呢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719280" y="333360"/>
            <a:ext cx="4573440" cy="616572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5435640" y="1197000"/>
            <a:ext cx="33829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1963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1964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年周恩来访问了亚非十四个国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图为周恩来出访巴基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1332000" y="76500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导之以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826920" y="1844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代外交的突破和转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95280" y="2492280"/>
            <a:ext cx="8353440" cy="34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力培养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探析历史事件的能力——中美关系的改善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创设问题情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你觉得如何才能打破外交僵局、摆脱外交困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乒乓外交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基辛格访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尼克松访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试想如果你处于中美双方领导人的位置，你将出于什么考虑来改善彼此的关系？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900000" y="33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提供科学依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95280" y="1268280"/>
            <a:ext cx="813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背景资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年代末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70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年代初，冷战的色彩越来越浓，　世界战略格局已经发生重大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苏联军事力量迅速发展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年中，苏联洲际导弹增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枚赶上美国，同时苏联还开始发展和部署反弹道导弹系统赶到了美国前面，而且苏联建成一支能对美国造成威胁的远洋海军。这一切使美国日益感到苏联已成为“非常强大有力和咄咄逼人的竞争者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与此同时，中苏关系发生急剧变化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，苏军入侵乌苏里江主航道中国一侧的珍宝岛，中苏两国军队发生激烈交火，珍宝岛之战将恶化的中苏关系降到冰点。中苏边境陈兵百万，剑拔弩张，大规模军事冲突有一触即发之势，这一切使中国人感到苏联已经蜕变为一个“社会帝国主义”国家，比美国更富有侵略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1187280" y="765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探求问题解决方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08000" y="2637000"/>
            <a:ext cx="964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制定外交战略的根本出发点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时中国最大的国家利益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1260360" y="7002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得出科学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971640" y="184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从中国来说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11280" y="2565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从整体上打破外交僵局，改善国际地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11280" y="37162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牵制和对付来自于苏联的威胁，缓解国家安全压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84360" y="5013360"/>
            <a:ext cx="81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有助于解决台湾问题，实现中国统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/>
          <p:nvPr/>
        </p:nvSpPr>
        <p:spPr>
          <a:xfrm>
            <a:off x="755640" y="17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从美国来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260360" y="7002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得出科学结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50920" y="2492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认识到中国在国际事务中的重要，承认孤立中国政策的失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50920" y="3860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增加对付苏联的资本，打中国牌牵制苏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50920" y="5229360"/>
            <a:ext cx="93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希望进入中国市场，获取经济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250920" y="2060640"/>
            <a:ext cx="936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重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中美关系的改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难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年代外交政策的调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95280" y="69228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施教重点与难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1042920" y="476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《中美联合公报》签定，并非意味两国建交，而是实现两国关系的正常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84360" y="1700280"/>
            <a:ext cx="7920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双方声明：——中美两国关系走向正常化是符合所有国家的利益的；——双方都希望减少国际军事冲突的危险；——任何一方都不应该在亚洲——太平洋地区谋求霸权，每一方都反对任何其他国家或国家集团建立这种霸权的努力；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双方都认为，任何大国与另一大国进行勾结反对其他国家，或者大国在世界上划分利益范围，那都是违背世界各国人民利益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摘自《中美联合公报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84360" y="551664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思考：如何评价中美关系的改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971640" y="5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　　中美关系改善后，在世界范围出现了哪些有利于我国的变化？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39640" y="213372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能力培养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概述历史过程的能力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中国对外关系的主要成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39640" y="393372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识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中美关系的改善，中国在联合国合法权利的恢复同中国建交热潮的出现，表明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美国孤立中国所形成的外交僵局被打破，我国外交出现了新局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753080" cy="3808440"/>
          </a:xfrm>
          <a:prstGeom prst="rect">
            <a:avLst/>
          </a:prstGeom>
          <a:ln w="0">
            <a:noFill/>
          </a:ln>
        </p:spPr>
      </p:pic>
      <p:pic>
        <p:nvPicPr>
          <p:cNvPr id="1190" name="" descr=""/>
          <p:cNvPicPr/>
          <p:nvPr/>
        </p:nvPicPr>
        <p:blipFill>
          <a:blip r:embed="rId2"/>
          <a:stretch/>
        </p:blipFill>
        <p:spPr>
          <a:xfrm>
            <a:off x="2690640" y="1928880"/>
            <a:ext cx="5553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1332000" y="76500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导之以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187280" y="1773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代外交的调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11280" y="242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疑：邓小平关于战争的看法对不对？当今世界的主题是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11280" y="3789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探讨：既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以后和平和发展成为主题，那么你认为我国外交方针应如何调整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12720" y="5084640"/>
            <a:ext cx="799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讨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外交方针的调整依据是什么？有何成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11280" y="4869000"/>
            <a:ext cx="7848360" cy="1655640"/>
          </a:xfrm>
          <a:prstGeom prst="flowChart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时期的外交方针调整，适应了国际形势的发展和国内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主义建设的需要，从而使中国为世界的和平与发展，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挥日益重要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0" y="0"/>
            <a:ext cx="1152360" cy="647640"/>
          </a:xfrm>
          <a:prstGeom prst="flowChart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重现主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24000" y="693720"/>
            <a:ext cx="1439640" cy="50472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979640" y="260280"/>
            <a:ext cx="936720" cy="503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恶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132000" y="189000"/>
            <a:ext cx="71640" cy="757080"/>
          </a:xfrm>
          <a:custGeom>
            <a:avLst/>
            <a:gdLst>
              <a:gd name="textAreaLeft" fmla="*/ 20880 w 71640"/>
              <a:gd name="textAreaRight" fmla="*/ 72000 w 71640"/>
              <a:gd name="textAreaTop" fmla="*/ 31320 h 757080"/>
              <a:gd name="textAreaBottom" fmla="*/ 725760 h 7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419640" y="115920"/>
            <a:ext cx="1809720" cy="28872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美关系紧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421080" y="693720"/>
            <a:ext cx="1871640" cy="35892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苏同盟破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435640" y="189000"/>
            <a:ext cx="71280" cy="790560"/>
          </a:xfrm>
          <a:custGeom>
            <a:avLst/>
            <a:gdLst>
              <a:gd name="textAreaLeft" fmla="*/ 0 w 71280"/>
              <a:gd name="textAreaRight" fmla="*/ 50040 w 71280"/>
              <a:gd name="textAreaTop" fmla="*/ 32760 h 790560"/>
              <a:gd name="textAreaBottom" fmla="*/ 75780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08720" y="5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940360" y="260280"/>
            <a:ext cx="1800360" cy="4320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只拳头回击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484360" y="765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79640" y="1268280"/>
            <a:ext cx="1008000" cy="505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改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419640" y="1268280"/>
            <a:ext cx="1584000" cy="360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大片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324000" y="2709720"/>
            <a:ext cx="1439640" cy="50328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050920" y="1916280"/>
            <a:ext cx="576360" cy="194436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916360" y="1989000"/>
            <a:ext cx="215640" cy="1584360"/>
          </a:xfrm>
          <a:custGeom>
            <a:avLst/>
            <a:gdLst>
              <a:gd name="textAreaLeft" fmla="*/ 63360 w 215640"/>
              <a:gd name="textAreaRight" fmla="*/ 216000 w 215640"/>
              <a:gd name="textAreaTop" fmla="*/ 65880 h 1584360"/>
              <a:gd name="textAreaBottom" fmla="*/ 151848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3130560" y="1773360"/>
            <a:ext cx="577800" cy="43344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780000" y="1844640"/>
            <a:ext cx="1871640" cy="36036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美关系正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708360" y="2565360"/>
            <a:ext cx="2016000" cy="43344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日邦交正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564000" y="3213000"/>
            <a:ext cx="2592360" cy="50328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联合国合法利的恢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64328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643280" y="2205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940360" y="1916280"/>
            <a:ext cx="71640" cy="936360"/>
          </a:xfrm>
          <a:custGeom>
            <a:avLst/>
            <a:gdLst>
              <a:gd name="textAreaLeft" fmla="*/ 0 w 71640"/>
              <a:gd name="textAreaRight" fmla="*/ 50400 w 71640"/>
              <a:gd name="textAreaTop" fmla="*/ 38880 h 936360"/>
              <a:gd name="textAreaBottom" fmla="*/ 8974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012000" y="2419200"/>
            <a:ext cx="433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445080" y="2205000"/>
            <a:ext cx="1224000" cy="4320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建交热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22200" y="5159520"/>
            <a:ext cx="1441440" cy="502920"/>
          </a:xfrm>
          <a:prstGeom prst="flowChartProcess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771640" y="4222800"/>
            <a:ext cx="71640" cy="2232000"/>
          </a:xfrm>
          <a:custGeom>
            <a:avLst/>
            <a:gdLst>
              <a:gd name="textAreaLeft" fmla="*/ 20880 w 71640"/>
              <a:gd name="textAreaRight" fmla="*/ 72000 w 7164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79640" y="4510080"/>
            <a:ext cx="576360" cy="194472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987640" y="3933720"/>
            <a:ext cx="2521080" cy="4320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邓小平对战争的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987640" y="4581360"/>
            <a:ext cx="504720" cy="14400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708360" y="4581360"/>
            <a:ext cx="144360" cy="1366920"/>
          </a:xfrm>
          <a:custGeom>
            <a:avLst/>
            <a:gdLst>
              <a:gd name="textAreaLeft" fmla="*/ 42480 w 144360"/>
              <a:gd name="textAreaRight" fmla="*/ 144360 w 144360"/>
              <a:gd name="textAreaTop" fmla="*/ 56880 h 1366920"/>
              <a:gd name="textAreaBottom" fmla="*/ 131004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067280" y="4581360"/>
            <a:ext cx="3025800" cy="35892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奉行不结盟政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067280" y="5086440"/>
            <a:ext cx="3889440" cy="43164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视发展第三世界国家的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067280" y="5662440"/>
            <a:ext cx="3960720" cy="43200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积极开展与周边国家的睦邻友好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7640" y="6237360"/>
            <a:ext cx="3745080" cy="477720"/>
          </a:xfrm>
          <a:prstGeom prst="flowChart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坚持长期对外交开放的基本国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1547640" y="9079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再留悬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9280" y="49417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后让我们将目光投向今日之中国。假如由你来制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代跨世纪中国外交战略，你将以什么为依据，遵循那些原则 ，会以什么姿态面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纪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3906720" cy="266400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5148360" y="371628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江泽民主席出席联合国成立五十周年特别纪念会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753080" cy="2722320"/>
          </a:xfrm>
          <a:prstGeom prst="rect">
            <a:avLst/>
          </a:prstGeom>
          <a:ln w="0">
            <a:noFill/>
          </a:ln>
        </p:spPr>
      </p:pic>
      <p:sp>
        <p:nvSpPr>
          <p:cNvPr id="1236" name=""/>
          <p:cNvSpPr/>
          <p:nvPr/>
        </p:nvSpPr>
        <p:spPr>
          <a:xfrm>
            <a:off x="539640" y="422100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31640" y="436572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亚太经合组织（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APEC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）上海峰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198900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立足亚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805440" y="270504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面向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332000" y="98100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布置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9640" y="5084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请看毛泽东与尼克松会见的两幅照片，你判断哪副符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尼克松访华时会见的情景，说出你的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"/>
          <a:stretch/>
        </p:blipFill>
        <p:spPr>
          <a:xfrm>
            <a:off x="4572000" y="1774800"/>
            <a:ext cx="4103640" cy="309564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39607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1403280" y="1844640"/>
            <a:ext cx="58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008000"/>
                </a:solidFill>
                <a:latin typeface="华文行楷"/>
              </a:rPr>
              <a:t>谢谢各位老师</a:t>
            </a:r>
            <a:endParaRPr b="1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008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395280" y="549360"/>
            <a:ext cx="842472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　基础知识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识记：中美关系的改善；中苏关系的恶化；尼克松访和《中美联合公报》的签定；中日关系的发展；新时期的外交方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主要的历史概念；大国沙文主义； 一大片方针；三个世界的划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综和：中美关系的改善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"/>
          <p:cNvSpPr/>
          <p:nvPr/>
        </p:nvSpPr>
        <p:spPr>
          <a:xfrm>
            <a:off x="684360" y="404640"/>
            <a:ext cx="7705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　思想理论教育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识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中美关系的改善，中国在联合国合法权利的恢复同中国建交热潮的出现，表明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代美国孤立封锁中国所形成的外交僵局被打破，我国外交出现了新局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：新时期的外交方针调整，适应了国际形势的发展和国内社会主义建设的需要，从而使中国为世界的和平与发展，发挥日益重要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/>
          <p:nvPr/>
        </p:nvSpPr>
        <p:spPr>
          <a:xfrm>
            <a:off x="539640" y="692280"/>
            <a:ext cx="806472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　能力培养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概述历史过程的能力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代中国对外关系的主要成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探析历史事件的能力——中美关系的改善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辨析历史图片的对错能力——毛泽东与尼克松会见的两幅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611280" y="549360"/>
            <a:ext cx="79200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教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情景 图示 讨论的综合利用加上多媒体辅助教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1187280" y="549360"/>
            <a:ext cx="75600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学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探究式学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900000" y="314172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以问题为中心进行组织，按照“创设问题情境——提供科学依据——探求问题解决方法——得出科学结论”的程序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611280" y="836640"/>
            <a:ext cx="44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施教程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900000" y="1844640"/>
            <a:ext cx="7488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以“发展”进行知识点系统构架，分三部分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代从恶化到改善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代的突破和转机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代外交的调整。以此安排教学程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755640" y="76500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　忆旧导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问：新中国初期外交取得成就的最根本原因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指出：此后不管国际风云任何变幻，我们始终坚持这一根本原则，不断取得新的更大的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01:34:04Z</dcterms:created>
  <dc:creator/>
  <dc:description/>
  <dc:language>en-US</dc:language>
  <cp:lastModifiedBy>微软用户</cp:lastModifiedBy>
  <dcterms:modified xsi:type="dcterms:W3CDTF">2008-01-27T08:50:24Z</dcterms:modified>
  <cp:revision>137</cp:revision>
  <dc:subject/>
  <dc:title>幻灯片 1</dc:title>
</cp:coreProperties>
</file>