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1.jpeg" ContentType="image/jpeg"/>
  <Override PartName="/ppt/media/image19.png" ContentType="image/png"/>
  <Override PartName="/ppt/media/image26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42.gif" ContentType="image/gif"/>
  <Override PartName="/ppt/media/image27.jpeg" ContentType="image/jpeg"/>
  <Override PartName="/ppt/media/image8.jpeg" ContentType="image/jpeg"/>
  <Override PartName="/ppt/media/image39.jpeg" ContentType="image/jpeg"/>
  <Override PartName="/ppt/media/image11.gif" ContentType="image/gif"/>
  <Override PartName="/ppt/media/image9.jpeg" ContentType="image/jpeg"/>
  <Override PartName="/ppt/media/image30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32.jpeg" ContentType="image/jpeg"/>
  <Override PartName="/ppt/media/image34.jpeg" ContentType="image/jpeg"/>
  <Override PartName="/ppt/media/image28.jpeg" ContentType="image/jpeg"/>
  <Override PartName="/ppt/media/image25.gif" ContentType="image/gif"/>
  <Override PartName="/ppt/media/image6.jpeg" ContentType="image/jpeg"/>
  <Override PartName="/ppt/media/image18.png" ContentType="image/png"/>
  <Override PartName="/ppt/media/image2.jpeg" ContentType="image/jpeg"/>
  <Override PartName="/ppt/media/image36.jpeg" ContentType="image/jpeg"/>
  <Override PartName="/ppt/media/image20.png" ContentType="image/png"/>
  <Override PartName="/ppt/media/image37.jpeg" ContentType="image/jpeg"/>
  <Override PartName="/ppt/media/image12.jpeg" ContentType="image/jpeg"/>
  <Override PartName="/ppt/media/image13.jpeg" ContentType="image/jpeg"/>
  <Override PartName="/ppt/media/image23.png" ContentType="image/png"/>
  <Override PartName="/ppt/media/image7.jpeg" ContentType="image/jpeg"/>
  <Override PartName="/ppt/media/image38.jpeg" ContentType="image/jpeg"/>
  <Override PartName="/ppt/media/image33.gif" ContentType="image/gif"/>
  <Override PartName="/ppt/media/image3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484F-2251-496F-AAAD-7B1B8996E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0504-7EEB-4FA4-AAF5-B9B93D15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F674-40C9-4D82-A8FD-B65CFC5D6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4ADC-FA52-4630-A95B-3D431486B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7964-2BDA-416E-BA3E-8C50DF4C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BD23-1D25-4C56-8FF2-5F7380A7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3EAB-E648-4012-8E1E-1F2E27A8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D05E-0712-46A1-9774-59331EA9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C63F-6CEE-4D4B-83F9-60515C22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20D5-A12C-432F-8F85-041F8523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B8EC-A2FF-4142-9508-7DF85913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F9FB-2394-4830-BA3D-B0D6CADD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229A-AFA4-45E9-810B-BF9A27640F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523880" y="1066680"/>
            <a:ext cx="63248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20</a:t>
            </a:r>
            <a:r>
              <a:rPr b="0" i="1" lang="zh-CN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世纪歌曲中的“历史”</a:t>
            </a:r>
            <a:endParaRPr b="0" i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219320" y="1066680"/>
            <a:ext cx="6705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  <a:ea typeface="隶书"/>
              </a:rPr>
              <a:t>背景介绍：</a:t>
            </a:r>
            <a:r>
              <a:rPr b="0" lang="zh-CN" sz="2400" spc="-1" strike="noStrike">
                <a:solidFill>
                  <a:srgbClr val="ff9900"/>
                </a:solidFill>
                <a:latin typeface="宋体"/>
                <a:ea typeface="隶书"/>
              </a:rPr>
              <a:t>田汉词，聂耳曲，创作于１９３５年４月，是故事影片《风云儿女》的主题歌，表现了中华儿女万众一心、前仆后继抗日的不屈精神。田汉在被捕前，将歌词写在一张包香烟的锡纸上，后由夏衍交给聂耳，聂耳很快将歌曲谱完，以《义勇军进行曲》为歌名发表在《中华日报》上。随着《风云儿女》的上映，这首震撼人心的战歌迅速传唱全国。后来，美国著名黑人歌唱家罗伯逊演唱并录制了唱片，更使这首战歌载誉全球。１９４９年９月２７日，中国人民政治协商会议第一次全体会议通过决议，将这首歌定为代国歌；１９８２年１２月４日，中华人民共和国第五届全国人民代表大会第五次会议通过决议，将其定为中华人民共和国国歌</a:t>
            </a:r>
            <a:r>
              <a:rPr b="0" lang="zh-CN" sz="2800" spc="-1" strike="noStrike">
                <a:solidFill>
                  <a:srgbClr val="ff9900"/>
                </a:solidFill>
                <a:latin typeface="宋体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1143000" y="2057400"/>
            <a:ext cx="65530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《南泥湾》：延安精神的象征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108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371600" y="11430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背景介绍：贺敬之词，马可曲，作于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1943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年。在日伪军大举进攻抗日根据地的同时，国民党顽固派也加紧封锁包围抗日根据地。在根据地最困难的时期，毛泽东发出了 “自己动手，丰衣足食”的号召，根据地广泛掀起了大生产运动。陕甘宁边区的部队、机关、学校，都投入到开荒种田、纺纱织布的大生产运动中。中共中央领导人都亲自参加大生产运动。为了歌颂了为根据地大生产建立功勋的八路军战士， 由鲁艺戏剧系的贺敬之作词，音乐系的马可作曲的歌舞剧《花篮的花儿香》。” 后经贺敬之、马可对《花篮的花儿香》进行修改，整理为《南泥湾》，《南泥湾》歌很快在边区和大后方传唱开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3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762120" y="1676520"/>
            <a:ext cx="77724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80e08"/>
                    </a:gs>
                    <a:gs pos="50000">
                      <a:srgbClr val="bb2d01"/>
                    </a:gs>
                    <a:gs pos="100000">
                      <a:srgbClr val="f80e08"/>
                    </a:gs>
                  </a:gsLst>
                  <a:lin ang="8100000"/>
                </a:gradFill>
                <a:latin typeface="宋体"/>
              </a:rPr>
              <a:t>埋葬蒋家王朝——唱响胜利的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80e08"/>
                  </a:gs>
                  <a:gs pos="50000">
                    <a:srgbClr val="bb2d01"/>
                  </a:gs>
                  <a:gs pos="100000">
                    <a:srgbClr val="f80e08"/>
                  </a:gs>
                </a:gsLst>
                <a:lin ang="8100000"/>
              </a:gradFill>
              <a:latin typeface="宋体"/>
              <a:ea typeface="宋体"/>
            </a:endParaRPr>
          </a:p>
        </p:txBody>
      </p:sp>
      <p:pic>
        <p:nvPicPr>
          <p:cNvPr id="74" name="zzzh" descr=""/>
          <p:cNvPicPr/>
          <p:nvPr/>
        </p:nvPicPr>
        <p:blipFill>
          <a:blip r:embed="rId2"/>
          <a:stretch/>
        </p:blipFill>
        <p:spPr>
          <a:xfrm>
            <a:off x="3962520" y="5486400"/>
            <a:ext cx="5181480" cy="1371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1143000" y="99072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33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第二小组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f3300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b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01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78" name="04" descr=""/>
          <p:cNvPicPr/>
          <p:nvPr/>
        </p:nvPicPr>
        <p:blipFill>
          <a:blip r:embed="rId3"/>
          <a:stretch/>
        </p:blipFill>
        <p:spPr>
          <a:xfrm>
            <a:off x="304920" y="358128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79" name="02" descr=""/>
          <p:cNvPicPr/>
          <p:nvPr/>
        </p:nvPicPr>
        <p:blipFill>
          <a:blip r:embed="rId4"/>
          <a:stretch/>
        </p:blipFill>
        <p:spPr>
          <a:xfrm>
            <a:off x="4724280" y="38088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80" name="chang" descr=""/>
          <p:cNvPicPr/>
          <p:nvPr/>
        </p:nvPicPr>
        <p:blipFill>
          <a:blip r:embed="rId5"/>
          <a:stretch/>
        </p:blipFill>
        <p:spPr>
          <a:xfrm>
            <a:off x="4648320" y="3581280"/>
            <a:ext cx="4114800" cy="2941920"/>
          </a:xfrm>
          <a:prstGeom prst="rect">
            <a:avLst/>
          </a:prstGeom>
          <a:ln w="0">
            <a:noFill/>
          </a:ln>
        </p:spPr>
      </p:pic>
      <p:pic>
        <p:nvPicPr>
          <p:cNvPr id="81" name="ylzlt031663a" descr=""/>
          <p:cNvPicPr/>
          <p:nvPr/>
        </p:nvPicPr>
        <p:blipFill>
          <a:blip r:embed="rId6"/>
          <a:stretch/>
        </p:blipFill>
        <p:spPr>
          <a:xfrm>
            <a:off x="2819520" y="19810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2924280"/>
            <a:ext cx="2819520" cy="3933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295280" y="533520"/>
            <a:ext cx="6172200" cy="60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隶书"/>
                <a:ea typeface="隶书"/>
              </a:rPr>
              <a:t>《团结就是力量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牧虹作词、卢肃作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团结就是力量 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团结就是力量 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这力量是铁 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这力量是钢 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比铁还硬，比钢还强 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向着法西斯蒂开火 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让一切不民主的制度死亡！ 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向着太阳，向着自由 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向着新中国发出万丈光芒！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397520" y="1752480"/>
            <a:ext cx="2265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向前向前向前</a:t>
            </a: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!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我们的队伍向太阳</a:t>
            </a: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,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脚踏着祖国的大地</a:t>
            </a: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,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背负着民族的希望</a:t>
            </a: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,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我们是一支不可战胜的力量。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我们是人民的子弟</a:t>
            </a: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,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我们是人民的武装</a:t>
            </a: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,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从无畏惧</a:t>
            </a: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,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绝不屈服</a:t>
            </a: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,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英勇战斗</a:t>
            </a: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,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直到把反动派消灭干净</a:t>
            </a: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,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毛泽东的旗帜高高飘扬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120" y="380880"/>
            <a:ext cx="739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隶书"/>
                <a:ea typeface="隶书"/>
              </a:rPr>
              <a:t>《中国人民解放军进行曲》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643720" y="3068640"/>
            <a:ext cx="3500280" cy="3789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2000" y="1820880"/>
            <a:ext cx="45720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听</a:t>
            </a: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!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风在呼啸军号响</a:t>
            </a: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,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听</a:t>
            </a: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!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革命歌声多嘹亮</a:t>
            </a: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!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同志们整齐步伐奔向解放的战场</a:t>
            </a: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,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同志们整齐步伐奔赴祖国的边疆</a:t>
            </a: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,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向前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向前</a:t>
            </a: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!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我们的队伍向太阳</a:t>
            </a: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,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向最后的胜利</a:t>
            </a: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,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向全国的解放</a:t>
            </a:r>
            <a:r>
              <a:rPr b="0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19920" y="0"/>
            <a:ext cx="2863800" cy="4076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611880" y="1066680"/>
            <a:ext cx="80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隶书"/>
                <a:ea typeface="隶书"/>
              </a:rPr>
              <a:t>《解放区的天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2133720"/>
            <a:ext cx="3740040" cy="39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解放区的天是明朗的天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解放区得人民好喜欢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民主政府爱人民呀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共产党的恩情说不完</a:t>
            </a:r>
            <a:r>
              <a:rPr b="0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.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呀呼嗨嗨一个呀嗨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呀呼嗨呼嗨呀呼嗨嗨嗨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呀呼嗨嗨一个呀嗨</a:t>
            </a:r>
            <a:r>
              <a:rPr b="0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20055261221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3581280" y="304920"/>
            <a:ext cx="1828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cc0000"/>
                    </a:gs>
                    <a:gs pos="100000">
                      <a:srgbClr val="ffffff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第三小组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cc0000"/>
                  </a:gs>
                  <a:gs pos="100000">
                    <a:srgbClr val="ffffff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219320" y="228600"/>
            <a:ext cx="7315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a50021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华文新魏"/>
              </a:rPr>
              <a:t>新中国——向着世界歌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a50021"/>
                  </a:gs>
                  <a:gs pos="100000">
                    <a:srgbClr val="ffffff"/>
                  </a:gs>
                </a:gsLst>
                <a:lin ang="8100000"/>
              </a:gradFill>
              <a:latin typeface="华文新魏"/>
              <a:ea typeface="华文新魏"/>
            </a:endParaRPr>
          </a:p>
        </p:txBody>
      </p:sp>
    </p:spTree>
  </p:cSld>
  <p:transition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200509291611146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1905120" y="2819520"/>
            <a:ext cx="5029200" cy="17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《歌唱祖国》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95920" y="1341360"/>
            <a:ext cx="568440" cy="685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762120" y="1828800"/>
            <a:ext cx="75438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宋体"/>
              </a:rPr>
              <a:t>抗日烽火——救亡之歌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0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62520" y="4114800"/>
            <a:ext cx="2895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第一小组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44364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572000" y="404640"/>
            <a:ext cx="504720" cy="505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3520" y="304920"/>
            <a:ext cx="7238880" cy="2226960"/>
          </a:xfrm>
          <a:prstGeom prst="rect">
            <a:avLst/>
          </a:prstGeom>
          <a:noFill/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背景介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949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年新中国成立，毛泽东主席亲手在天安门上升起了第一面五星红旗。王莘作为观礼代表，目睹了当时的壮丽场面。在回天津的列车上，王莘（延安鲁艺冼星海的学生）心潮澎湃，开国大典的盛况不断浮现在眼前，于是《歌唱祖国》的词和曲几乎同时从心中涌出：“五星红旗迎风飘扬，胜利歌声多么响亮…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951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日，《人民日报》刊登了《歌唱祖国》的曲谱，中央人民广播电台立即邀请中央歌舞团合唱队录音，除广播外，还添制成唱片向全国人民推荐，从那以后，《歌唱祖国》这首歌在中国大地上广为流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1004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048120" y="4495680"/>
            <a:ext cx="6095880" cy="2362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048120" y="0"/>
            <a:ext cx="6095880" cy="45482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1523880" y="2133720"/>
            <a:ext cx="61722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13500000"/>
                </a:gradFill>
                <a:latin typeface="宋体"/>
              </a:rPr>
              <a:t>《中国人民志愿军战歌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9900"/>
                  </a:gs>
                  <a:gs pos="100000">
                    <a:srgbClr val="ffff00"/>
                  </a:gs>
                </a:gsLst>
                <a:lin ang="13500000"/>
              </a:gradFill>
              <a:latin typeface="宋体"/>
              <a:ea typeface="宋体"/>
            </a:endParaRPr>
          </a:p>
        </p:txBody>
      </p:sp>
    </p:spTree>
  </p:cSld>
  <p:transition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908000" y="5373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067280" y="981000"/>
            <a:ext cx="504720" cy="505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04920" y="425520"/>
            <a:ext cx="7848360" cy="1800360"/>
          </a:xfrm>
          <a:prstGeom prst="rect">
            <a:avLst/>
          </a:prstGeom>
          <a:noFill/>
          <a:ln w="572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背景介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麻扶摇词，周巍峙曲。作于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95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95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年，朝鲜内战爆发。美帝国主义悍然指挥所谓“联合国军”侵略朝鲜。他们越过“三八线”一直打到中国边境，严重威胁我国的安全。同时，美帝国主义派海军第七舰队到中国台湾海峡，防止人民解放军解放台湾，干涉内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朝鲜民主主义共和国政府请求中国政府派兵援助。为了抗美援朝，保家卫国，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95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月，以彭德怀为司令员的中国人民志愿军唱着这首歌开赴朝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006af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 rot="5400000">
            <a:off x="-38160" y="876240"/>
            <a:ext cx="2209680" cy="106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50000">
                      <a:srgbClr val="ff9900"/>
                    </a:gs>
                    <a:gs pos="100000">
                      <a:srgbClr val="ffff66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改革开放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50000">
                    <a:srgbClr val="ff9900"/>
                  </a:gs>
                  <a:gs pos="100000">
                    <a:srgbClr val="ffff66"/>
                  </a:gs>
                </a:gsLst>
                <a:lin ang="81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14" name=""/>
          <p:cNvSpPr txBox="1"/>
          <p:nvPr/>
        </p:nvSpPr>
        <p:spPr>
          <a:xfrm rot="5400000">
            <a:off x="-761760" y="3352680"/>
            <a:ext cx="556236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50000">
                      <a:srgbClr val="ff9900"/>
                    </a:gs>
                    <a:gs pos="100000">
                      <a:srgbClr val="ffff66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——</a:t>
            </a:r>
            <a:r>
              <a:rPr b="0" i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50000">
                      <a:srgbClr val="ff9900"/>
                    </a:gs>
                    <a:gs pos="100000">
                      <a:srgbClr val="ffff66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时代旋律的新乐章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50000">
                    <a:srgbClr val="ff9900"/>
                  </a:gs>
                  <a:gs pos="100000">
                    <a:srgbClr val="ffff66"/>
                  </a:gs>
                </a:gsLst>
                <a:lin ang="81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15" name=""/>
          <p:cNvSpPr txBox="1"/>
          <p:nvPr/>
        </p:nvSpPr>
        <p:spPr>
          <a:xfrm rot="5400000">
            <a:off x="7162920" y="144792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第四小组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609480" y="533520"/>
            <a:ext cx="586764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ccff66"/>
                    </a:gs>
                    <a:gs pos="50000">
                      <a:srgbClr val="006600"/>
                    </a:gs>
                    <a:gs pos="100000">
                      <a:srgbClr val="ccff66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行楷"/>
              </a:rPr>
              <a:t>《春天的故事》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ccff66"/>
                  </a:gs>
                  <a:gs pos="50000">
                    <a:srgbClr val="006600"/>
                  </a:gs>
                  <a:gs pos="100000">
                    <a:srgbClr val="ccff66"/>
                  </a:gs>
                </a:gsLst>
                <a:lin ang="135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33520" y="1289160"/>
            <a:ext cx="78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背景介绍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    </a:t>
            </a: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叶旭全，蒋开儒作词，王佑贵作曲，创作于</a:t>
            </a: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1994</a:t>
            </a: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年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    </a:t>
            </a: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粉碎“四人帮”反革命集团以后，党中央恢复了邓小平的职务，国内开始出现安定团结的政治局面。</a:t>
            </a: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1978</a:t>
            </a: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年，中国共产党十一届三中全会在北京召开，会上确定了改革开放的策略，</a:t>
            </a: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1979,1992</a:t>
            </a: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年邓小平南巡。之后，把深圳、珠海、汕头、厦门划为我国的第一批经济特区，大力引进外资和先进技术，大办工业、商业和旅游业，使经济特区成为我国对外开放的窗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这首曲子就是描述了我国自改革开放以来，长城内外、大江南北所爆发出的生机，热情讴歌了改革开放的总设计师——邓小平同时的宏伟气魄！改革开放的英明决策如春风般唤醒了祖国的山山水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68960" cy="3505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419720" y="3657600"/>
            <a:ext cx="4724280" cy="3200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0" y="3505320"/>
            <a:ext cx="4419720" cy="3352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4381560" y="0"/>
            <a:ext cx="4762440" cy="3657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2286000" y="1828800"/>
            <a:ext cx="3962520" cy="32004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 rot="5400000">
            <a:off x="4890600" y="2728800"/>
            <a:ext cx="6096240" cy="140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99ff33"/>
                    </a:gs>
                    <a:gs pos="100000">
                      <a:srgbClr val="ffff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《走进新时代》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99ff33"/>
                  </a:gs>
                  <a:gs pos="100000">
                    <a:srgbClr val="ffffff"/>
                  </a:gs>
                </a:gsLst>
                <a:lin ang="27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676520" y="838080"/>
            <a:ext cx="5867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总想对你表白我的心情是多么豪迈</a:t>
            </a: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总想对你倾诉我对生活是多么热爱</a:t>
            </a: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勤劳勇敢的中国人意气风发走进新时代</a:t>
            </a: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啊</a:t>
            </a: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!</a:t>
            </a: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我们意气风发走进新时代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让我告诉世界中国命运自已主宰</a:t>
            </a: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让我告诉未来中国进行着接力赛</a:t>
            </a: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承前启后的领路人带领我们走进新时代</a:t>
            </a: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啊</a:t>
            </a: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!</a:t>
            </a: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带领我们走进新时代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我们唱着东方红当家做主站起来</a:t>
            </a: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我们讲着春天的故事改革开放富起来</a:t>
            </a: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继往开来的领路人带领我们走进新时代</a:t>
            </a:r>
            <a:br>
              <a:rPr sz="2400"/>
            </a:br>
            <a:r>
              <a:rPr b="0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高举旗帜开创未来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48040" y="30492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《走进新时代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68832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1981080" y="2590920"/>
            <a:ext cx="5105520" cy="25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华文行楷"/>
              </a:rPr>
              <a:t>放飞你的歌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m98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990720" y="1031760"/>
          <a:ext cx="6858000" cy="5353200"/>
        </p:xfrm>
        <a:graphic>
          <a:graphicData uri="http://schemas.openxmlformats.org/drawingml/2006/table">
            <a:tbl>
              <a:tblPr/>
              <a:tblGrid>
                <a:gridCol w="1904760"/>
                <a:gridCol w="889200"/>
                <a:gridCol w="1015920"/>
                <a:gridCol w="1015920"/>
                <a:gridCol w="1015920"/>
                <a:gridCol w="101628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宋体"/>
                        </a:rPr>
                        <a:t>评价内容</a:t>
                      </a: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宋体"/>
                        </a:rPr>
                        <a:t>分值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小组得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第一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第二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第三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第四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宋体"/>
                        </a:rPr>
                        <a:t>主题选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宋体"/>
                        </a:rPr>
                        <a:t>特色鲜明</a:t>
                      </a: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宋体"/>
                        </a:rPr>
                        <a:t>背景介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宋体"/>
                        </a:rPr>
                        <a:t>简洁准确</a:t>
                      </a: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宋体"/>
                        </a:rPr>
                        <a:t>歌曲演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宋体"/>
                        </a:rPr>
                        <a:t>声情并茂</a:t>
                      </a: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宋体"/>
                        </a:rPr>
                        <a:t>展示形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宋体"/>
                        </a:rPr>
                        <a:t>独特新颖</a:t>
                      </a: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宋体"/>
                        </a:rPr>
                        <a:t>原创歌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宋体"/>
                        </a:rPr>
                        <a:t>时代感强</a:t>
                      </a: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宋体"/>
                        </a:rPr>
                        <a:t>小组成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宋体"/>
                        </a:rPr>
                        <a:t>团结协作</a:t>
                      </a: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zh-CN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 txBox="1"/>
          <p:nvPr/>
        </p:nvSpPr>
        <p:spPr>
          <a:xfrm>
            <a:off x="2819520" y="304920"/>
            <a:ext cx="2514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cc0000"/>
                    </a:gs>
                    <a:gs pos="100000">
                      <a:srgbClr val="ff00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评价表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cc0000"/>
                  </a:gs>
                  <a:gs pos="100000">
                    <a:srgbClr val="ff0000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914400" y="2971800"/>
            <a:ext cx="73915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《松花江上》：唱尽东北血泪史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109520" y="1828800"/>
            <a:ext cx="7272360" cy="34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44280">
                  <a:solidFill>
                    <a:srgbClr val="ffffff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感谢各位</a:t>
            </a:r>
            <a:endParaRPr b="0" lang="en-US" sz="4000" spc="1" strike="noStrike">
              <a:ln w="44280">
                <a:solidFill>
                  <a:srgbClr val="ffffff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905120" y="1371600"/>
            <a:ext cx="624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宋体"/>
                <a:ea typeface="隶书"/>
              </a:rPr>
              <a:t>背景介绍：</a:t>
            </a:r>
            <a:r>
              <a:rPr b="0" lang="zh-CN" sz="2800" spc="-1" strike="noStrike">
                <a:solidFill>
                  <a:srgbClr val="ff9900"/>
                </a:solidFill>
                <a:latin typeface="宋体"/>
                <a:ea typeface="隶书"/>
              </a:rPr>
              <a:t>《松花江上》是抗战时期救亡歌曲中的经典之作，它如诉如泣、壮烈低回的情韵，激励着人们同仇敌忾、共赴国难。“九一八”事变后，日军占领了东北，一批批东北人背井离乡。１９３６年，在西安二中执教的地下党员张寒晖，耳闻目睹了流亡同胞的悲惨经历，激起创作歌曲的冲动。他将北方女性的哭声艺术化，谱成了《松花江上》的曲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838080" y="2209680"/>
            <a:ext cx="784872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2f5e"/>
                    </a:gs>
                    <a:gs pos="100000">
                      <a:srgbClr val="0066cc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《大刀进行曲》：为中华儿女吹响抗日的号角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2f5e"/>
                  </a:gs>
                  <a:gs pos="100000">
                    <a:srgbClr val="0066cc"/>
                  </a:gs>
                </a:gsLst>
                <a:lin ang="108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1219320" y="137160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隶书"/>
                <a:ea typeface="隶书"/>
              </a:rPr>
              <a:t>背景介绍：</a:t>
            </a:r>
            <a:r>
              <a:rPr b="0" lang="zh-CN" sz="2800" spc="-1" strike="noStrike">
                <a:solidFill>
                  <a:srgbClr val="ff9900"/>
                </a:solidFill>
                <a:latin typeface="隶书"/>
                <a:ea typeface="隶书"/>
              </a:rPr>
              <a:t>１９３３年，日军侵犯长城各口，宋远哲率领２９军奋起抵抗。由于武器装备远远落后于日军，２９军成立了“大刀队”。在与敌短兵作战中，“大刀队”重创日军，名声大振。</a:t>
            </a:r>
            <a:r>
              <a:rPr b="0" lang="zh-CN" sz="2800" spc="-1" strike="noStrike">
                <a:solidFill>
                  <a:srgbClr val="ff9900"/>
                </a:solidFill>
                <a:latin typeface="隶书"/>
                <a:ea typeface="隶书"/>
              </a:rPr>
              <a:t>1937 </a:t>
            </a:r>
            <a:r>
              <a:rPr b="0" lang="zh-CN" sz="2800" spc="-1" strike="noStrike">
                <a:solidFill>
                  <a:srgbClr val="ff9900"/>
                </a:solidFill>
                <a:latin typeface="隶书"/>
                <a:ea typeface="隶书"/>
              </a:rPr>
              <a:t>年</a:t>
            </a:r>
            <a:r>
              <a:rPr b="0" lang="zh-CN" sz="2800" spc="-1" strike="noStrike">
                <a:solidFill>
                  <a:srgbClr val="ff9900"/>
                </a:solidFill>
                <a:latin typeface="隶书"/>
                <a:ea typeface="隶书"/>
              </a:rPr>
              <a:t>7</a:t>
            </a:r>
            <a:r>
              <a:rPr b="0" lang="zh-CN" sz="2800" spc="-1" strike="noStrike">
                <a:solidFill>
                  <a:srgbClr val="ff9900"/>
                </a:solidFill>
                <a:latin typeface="隶书"/>
                <a:ea typeface="隶书"/>
              </a:rPr>
              <a:t>月</a:t>
            </a:r>
            <a:r>
              <a:rPr b="0" lang="zh-CN" sz="2800" spc="-1" strike="noStrike">
                <a:solidFill>
                  <a:srgbClr val="ff9900"/>
                </a:solidFill>
                <a:latin typeface="隶书"/>
                <a:ea typeface="隶书"/>
              </a:rPr>
              <a:t>7</a:t>
            </a:r>
            <a:r>
              <a:rPr b="0" lang="zh-CN" sz="2800" spc="-1" strike="noStrike">
                <a:solidFill>
                  <a:srgbClr val="ff9900"/>
                </a:solidFill>
                <a:latin typeface="隶书"/>
                <a:ea typeface="隶书"/>
              </a:rPr>
              <a:t>日 </a:t>
            </a:r>
            <a:r>
              <a:rPr b="0" lang="zh-CN" sz="2800" spc="-1" strike="noStrike">
                <a:solidFill>
                  <a:srgbClr val="ff9900"/>
                </a:solidFill>
                <a:latin typeface="隶书"/>
                <a:ea typeface="隶书"/>
              </a:rPr>
              <a:t>, </a:t>
            </a:r>
            <a:r>
              <a:rPr b="0" lang="zh-CN" sz="2800" spc="-1" strike="noStrike">
                <a:solidFill>
                  <a:srgbClr val="ff9900"/>
                </a:solidFill>
                <a:latin typeface="隶书"/>
                <a:ea typeface="隶书"/>
              </a:rPr>
              <a:t>卢沟桥事变爆发 </a:t>
            </a:r>
            <a:r>
              <a:rPr b="0" lang="zh-CN" sz="2800" spc="-1" strike="noStrike">
                <a:solidFill>
                  <a:srgbClr val="ff9900"/>
                </a:solidFill>
                <a:latin typeface="隶书"/>
                <a:ea typeface="隶书"/>
              </a:rPr>
              <a:t>, </a:t>
            </a:r>
            <a:r>
              <a:rPr b="0" lang="zh-CN" sz="2800" spc="-1" strike="noStrike">
                <a:solidFill>
                  <a:srgbClr val="ff9900"/>
                </a:solidFill>
                <a:latin typeface="隶书"/>
                <a:ea typeface="隶书"/>
              </a:rPr>
              <a:t>全国抗战开始，守卫卢沟桥的２９军又以大刀显神威。在上海参加抗日救亡运动的麦新被“大刀队”所深深震撼，于是奋笔疾书，一气呵成写完歌词，又谱了慷慨激昂的旋律，《大刀进行曲》由此诞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50000">
              <a:srgbClr val="ff6600"/>
            </a:gs>
            <a:gs pos="100000">
              <a:srgbClr val="cc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3dccea3df8e69a4fd7c1be71296d173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609480" y="2133720"/>
            <a:ext cx="792504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《黄河大合唱》：民族精神的史诗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108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2133720" y="167652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宋体"/>
                <a:ea typeface="隶书"/>
              </a:rPr>
              <a:t>背景介绍：</a:t>
            </a:r>
            <a:r>
              <a:rPr b="0" lang="zh-CN" sz="2800" spc="-1" strike="noStrike">
                <a:solidFill>
                  <a:srgbClr val="ff9900"/>
                </a:solidFill>
                <a:latin typeface="宋体"/>
                <a:ea typeface="隶书"/>
              </a:rPr>
              <a:t>１９３８年１１月武汉沦陷后，著名诗人光未然从陕西壶口东渡黄河，途中亲历了黄河的险峡急流、怒涛漩涡，目睹了船夫们与狂风恶浪搏斗的情景，聆听了悠长、深沉的船夫号子。１９３９年春天回到延安后，他创作出长篇朗诵诗《黄河吟》。同在延安的音乐家冼星海听后触发了创作灵感，写就了这部千古绝响——《黄河大合唱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1523880" y="2209680"/>
            <a:ext cx="701064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50000">
                      <a:srgbClr val="002f5e"/>
                    </a:gs>
                    <a:gs pos="100000">
                      <a:srgbClr val="0066cc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《义勇军进行曲》：歌声响彻共和国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50000">
                    <a:srgbClr val="002f5e"/>
                  </a:gs>
                  <a:gs pos="100000">
                    <a:srgbClr val="0066cc"/>
                  </a:gs>
                </a:gsLst>
                <a:lin ang="108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5:27:05Z</dcterms:created>
  <dc:creator>MS User</dc:creator>
  <dc:description/>
  <dc:language>en-US</dc:language>
  <cp:lastModifiedBy>番茄花园</cp:lastModifiedBy>
  <dcterms:modified xsi:type="dcterms:W3CDTF">2009-02-08T11:58:28Z</dcterms:modified>
  <cp:revision>37</cp:revision>
  <dc:subject/>
  <dc:title>PowerPoint 演示文稿</dc:title>
</cp:coreProperties>
</file>