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4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TYPE.WAV" ContentType="audio/x-wav"/>
  <Override PartName="/ppt/media/image3.png" ContentType="image/png"/>
  <Override PartName="/ppt/media/image17.jpeg" ContentType="image/jpeg"/>
  <Override PartName="/ppt/media/image21.png" ContentType="image/png"/>
  <Override PartName="/ppt/media/image13.jpeg" ContentType="image/jpeg"/>
  <Override PartName="/ppt/media/image18.png" ContentType="image/png"/>
  <Override PartName="/ppt/media/image16.png" ContentType="image/png"/>
  <Override PartName="/ppt/media/CAMERA.WAV" ContentType="audio/x-wav"/>
  <Override PartName="/ppt/media/image5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02C-A2CB-4725-AE8E-83B06FC5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DB7-F78C-4345-9CF1-9B52C46A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F01-1816-4776-9C5D-E8132A06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5BB-8B6F-4043-BB61-A5DDE902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3DFA0-E2F6-4466-95BD-95771D96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BD8F1-A261-4E03-8ADA-27BA6217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9762D-8192-477D-B3F4-1CC62C68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5418E-332B-49D1-AAAB-D025CF3C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A074-0D56-4F8C-8FF5-D646FEF3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67BA4-E6E1-4D76-8C6D-4673F36C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DC34-860D-47E6-B5F3-A77CB5E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EF7-981A-43B9-83E5-7C7029C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E0C11-178D-415A-BB29-E46C436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0FE4E-0B6B-4A10-90CC-BC75C76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4649-396B-4A34-89B7-5BEBD1DC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E7C1-2A58-48AD-831D-2A9CC7C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F3058-AEB5-4F4E-9820-45D2DEDBE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27A-B565-445B-AF44-25BC92A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2C-C6E5-4116-AB18-502D819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E6E-D243-4828-A265-5F1C925A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405-CE6C-4BF3-8FA3-C7906BDA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305-E3D1-4B61-A00A-6FB54CED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A53-2E5A-439F-8AA3-804FEFA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9EA-03F1-4C75-8C8A-7BDC0314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27F3-7EC7-4D37-B50D-2E33C190C9B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D72-7FA6-4E33-A2E9-1FD81E580E1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28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61722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1972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年美国总统尼克松访华，发表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中美联合公报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-762120"/>
          <a:ext cx="7696080" cy="692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-762120"/>
                    <a:ext cx="7696080" cy="692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30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3276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毛泽东与尼克松一行亲切交谈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0"/>
          <a:ext cx="8382240" cy="679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0"/>
                    <a:ext cx="8382240" cy="67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8604360" y="6165720"/>
            <a:ext cx="539640" cy="692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92280"/>
              <a:gd name="textAreaBottom" fmla="*/ 657360 h 692280"/>
            </a:gdLst>
            <a:ahLst/>
            <a:rect l="textAreaLeft" t="textAreaTop" r="textAreaRight" b="textAreaBottom"/>
            <a:pathLst>
              <a:path w="21600" h="27706">
                <a:moveTo>
                  <a:pt x="0" y="0"/>
                </a:moveTo>
                <a:lnTo>
                  <a:pt x="21600" y="0"/>
                </a:lnTo>
                <a:lnTo>
                  <a:pt x="21600" y="27706"/>
                </a:lnTo>
                <a:lnTo>
                  <a:pt x="0" y="27706"/>
                </a:lnTo>
                <a:close/>
              </a:path>
              <a:path fill="lightenLess" w="21600" h="27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06">
                <a:moveTo>
                  <a:pt x="21600" y="0"/>
                </a:moveTo>
                <a:lnTo>
                  <a:pt x="21600" y="27706"/>
                </a:lnTo>
                <a:lnTo>
                  <a:pt x="20200" y="26306"/>
                </a:lnTo>
                <a:lnTo>
                  <a:pt x="20200" y="1400"/>
                </a:lnTo>
                <a:close/>
              </a:path>
              <a:path fill="darkenLess" w="21600" h="27706">
                <a:moveTo>
                  <a:pt x="21600" y="27706"/>
                </a:moveTo>
                <a:lnTo>
                  <a:pt x="0" y="27706"/>
                </a:lnTo>
                <a:lnTo>
                  <a:pt x="1400" y="26306"/>
                </a:lnTo>
                <a:lnTo>
                  <a:pt x="20200" y="26306"/>
                </a:lnTo>
                <a:close/>
              </a:path>
              <a:path fill="lighten" w="21600" h="27706">
                <a:moveTo>
                  <a:pt x="0" y="27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06"/>
                </a:lnTo>
                <a:close/>
              </a:path>
              <a:path fill="darken" w="21600" h="27706">
                <a:moveTo>
                  <a:pt x="3794" y="10545"/>
                </a:moveTo>
                <a:lnTo>
                  <a:pt x="7301" y="10545"/>
                </a:lnTo>
                <a:lnTo>
                  <a:pt x="7301" y="15881"/>
                </a:lnTo>
                <a:cubicBezTo>
                  <a:pt x="7301" y="16803"/>
                  <a:pt x="8102" y="17534"/>
                  <a:pt x="9138" y="17534"/>
                </a:cubicBezTo>
                <a:lnTo>
                  <a:pt x="10800" y="17534"/>
                </a:lnTo>
                <a:cubicBezTo>
                  <a:pt x="11836" y="17534"/>
                  <a:pt x="12636" y="16803"/>
                  <a:pt x="12636" y="15881"/>
                </a:cubicBezTo>
                <a:lnTo>
                  <a:pt x="12636" y="10545"/>
                </a:lnTo>
                <a:lnTo>
                  <a:pt x="10800" y="10545"/>
                </a:lnTo>
                <a:lnTo>
                  <a:pt x="14308" y="7038"/>
                </a:lnTo>
                <a:lnTo>
                  <a:pt x="17981" y="10545"/>
                </a:lnTo>
                <a:lnTo>
                  <a:pt x="16144" y="10545"/>
                </a:lnTo>
                <a:lnTo>
                  <a:pt x="16144" y="15881"/>
                </a:lnTo>
                <a:cubicBezTo>
                  <a:pt x="16144" y="18649"/>
                  <a:pt x="13568" y="21207"/>
                  <a:pt x="10800" y="21207"/>
                </a:cubicBezTo>
                <a:lnTo>
                  <a:pt x="9138" y="21207"/>
                </a:lnTo>
                <a:cubicBezTo>
                  <a:pt x="6370" y="21207"/>
                  <a:pt x="3794" y="18649"/>
                  <a:pt x="3794" y="15881"/>
                </a:cubicBezTo>
                <a:close/>
              </a:path>
            </a:pathLst>
          </a:cu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9" dur="75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457200"/>
          <a:ext cx="7010280" cy="592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57200"/>
                    <a:ext cx="7010280" cy="5924520"/>
                  </a:xfrm>
                  <a:prstGeom prst="rect">
                    <a:avLst/>
                  </a:prstGeom>
                  <a:ln w="7632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8445600" y="228600"/>
            <a:ext cx="54612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九七一年十月二十五日，第二十六届联合国大会恢复我国在联合国的一切合法权利，重新取得安理会常任理事国地位。图为五星红旗在联合国总部前升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7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0"/>
          <a:ext cx="9144000" cy="568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56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0" y="5257800"/>
            <a:ext cx="9144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7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，联合国大会恢复中华人民共和国在联合国的一切合法席位，这是中国代表团团长乔冠华在一次联合国大会上发言的场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0" dur="75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561080" cy="522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48000" y="5877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乔的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00000" y="423720"/>
            <a:ext cx="7417080" cy="6069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96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7493"/>
                </a:moveTo>
                <a:lnTo>
                  <a:pt x="13781" y="7493"/>
                </a:lnTo>
                <a:lnTo>
                  <a:pt x="13781" y="12828"/>
                </a:lnTo>
                <a:cubicBezTo>
                  <a:pt x="13781" y="13751"/>
                  <a:pt x="14582" y="14482"/>
                  <a:pt x="15618" y="14482"/>
                </a:cubicBezTo>
                <a:lnTo>
                  <a:pt x="17280" y="14482"/>
                </a:lnTo>
                <a:cubicBezTo>
                  <a:pt x="18316" y="14482"/>
                  <a:pt x="19116" y="13751"/>
                  <a:pt x="19116" y="12828"/>
                </a:cubicBezTo>
                <a:lnTo>
                  <a:pt x="19116" y="7493"/>
                </a:lnTo>
                <a:lnTo>
                  <a:pt x="17280" y="7493"/>
                </a:lnTo>
                <a:lnTo>
                  <a:pt x="20788" y="3985"/>
                </a:lnTo>
                <a:lnTo>
                  <a:pt x="24461" y="7493"/>
                </a:lnTo>
                <a:lnTo>
                  <a:pt x="22624" y="7493"/>
                </a:lnTo>
                <a:lnTo>
                  <a:pt x="22624" y="12828"/>
                </a:lnTo>
                <a:cubicBezTo>
                  <a:pt x="22624" y="15596"/>
                  <a:pt x="20048" y="18155"/>
                  <a:pt x="17280" y="18155"/>
                </a:cubicBezTo>
                <a:lnTo>
                  <a:pt x="15618" y="18155"/>
                </a:lnTo>
                <a:cubicBezTo>
                  <a:pt x="12850" y="18155"/>
                  <a:pt x="10274" y="15596"/>
                  <a:pt x="10274" y="12828"/>
                </a:cubicBezTo>
                <a:close/>
              </a:path>
            </a:pathLst>
          </a:custGeom>
          <a:solidFill>
            <a:srgbClr val="ffff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0" y="631800"/>
          <a:ext cx="9144000" cy="622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31800"/>
                    <a:ext cx="91440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0" y="0"/>
            <a:ext cx="9524880" cy="764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972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年毛泽东、周恩来在中南海亲切接见日本国首相田中角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75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48769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972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月，中日建立外交关系。图为双方签字后，互换联合声明文本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0"/>
          <a:ext cx="9144000" cy="465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488000" cy="5834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7493"/>
                </a:moveTo>
                <a:lnTo>
                  <a:pt x="12160" y="7493"/>
                </a:lnTo>
                <a:lnTo>
                  <a:pt x="12160" y="12828"/>
                </a:lnTo>
                <a:cubicBezTo>
                  <a:pt x="12160" y="13751"/>
                  <a:pt x="12960" y="14482"/>
                  <a:pt x="13996" y="14482"/>
                </a:cubicBezTo>
                <a:lnTo>
                  <a:pt x="15658" y="14482"/>
                </a:lnTo>
                <a:cubicBezTo>
                  <a:pt x="16694" y="14482"/>
                  <a:pt x="17495" y="13751"/>
                  <a:pt x="17495" y="12828"/>
                </a:cubicBezTo>
                <a:lnTo>
                  <a:pt x="17495" y="7493"/>
                </a:lnTo>
                <a:lnTo>
                  <a:pt x="15658" y="7493"/>
                </a:lnTo>
                <a:lnTo>
                  <a:pt x="19166" y="3985"/>
                </a:lnTo>
                <a:lnTo>
                  <a:pt x="22839" y="7493"/>
                </a:lnTo>
                <a:lnTo>
                  <a:pt x="21003" y="7493"/>
                </a:lnTo>
                <a:lnTo>
                  <a:pt x="21003" y="12828"/>
                </a:lnTo>
                <a:cubicBezTo>
                  <a:pt x="21003" y="15596"/>
                  <a:pt x="18426" y="18155"/>
                  <a:pt x="15658" y="18155"/>
                </a:cubicBezTo>
                <a:lnTo>
                  <a:pt x="13996" y="18155"/>
                </a:lnTo>
                <a:cubicBezTo>
                  <a:pt x="11228" y="18155"/>
                  <a:pt x="8652" y="15596"/>
                  <a:pt x="865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70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</a:t>
            </a:r>
            <a:r>
              <a:rPr b="0" lang="en-US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16</a:t>
            </a:r>
            <a:r>
              <a:rPr b="0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课</a:t>
            </a:r>
            <a:br>
              <a:rPr sz="8800"/>
            </a:br>
            <a:r>
              <a:rPr b="0" lang="zh-CN" sz="8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交事业的发展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7920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569080" cy="5623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101080" y="6175440"/>
            <a:ext cx="1042920" cy="682560"/>
          </a:xfrm>
          <a:custGeom>
            <a:avLst/>
            <a:gdLst>
              <a:gd name="textAreaLeft" fmla="*/ 43920 w 1042920"/>
              <a:gd name="textAreaRight" fmla="*/ 999000 w 104292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32998" h="21600">
                <a:moveTo>
                  <a:pt x="0" y="0"/>
                </a:moveTo>
                <a:lnTo>
                  <a:pt x="32998" y="0"/>
                </a:lnTo>
                <a:lnTo>
                  <a:pt x="32998" y="21600"/>
                </a:lnTo>
                <a:lnTo>
                  <a:pt x="0" y="21600"/>
                </a:lnTo>
                <a:close/>
              </a:path>
              <a:path fill="lightenLess" w="32998" h="21600">
                <a:moveTo>
                  <a:pt x="0" y="0"/>
                </a:moveTo>
                <a:lnTo>
                  <a:pt x="32998" y="0"/>
                </a:lnTo>
                <a:lnTo>
                  <a:pt x="31598" y="1400"/>
                </a:lnTo>
                <a:lnTo>
                  <a:pt x="1400" y="1400"/>
                </a:lnTo>
                <a:close/>
              </a:path>
              <a:path fill="darken" w="32998" h="21600">
                <a:moveTo>
                  <a:pt x="32998" y="0"/>
                </a:moveTo>
                <a:lnTo>
                  <a:pt x="32998" y="21600"/>
                </a:lnTo>
                <a:lnTo>
                  <a:pt x="31598" y="20200"/>
                </a:lnTo>
                <a:lnTo>
                  <a:pt x="31598" y="1400"/>
                </a:lnTo>
                <a:close/>
              </a:path>
              <a:path fill="darkenLess" w="32998" h="21600">
                <a:moveTo>
                  <a:pt x="32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598" y="20200"/>
                </a:lnTo>
                <a:close/>
              </a:path>
              <a:path fill="lighten" w="32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998" h="21600">
                <a:moveTo>
                  <a:pt x="9492" y="7493"/>
                </a:moveTo>
                <a:lnTo>
                  <a:pt x="13000" y="7493"/>
                </a:lnTo>
                <a:lnTo>
                  <a:pt x="13000" y="12828"/>
                </a:lnTo>
                <a:cubicBezTo>
                  <a:pt x="13000" y="13751"/>
                  <a:pt x="13801" y="14482"/>
                  <a:pt x="14836" y="14482"/>
                </a:cubicBezTo>
                <a:lnTo>
                  <a:pt x="16499" y="14482"/>
                </a:lnTo>
                <a:cubicBezTo>
                  <a:pt x="17535" y="14482"/>
                  <a:pt x="18335" y="13751"/>
                  <a:pt x="18335" y="12828"/>
                </a:cubicBezTo>
                <a:lnTo>
                  <a:pt x="18335" y="7493"/>
                </a:lnTo>
                <a:lnTo>
                  <a:pt x="16499" y="7493"/>
                </a:lnTo>
                <a:lnTo>
                  <a:pt x="20006" y="3985"/>
                </a:lnTo>
                <a:lnTo>
                  <a:pt x="23679" y="7493"/>
                </a:lnTo>
                <a:lnTo>
                  <a:pt x="21843" y="7493"/>
                </a:lnTo>
                <a:lnTo>
                  <a:pt x="21843" y="12828"/>
                </a:lnTo>
                <a:cubicBezTo>
                  <a:pt x="21843" y="15596"/>
                  <a:pt x="19267" y="18155"/>
                  <a:pt x="16499" y="18155"/>
                </a:cubicBezTo>
                <a:lnTo>
                  <a:pt x="14836" y="18155"/>
                </a:lnTo>
                <a:cubicBezTo>
                  <a:pt x="12069" y="18155"/>
                  <a:pt x="9492" y="15596"/>
                  <a:pt x="9492" y="12828"/>
                </a:cubicBez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63440"/>
            <a:ext cx="896472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836640"/>
            <a:ext cx="3276720" cy="4753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5472000" cy="371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5473440" cy="306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17080" y="6246720"/>
            <a:ext cx="826920" cy="611280"/>
          </a:xfrm>
          <a:custGeom>
            <a:avLst/>
            <a:gdLst>
              <a:gd name="textAreaLeft" fmla="*/ 39600 w 826920"/>
              <a:gd name="textAreaRight" fmla="*/ 787320 w 826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9215" h="21600">
                <a:moveTo>
                  <a:pt x="0" y="0"/>
                </a:moveTo>
                <a:lnTo>
                  <a:pt x="29215" y="0"/>
                </a:lnTo>
                <a:lnTo>
                  <a:pt x="29215" y="21600"/>
                </a:lnTo>
                <a:lnTo>
                  <a:pt x="0" y="21600"/>
                </a:lnTo>
                <a:close/>
              </a:path>
              <a:path fill="lightenLess" w="29215" h="21600">
                <a:moveTo>
                  <a:pt x="0" y="0"/>
                </a:moveTo>
                <a:lnTo>
                  <a:pt x="29215" y="0"/>
                </a:lnTo>
                <a:lnTo>
                  <a:pt x="27815" y="1400"/>
                </a:lnTo>
                <a:lnTo>
                  <a:pt x="1400" y="1400"/>
                </a:lnTo>
                <a:close/>
              </a:path>
              <a:path fill="darken" w="29215" h="21600">
                <a:moveTo>
                  <a:pt x="29215" y="0"/>
                </a:moveTo>
                <a:lnTo>
                  <a:pt x="29215" y="21600"/>
                </a:lnTo>
                <a:lnTo>
                  <a:pt x="27815" y="20200"/>
                </a:lnTo>
                <a:lnTo>
                  <a:pt x="27815" y="1400"/>
                </a:lnTo>
                <a:close/>
              </a:path>
              <a:path fill="darkenLess" w="29215" h="21600">
                <a:moveTo>
                  <a:pt x="29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15" y="20200"/>
                </a:lnTo>
                <a:close/>
              </a:path>
              <a:path fill="lighten" w="29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881520" y="1798560"/>
            <a:ext cx="5292720" cy="5126040"/>
          </a:xfrm>
          <a:custGeom>
            <a:avLst/>
            <a:gdLst/>
            <a:ahLst/>
            <a:rect l="l" t="t" r="r" b="b"/>
            <a:pathLst>
              <a:path w="3334" h="3229">
                <a:moveTo>
                  <a:pt x="3311" y="0"/>
                </a:moveTo>
                <a:cubicBezTo>
                  <a:pt x="3294" y="5"/>
                  <a:pt x="3199" y="88"/>
                  <a:pt x="3187" y="100"/>
                </a:cubicBezTo>
                <a:cubicBezTo>
                  <a:pt x="3175" y="112"/>
                  <a:pt x="3179" y="134"/>
                  <a:pt x="3171" y="150"/>
                </a:cubicBezTo>
                <a:cubicBezTo>
                  <a:pt x="3162" y="168"/>
                  <a:pt x="3148" y="184"/>
                  <a:pt x="3137" y="201"/>
                </a:cubicBezTo>
                <a:cubicBezTo>
                  <a:pt x="3102" y="311"/>
                  <a:pt x="3157" y="477"/>
                  <a:pt x="3071" y="534"/>
                </a:cubicBezTo>
                <a:cubicBezTo>
                  <a:pt x="3063" y="601"/>
                  <a:pt x="2974" y="611"/>
                  <a:pt x="2937" y="667"/>
                </a:cubicBezTo>
                <a:lnTo>
                  <a:pt x="2645" y="1000"/>
                </a:lnTo>
                <a:lnTo>
                  <a:pt x="2721" y="801"/>
                </a:lnTo>
                <a:lnTo>
                  <a:pt x="2367" y="1056"/>
                </a:lnTo>
                <a:lnTo>
                  <a:pt x="2711" y="1311"/>
                </a:lnTo>
                <a:lnTo>
                  <a:pt x="2633" y="1133"/>
                </a:lnTo>
                <a:cubicBezTo>
                  <a:pt x="2659" y="1149"/>
                  <a:pt x="3099" y="1446"/>
                  <a:pt x="3156" y="1533"/>
                </a:cubicBezTo>
                <a:cubicBezTo>
                  <a:pt x="3213" y="1620"/>
                  <a:pt x="3000" y="1659"/>
                  <a:pt x="2978" y="1656"/>
                </a:cubicBezTo>
                <a:lnTo>
                  <a:pt x="3021" y="1517"/>
                </a:lnTo>
                <a:lnTo>
                  <a:pt x="2689" y="1589"/>
                </a:lnTo>
                <a:lnTo>
                  <a:pt x="2767" y="1922"/>
                </a:lnTo>
                <a:lnTo>
                  <a:pt x="2867" y="1778"/>
                </a:lnTo>
                <a:lnTo>
                  <a:pt x="2878" y="2111"/>
                </a:lnTo>
                <a:lnTo>
                  <a:pt x="2611" y="2133"/>
                </a:lnTo>
                <a:lnTo>
                  <a:pt x="2456" y="2244"/>
                </a:lnTo>
                <a:lnTo>
                  <a:pt x="2400" y="2500"/>
                </a:lnTo>
                <a:lnTo>
                  <a:pt x="2300" y="2578"/>
                </a:lnTo>
                <a:lnTo>
                  <a:pt x="2333" y="2444"/>
                </a:lnTo>
                <a:lnTo>
                  <a:pt x="2144" y="2600"/>
                </a:lnTo>
                <a:lnTo>
                  <a:pt x="2267" y="2822"/>
                </a:lnTo>
                <a:lnTo>
                  <a:pt x="2278" y="2689"/>
                </a:lnTo>
                <a:cubicBezTo>
                  <a:pt x="2286" y="2693"/>
                  <a:pt x="2373" y="2774"/>
                  <a:pt x="2367" y="2822"/>
                </a:cubicBezTo>
                <a:cubicBezTo>
                  <a:pt x="2361" y="2870"/>
                  <a:pt x="2342" y="2950"/>
                  <a:pt x="2244" y="2978"/>
                </a:cubicBezTo>
                <a:cubicBezTo>
                  <a:pt x="2146" y="3006"/>
                  <a:pt x="1868" y="3016"/>
                  <a:pt x="1778" y="2989"/>
                </a:cubicBezTo>
                <a:cubicBezTo>
                  <a:pt x="1686" y="2971"/>
                  <a:pt x="1717" y="2871"/>
                  <a:pt x="1688" y="2868"/>
                </a:cubicBezTo>
                <a:cubicBezTo>
                  <a:pt x="1669" y="2907"/>
                  <a:pt x="1619" y="2927"/>
                  <a:pt x="1604" y="2968"/>
                </a:cubicBezTo>
                <a:cubicBezTo>
                  <a:pt x="1553" y="2991"/>
                  <a:pt x="1640" y="3193"/>
                  <a:pt x="1489" y="3200"/>
                </a:cubicBezTo>
                <a:cubicBezTo>
                  <a:pt x="1359" y="3229"/>
                  <a:pt x="948" y="3175"/>
                  <a:pt x="822" y="3144"/>
                </a:cubicBezTo>
                <a:cubicBezTo>
                  <a:pt x="696" y="3113"/>
                  <a:pt x="726" y="3022"/>
                  <a:pt x="733" y="3011"/>
                </a:cubicBezTo>
                <a:lnTo>
                  <a:pt x="867" y="3078"/>
                </a:lnTo>
                <a:lnTo>
                  <a:pt x="811" y="2789"/>
                </a:lnTo>
                <a:lnTo>
                  <a:pt x="444" y="2922"/>
                </a:lnTo>
                <a:lnTo>
                  <a:pt x="622" y="2978"/>
                </a:lnTo>
                <a:lnTo>
                  <a:pt x="344" y="3044"/>
                </a:lnTo>
                <a:lnTo>
                  <a:pt x="0" y="3189"/>
                </a:lnTo>
                <a:lnTo>
                  <a:pt x="2511" y="3222"/>
                </a:lnTo>
                <a:lnTo>
                  <a:pt x="2467" y="2578"/>
                </a:lnTo>
                <a:lnTo>
                  <a:pt x="2511" y="2300"/>
                </a:lnTo>
                <a:lnTo>
                  <a:pt x="2645" y="2200"/>
                </a:lnTo>
                <a:lnTo>
                  <a:pt x="2767" y="2378"/>
                </a:lnTo>
                <a:lnTo>
                  <a:pt x="2689" y="2778"/>
                </a:lnTo>
                <a:lnTo>
                  <a:pt x="2500" y="2611"/>
                </a:lnTo>
                <a:lnTo>
                  <a:pt x="2433" y="2589"/>
                </a:lnTo>
                <a:lnTo>
                  <a:pt x="2478" y="2778"/>
                </a:lnTo>
                <a:lnTo>
                  <a:pt x="2489" y="2967"/>
                </a:lnTo>
                <a:lnTo>
                  <a:pt x="2489" y="3211"/>
                </a:lnTo>
                <a:lnTo>
                  <a:pt x="3334" y="3211"/>
                </a:lnTo>
                <a:lnTo>
                  <a:pt x="3311" y="11"/>
                </a:lnTo>
              </a:path>
            </a:pathLst>
          </a:custGeom>
          <a:solidFill>
            <a:srgbClr val="ffffff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37520" cy="2151000"/>
          </a:xfrm>
          <a:custGeom>
            <a:avLst/>
            <a:gdLst/>
            <a:ahLst/>
            <a:rect l="l" t="t" r="r" b="b"/>
            <a:pathLst>
              <a:path w="5756" h="1355">
                <a:moveTo>
                  <a:pt x="0" y="0"/>
                </a:moveTo>
                <a:lnTo>
                  <a:pt x="0" y="1355"/>
                </a:lnTo>
                <a:lnTo>
                  <a:pt x="67" y="1355"/>
                </a:lnTo>
                <a:lnTo>
                  <a:pt x="256" y="1289"/>
                </a:lnTo>
                <a:lnTo>
                  <a:pt x="333" y="1311"/>
                </a:lnTo>
                <a:lnTo>
                  <a:pt x="578" y="1267"/>
                </a:lnTo>
                <a:lnTo>
                  <a:pt x="678" y="1233"/>
                </a:lnTo>
                <a:lnTo>
                  <a:pt x="768" y="1104"/>
                </a:lnTo>
                <a:lnTo>
                  <a:pt x="816" y="960"/>
                </a:lnTo>
                <a:lnTo>
                  <a:pt x="768" y="864"/>
                </a:lnTo>
                <a:lnTo>
                  <a:pt x="912" y="864"/>
                </a:lnTo>
                <a:lnTo>
                  <a:pt x="1008" y="864"/>
                </a:lnTo>
                <a:lnTo>
                  <a:pt x="1056" y="720"/>
                </a:lnTo>
                <a:lnTo>
                  <a:pt x="1152" y="672"/>
                </a:lnTo>
                <a:lnTo>
                  <a:pt x="1296" y="720"/>
                </a:lnTo>
                <a:lnTo>
                  <a:pt x="1344" y="624"/>
                </a:lnTo>
                <a:lnTo>
                  <a:pt x="1392" y="528"/>
                </a:lnTo>
                <a:lnTo>
                  <a:pt x="1536" y="528"/>
                </a:lnTo>
                <a:lnTo>
                  <a:pt x="1789" y="400"/>
                </a:lnTo>
                <a:lnTo>
                  <a:pt x="2089" y="433"/>
                </a:lnTo>
                <a:lnTo>
                  <a:pt x="2389" y="400"/>
                </a:lnTo>
                <a:lnTo>
                  <a:pt x="2745" y="467"/>
                </a:lnTo>
                <a:lnTo>
                  <a:pt x="3023" y="433"/>
                </a:lnTo>
                <a:lnTo>
                  <a:pt x="3323" y="367"/>
                </a:lnTo>
                <a:lnTo>
                  <a:pt x="3600" y="528"/>
                </a:lnTo>
                <a:lnTo>
                  <a:pt x="3967" y="467"/>
                </a:lnTo>
                <a:lnTo>
                  <a:pt x="4112" y="511"/>
                </a:lnTo>
                <a:lnTo>
                  <a:pt x="4224" y="480"/>
                </a:lnTo>
                <a:lnTo>
                  <a:pt x="4320" y="432"/>
                </a:lnTo>
                <a:lnTo>
                  <a:pt x="4272" y="384"/>
                </a:lnTo>
                <a:lnTo>
                  <a:pt x="4368" y="192"/>
                </a:lnTo>
                <a:lnTo>
                  <a:pt x="4272" y="96"/>
                </a:lnTo>
                <a:lnTo>
                  <a:pt x="4368" y="48"/>
                </a:lnTo>
                <a:lnTo>
                  <a:pt x="4464" y="0"/>
                </a:lnTo>
                <a:lnTo>
                  <a:pt x="4800" y="0"/>
                </a:lnTo>
                <a:lnTo>
                  <a:pt x="4896" y="48"/>
                </a:lnTo>
                <a:lnTo>
                  <a:pt x="4944" y="144"/>
                </a:lnTo>
                <a:lnTo>
                  <a:pt x="5040" y="336"/>
                </a:lnTo>
                <a:lnTo>
                  <a:pt x="5356" y="422"/>
                </a:lnTo>
                <a:lnTo>
                  <a:pt x="5424" y="480"/>
                </a:lnTo>
                <a:lnTo>
                  <a:pt x="5568" y="384"/>
                </a:lnTo>
                <a:lnTo>
                  <a:pt x="5723" y="356"/>
                </a:lnTo>
                <a:lnTo>
                  <a:pt x="5690" y="622"/>
                </a:lnTo>
                <a:lnTo>
                  <a:pt x="5679" y="789"/>
                </a:lnTo>
                <a:lnTo>
                  <a:pt x="5578" y="900"/>
                </a:lnTo>
                <a:lnTo>
                  <a:pt x="5523" y="922"/>
                </a:lnTo>
                <a:lnTo>
                  <a:pt x="5567" y="1067"/>
                </a:lnTo>
                <a:lnTo>
                  <a:pt x="5590" y="1222"/>
                </a:lnTo>
                <a:lnTo>
                  <a:pt x="5701" y="1133"/>
                </a:lnTo>
                <a:lnTo>
                  <a:pt x="5756" y="1100"/>
                </a:lnTo>
                <a:lnTo>
                  <a:pt x="5756" y="11"/>
                </a:lnTo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525780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美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9680"/>
            <a:ext cx="5410080" cy="3505320"/>
          </a:xfrm>
          <a:prstGeom prst="wedgeRoundRectCallout">
            <a:avLst>
              <a:gd name="adj1" fmla="val 105162"/>
              <a:gd name="adj2" fmla="val 64717"/>
              <a:gd name="adj3" fmla="val 1666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美国敌视中国，继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搞“两个中国”在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湾海峡进行军事活动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还发动侵越战争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049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苏联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590920"/>
            <a:ext cx="8458200" cy="3886200"/>
          </a:xfrm>
          <a:prstGeom prst="wedgeRoundRectCallout">
            <a:avLst>
              <a:gd name="adj1" fmla="val -50037"/>
              <a:gd name="adj2" fmla="val -90888"/>
              <a:gd name="adj3" fmla="val 16667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5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苏联要求在中国建设中苏共同所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长波电台和建立一支共同的潜艇舰队。中国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维护国家主权，严辞拒绝苏联的无理要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5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干涉中国对台湾的内部事务，不久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党两国意识形态的分歧公开化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苏联撕毁经济合作协议、合同，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苏关系急剧恶化，开始边界发生武装冲突，给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国构成了严重威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9051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力发展与亚非拉各国的友好关系作为外交工作的重点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一大片”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的外交方针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5029200"/>
            <a:ext cx="44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年代中期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年代末，与亚非拉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多个国家建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332640"/>
            <a:ext cx="58323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一、中美关系正常化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139400" y="1124280"/>
            <a:ext cx="488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“乒乓外交”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310200"/>
            <a:ext cx="78483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3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、尼克松访华和上海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《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联合公报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》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的发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7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26760" y="4821480"/>
            <a:ext cx="263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中美正式建交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7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5288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221000"/>
            <a:ext cx="160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8520" y="2060640"/>
            <a:ext cx="309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、基辛格访华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71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月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3933720"/>
            <a:ext cx="754200" cy="466920"/>
          </a:xfrm>
          <a:custGeom>
            <a:avLst/>
            <a:gdLst>
              <a:gd name="textAreaLeft" fmla="*/ 30240 w 754200"/>
              <a:gd name="textAreaRight" fmla="*/ 723960 w 754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4880" h="21600">
                <a:moveTo>
                  <a:pt x="0" y="0"/>
                </a:moveTo>
                <a:lnTo>
                  <a:pt x="34880" y="0"/>
                </a:lnTo>
                <a:lnTo>
                  <a:pt x="34880" y="21600"/>
                </a:lnTo>
                <a:lnTo>
                  <a:pt x="0" y="21600"/>
                </a:lnTo>
                <a:close/>
              </a:path>
              <a:path fill="lightenLess" w="34880" h="21600">
                <a:moveTo>
                  <a:pt x="0" y="0"/>
                </a:moveTo>
                <a:lnTo>
                  <a:pt x="34880" y="0"/>
                </a:lnTo>
                <a:lnTo>
                  <a:pt x="33480" y="1400"/>
                </a:lnTo>
                <a:lnTo>
                  <a:pt x="1400" y="1400"/>
                </a:lnTo>
                <a:close/>
              </a:path>
              <a:path fill="darken" w="34880" h="21600">
                <a:moveTo>
                  <a:pt x="34880" y="0"/>
                </a:moveTo>
                <a:lnTo>
                  <a:pt x="34880" y="21600"/>
                </a:lnTo>
                <a:lnTo>
                  <a:pt x="33480" y="20200"/>
                </a:lnTo>
                <a:lnTo>
                  <a:pt x="33480" y="1400"/>
                </a:lnTo>
                <a:close/>
              </a:path>
              <a:path fill="darkenLess" w="34880" h="21600">
                <a:moveTo>
                  <a:pt x="34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0" y="20200"/>
                </a:lnTo>
                <a:close/>
              </a:path>
              <a:path fill="lighten" w="34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0" h="21600">
                <a:moveTo>
                  <a:pt x="10433" y="7301"/>
                </a:moveTo>
                <a:lnTo>
                  <a:pt x="11347" y="7301"/>
                </a:lnTo>
                <a:lnTo>
                  <a:pt x="11730" y="7667"/>
                </a:lnTo>
                <a:lnTo>
                  <a:pt x="20939" y="7667"/>
                </a:lnTo>
                <a:lnTo>
                  <a:pt x="21496" y="8224"/>
                </a:lnTo>
                <a:lnTo>
                  <a:pt x="21496" y="8772"/>
                </a:lnTo>
                <a:lnTo>
                  <a:pt x="23341" y="8772"/>
                </a:lnTo>
                <a:lnTo>
                  <a:pt x="23706" y="8224"/>
                </a:lnTo>
                <a:lnTo>
                  <a:pt x="24446" y="8224"/>
                </a:lnTo>
                <a:lnTo>
                  <a:pt x="24446" y="13376"/>
                </a:lnTo>
                <a:lnTo>
                  <a:pt x="23706" y="13376"/>
                </a:lnTo>
                <a:lnTo>
                  <a:pt x="23341" y="12828"/>
                </a:lnTo>
                <a:lnTo>
                  <a:pt x="21496" y="12828"/>
                </a:lnTo>
                <a:lnTo>
                  <a:pt x="21496" y="14107"/>
                </a:lnTo>
                <a:lnTo>
                  <a:pt x="11913" y="14107"/>
                </a:lnTo>
                <a:lnTo>
                  <a:pt x="11913" y="9877"/>
                </a:lnTo>
                <a:lnTo>
                  <a:pt x="11730" y="9877"/>
                </a:lnTo>
                <a:lnTo>
                  <a:pt x="11347" y="10243"/>
                </a:lnTo>
                <a:lnTo>
                  <a:pt x="10433" y="10243"/>
                </a:lnTo>
                <a:close/>
              </a:path>
            </a:pathLst>
          </a:cu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35280" y="2852640"/>
            <a:ext cx="55087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27560" y="260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二、中国恢复在联合国的合法席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90040" y="1484280"/>
            <a:ext cx="599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1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、中国恢复在联合国的合法席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7440" y="2549520"/>
            <a:ext cx="2020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2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、中日关系正常化（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1972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年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23080" y="3573360"/>
            <a:ext cx="2843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3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、“我们的朋友遍天下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5280" y="189000"/>
            <a:ext cx="431964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维探索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/>
          <p:nvPr/>
        </p:nvSpPr>
        <p:spPr>
          <a:xfrm>
            <a:off x="3438720" y="1827360"/>
            <a:ext cx="7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、有永远的敌人，有永远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79480" y="2637000"/>
            <a:ext cx="7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、有永远的敌人，没有永远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5960" y="3500280"/>
            <a:ext cx="7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、没有永远的敌人，有永远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984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33640" y="4292640"/>
            <a:ext cx="663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ahoma"/>
              </a:rPr>
              <a:t>、没有永远的敌人，没有永远的朋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ffff"/>
                </a:solidFill>
                <a:uFillTx/>
                <a:latin typeface="Tahoma"/>
                <a:ea typeface="黑体"/>
              </a:rPr>
              <a:t>三、中国承办亚太经合组织会议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时间：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0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主题：新世纪，新挑战：参与、合作，促进共同繁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会议通过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上海共识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江泽民宣读亚太经合组织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领导人宣言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意义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上海ＡＰＥＣ会议是中国迄今举行的规模最大、规格最高的多边外交活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268280"/>
            <a:ext cx="8135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美日总统来访华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促进关系正常化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联合国的大厦前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星红旗迎风扬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新世纪，新挑战，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APEC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首脑上海见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多边外交规格高，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唐装引领时装潮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333360"/>
            <a:ext cx="44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>
                    <a:alpha val="79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历史小歌谣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>
                  <a:alpha val="79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209080" cy="5911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87480" y="602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78280" y="593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基辛格访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07-04-19T01:17:44Z</dcterms:modified>
  <cp:revision>19</cp:revision>
  <dc:subject/>
  <dc:title>PowerPoint Presentation</dc:title>
</cp:coreProperties>
</file>