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png" ContentType="image/png"/>
  <Override PartName="/ppt/media/image25.jpeg" ContentType="image/jpeg"/>
  <Override PartName="/ppt/media/image22.gif" ContentType="image/gif"/>
  <Override PartName="/ppt/media/image15.png" ContentType="image/png"/>
  <Override PartName="/ppt/media/image21.wmf" ContentType="image/x-wmf"/>
  <Override PartName="/ppt/media/image18.png" ContentType="image/png"/>
  <Override PartName="/ppt/media/image20.jpeg" ContentType="image/jpeg"/>
  <Override PartName="/ppt/media/image19.jpeg" ContentType="image/jpeg"/>
  <Override PartName="/ppt/media/image2.gif" ContentType="image/gif"/>
  <Override PartName="/ppt/media/image9.png" ContentType="image/png"/>
  <Override PartName="/ppt/media/image40.jpeg" ContentType="image/jpeg"/>
  <Override PartName="/ppt/media/image11.jpeg" ContentType="image/jpeg"/>
  <Override PartName="/ppt/media/image36.jpeg" ContentType="image/jpeg"/>
  <Override PartName="/ppt/media/image17.png" ContentType="image/png"/>
  <Override PartName="/ppt/media/image32.jpeg" ContentType="image/jpeg"/>
  <Override PartName="/ppt/media/image13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35.png" ContentType="image/png"/>
  <Override PartName="/ppt/media/image5.png" ContentType="image/png"/>
  <Override PartName="/ppt/media/image33.png" ContentType="image/png"/>
  <Override PartName="/ppt/media/image41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29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6.png" ContentType="image/png"/>
  <Override PartName="/ppt/embeddings/oleObject1.bin" ContentType="application/vnd.openxmlformats-officedocument.oleObject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1C42-24D3-4C17-B23F-E182CDBB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2D32-2DBE-4201-B7AE-48A60264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BC2A-D4AB-4F0B-99CF-97080A1B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0C50-F66C-485B-A3B9-1A19F958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B455-D3B8-4851-B2F5-C2774F51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85A0-2F23-4BB5-AC47-13239ED9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6C77-C133-4572-BB20-04E313EB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943A-0E2B-47E8-8FEC-005CF7AE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8623-49FD-4B53-BB14-64297F8F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3BF1-D45E-41E5-AE42-B51AC308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99BB-75D7-4BAE-A5BD-563F3464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ED84-3C59-42A0-8714-640FE57F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739E-F7D7-4C08-9A4D-D8F454B85B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image" Target="../media/image2.gif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package" Target="../embeddings/oleObject2.pptx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86000" y="-690120"/>
            <a:ext cx="1399320" cy="82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活动课二    历史纪实大家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----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新 中国的外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5277" b="0"/>
          <a:stretch/>
        </p:blipFill>
        <p:spPr>
          <a:xfrm>
            <a:off x="1158840" y="1752480"/>
            <a:ext cx="2422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929680" y="5105520"/>
            <a:ext cx="31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1997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年香港回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86400" y="2362320"/>
            <a:ext cx="2590920" cy="1733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3657600" cy="254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620120" y="380880"/>
            <a:ext cx="12189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520560" y="762120"/>
            <a:ext cx="3594240" cy="5141160"/>
            <a:chOff x="520560" y="762120"/>
            <a:chExt cx="3594240" cy="514116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520560" y="762120"/>
              <a:ext cx="3594240" cy="25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827640" y="4468680"/>
              <a:ext cx="2935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宋体"/>
                </a:rPr>
                <a:t>1998</a:t>
              </a:r>
              <a:r>
                <a:rPr b="0" lang="zh-CN" sz="4400" spc="-1" strike="noStrike">
                  <a:solidFill>
                    <a:srgbClr val="ffff00"/>
                  </a:solidFill>
                  <a:latin typeface="宋体"/>
                </a:rPr>
                <a:t>年朱镕基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宋体"/>
                </a:rPr>
                <a:t>参加日内瓦会议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800600" y="736560"/>
            <a:ext cx="3886200" cy="5160600"/>
            <a:chOff x="4800600" y="736560"/>
            <a:chExt cx="3886200" cy="5160600"/>
          </a:xfrm>
        </p:grpSpPr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4800600" y="736560"/>
              <a:ext cx="3886200" cy="25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453280" y="4462560"/>
              <a:ext cx="2777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</a:rPr>
                <a:t>1999</a:t>
              </a: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</a:rPr>
                <a:t>年朱镕基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</a:rPr>
                <a:t>访问美国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1447920" y="609480"/>
            <a:ext cx="5790960" cy="5717520"/>
            <a:chOff x="1447920" y="609480"/>
            <a:chExt cx="5790960" cy="5717520"/>
          </a:xfrm>
        </p:grpSpPr>
        <p:graphicFrame>
          <p:nvGraphicFramePr>
            <p:cNvPr id="94" name=""/>
            <p:cNvGraphicFramePr/>
            <p:nvPr/>
          </p:nvGraphicFramePr>
          <p:xfrm>
            <a:off x="1447920" y="609480"/>
            <a:ext cx="5790960" cy="4343400"/>
          </p:xfrm>
          <a:graphic>
            <a:graphicData uri="http://schemas.openxmlformats.org/presentationml/2006/ole">
              <p:oleObj progId="PowerPoint.Show.12" r:id="rId1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609480"/>
                      <a:ext cx="5790960" cy="434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"/>
            <p:cNvSpPr/>
            <p:nvPr/>
          </p:nvSpPr>
          <p:spPr>
            <a:xfrm>
              <a:off x="2720160" y="5562720"/>
              <a:ext cx="3112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1999</a:t>
              </a: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年澳门回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476360" y="1052640"/>
            <a:ext cx="579600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46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>
                    <a:alpha val="50000"/>
                  </a:srgbClr>
                </a:solidFill>
                <a:latin typeface="方正舒体"/>
              </a:rPr>
              <a:t>各学习小组成果展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>
                  <a:alpha val="50000"/>
                </a:srgbClr>
              </a:solidFill>
              <a:latin typeface="方正舒体"/>
              <a:ea typeface="方正舒体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09480" y="1143000"/>
            <a:ext cx="7696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>
                    <a:alpha val="50000"/>
                  </a:srgbClr>
                </a:solidFill>
                <a:latin typeface="方正舒体"/>
              </a:rPr>
              <a:t>第一学习小组成果展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>
                  <a:alpha val="50000"/>
                </a:srgbClr>
              </a:solidFill>
              <a:latin typeface="方正舒体"/>
              <a:ea typeface="方正舒体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5243400"/>
            <a:ext cx="87631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第一个和中国建交的国家——苏联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5562720" cy="36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4572000" y="685800"/>
            <a:ext cx="4572000" cy="5772240"/>
            <a:chOff x="4572000" y="685800"/>
            <a:chExt cx="4572000" cy="577224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4572000" y="3429000"/>
              <a:ext cx="4286160" cy="30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365800" y="685800"/>
              <a:ext cx="37782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1917</a:t>
              </a:r>
              <a:r>
                <a:rPr b="0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年第一个社会主义国家苏联 建立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57200" y="380880"/>
            <a:ext cx="4419720" cy="4574520"/>
            <a:chOff x="457200" y="380880"/>
            <a:chExt cx="4419720" cy="457452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457200" y="380880"/>
              <a:ext cx="4191120" cy="31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62120" y="4191120"/>
              <a:ext cx="4114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俄国十月革命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371600" y="922320"/>
            <a:ext cx="7162920" cy="5023440"/>
            <a:chOff x="1371600" y="922320"/>
            <a:chExt cx="7162920" cy="5023440"/>
          </a:xfrm>
        </p:grpSpPr>
        <p:sp>
          <p:nvSpPr>
            <p:cNvPr id="110" name=""/>
            <p:cNvSpPr/>
            <p:nvPr/>
          </p:nvSpPr>
          <p:spPr>
            <a:xfrm>
              <a:off x="1371600" y="5181480"/>
              <a:ext cx="7162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毛泽东访问苏联  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1905120" y="922320"/>
              <a:ext cx="5638680" cy="393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187280" y="1413000"/>
            <a:ext cx="6212160" cy="17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>
                    <a:alpha val="50000"/>
                  </a:srgbClr>
                </a:solidFill>
                <a:latin typeface="方正舒体"/>
              </a:rPr>
              <a:t>第二学习小组成果展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>
                  <a:alpha val="50000"/>
                </a:srgbClr>
              </a:solidFill>
              <a:latin typeface="方正舒体"/>
              <a:ea typeface="方正舒体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380880" y="1128600"/>
            <a:ext cx="8763120" cy="5670000"/>
            <a:chOff x="380880" y="1128600"/>
            <a:chExt cx="8763120" cy="5670000"/>
          </a:xfrm>
        </p:grpSpPr>
        <p:sp>
          <p:nvSpPr>
            <p:cNvPr id="115" name=""/>
            <p:cNvSpPr/>
            <p:nvPr/>
          </p:nvSpPr>
          <p:spPr>
            <a:xfrm>
              <a:off x="380880" y="5014800"/>
              <a:ext cx="8763120" cy="17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表演历史短剧——《万隆会议》  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       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1"/>
            <a:srcRect l="0" t="11640" r="0" b="9259"/>
            <a:stretch/>
          </p:blipFill>
          <p:spPr>
            <a:xfrm>
              <a:off x="1905120" y="1128600"/>
              <a:ext cx="4952880" cy="285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02560" cy="5189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19320" y="1143000"/>
            <a:ext cx="6095880" cy="3978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32280" y="5791320"/>
            <a:ext cx="313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开国大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5800" y="1066680"/>
            <a:ext cx="6622920" cy="16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>
                    <a:alpha val="50000"/>
                  </a:srgbClr>
                </a:solidFill>
                <a:latin typeface="方正舒体"/>
              </a:rPr>
              <a:t>第三学习小组成果展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>
                  <a:alpha val="50000"/>
                </a:srgbClr>
              </a:solidFill>
              <a:latin typeface="方正舒体"/>
              <a:ea typeface="方正舒体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3000" y="510552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旧中国的屈辱外交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124080" y="944640"/>
            <a:ext cx="2895840" cy="3095640"/>
            <a:chOff x="3124080" y="944640"/>
            <a:chExt cx="2895840" cy="3095640"/>
          </a:xfrm>
        </p:grpSpPr>
        <p:graphicFrame>
          <p:nvGraphicFramePr>
            <p:cNvPr id="121" name=""/>
            <p:cNvGraphicFramePr/>
            <p:nvPr/>
          </p:nvGraphicFramePr>
          <p:xfrm>
            <a:off x="3124080" y="944640"/>
            <a:ext cx="2895840" cy="22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944640"/>
                      <a:ext cx="2895840" cy="22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" name=""/>
            <p:cNvSpPr/>
            <p:nvPr/>
          </p:nvSpPr>
          <p:spPr>
            <a:xfrm>
              <a:off x="4387680" y="3458880"/>
              <a:ext cx="55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cc00"/>
                  </a:solidFill>
                  <a:latin typeface="Times New Roman"/>
                </a:rPr>
                <a:t>《马关条约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172200" y="914400"/>
            <a:ext cx="2895480" cy="3096000"/>
            <a:chOff x="6172200" y="914400"/>
            <a:chExt cx="2895480" cy="3096000"/>
          </a:xfrm>
        </p:grpSpPr>
        <p:sp>
          <p:nvSpPr>
            <p:cNvPr id="125" name=""/>
            <p:cNvSpPr/>
            <p:nvPr/>
          </p:nvSpPr>
          <p:spPr>
            <a:xfrm>
              <a:off x="7359480" y="3429000"/>
              <a:ext cx="55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cc00"/>
                  </a:solidFill>
                  <a:latin typeface="Times New Roman"/>
                </a:rPr>
                <a:t>《辛丑条约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6" name=""/>
            <p:cNvGraphicFramePr/>
            <p:nvPr/>
          </p:nvGraphicFramePr>
          <p:xfrm>
            <a:off x="6172200" y="914400"/>
            <a:ext cx="2895480" cy="228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72200" y="914400"/>
                      <a:ext cx="2895480" cy="228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8" name=""/>
          <p:cNvGrpSpPr/>
          <p:nvPr/>
        </p:nvGrpSpPr>
        <p:grpSpPr>
          <a:xfrm>
            <a:off x="76320" y="944640"/>
            <a:ext cx="2895480" cy="3095640"/>
            <a:chOff x="76320" y="944640"/>
            <a:chExt cx="2895480" cy="3095640"/>
          </a:xfrm>
        </p:grpSpPr>
        <p:graphicFrame>
          <p:nvGraphicFramePr>
            <p:cNvPr id="129" name=""/>
            <p:cNvGraphicFramePr/>
            <p:nvPr/>
          </p:nvGraphicFramePr>
          <p:xfrm>
            <a:off x="76320" y="944640"/>
            <a:ext cx="2895480" cy="2285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320" y="944640"/>
                      <a:ext cx="2895480" cy="228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1339920" y="3458880"/>
              <a:ext cx="55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cc00"/>
                  </a:solidFill>
                  <a:latin typeface="Times New Roman"/>
                </a:rPr>
                <a:t>《南京条约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33520" y="762120"/>
            <a:ext cx="6414840" cy="23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>
                    <a:alpha val="50000"/>
                  </a:srgbClr>
                </a:solidFill>
                <a:latin typeface="方正舒体"/>
              </a:rPr>
              <a:t>第四学习小组成果展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>
                  <a:alpha val="50000"/>
                </a:srgbClr>
              </a:solidFill>
              <a:latin typeface="方正舒体"/>
              <a:ea typeface="方正舒体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685800" y="990720"/>
            <a:ext cx="7924680" cy="4650480"/>
            <a:chOff x="685800" y="990720"/>
            <a:chExt cx="7924680" cy="4650480"/>
          </a:xfrm>
        </p:grpSpPr>
        <p:sp>
          <p:nvSpPr>
            <p:cNvPr id="135" name=""/>
            <p:cNvSpPr/>
            <p:nvPr/>
          </p:nvSpPr>
          <p:spPr>
            <a:xfrm>
              <a:off x="685800" y="4876920"/>
              <a:ext cx="7924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历史小故事——历史性的握手  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828800" y="990720"/>
              <a:ext cx="5079960" cy="3187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26253" t="21486" r="10001" b="5263"/>
          <a:stretch/>
        </p:blipFill>
        <p:spPr>
          <a:xfrm>
            <a:off x="1905120" y="114300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066680" y="51055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尼克松同周恩来亲切握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440000" cy="900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533520" y="914400"/>
            <a:ext cx="6918120" cy="28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>
                    <a:alpha val="50000"/>
                  </a:srgbClr>
                </a:solidFill>
                <a:latin typeface="方正舒体"/>
              </a:rPr>
              <a:t>第五学习小组成果展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>
                  <a:alpha val="50000"/>
                </a:srgbClr>
              </a:solidFill>
              <a:latin typeface="方正舒体"/>
              <a:ea typeface="方正舒体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9144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471024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中国恢复在联合国的合法席位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685800"/>
          <a:ext cx="2764080" cy="35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85800"/>
                    <a:ext cx="276408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7086600" y="228600"/>
            <a:ext cx="1440000" cy="900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4572000" y="1523880"/>
            <a:ext cx="36576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00400" y="3048120"/>
            <a:ext cx="1463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752480" y="1346040"/>
            <a:ext cx="4800600" cy="3378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620120" y="380880"/>
            <a:ext cx="1218960" cy="762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8600" y="51814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五星红旗在联合国大厦前飘扬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-304920" y="1295280"/>
            <a:ext cx="6964560" cy="16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>
                    <a:alpha val="50000"/>
                  </a:srgbClr>
                </a:solidFill>
                <a:latin typeface="方正舒体"/>
              </a:rPr>
              <a:t>第六学习小组成果展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>
                  <a:alpha val="50000"/>
                </a:srgbClr>
              </a:solidFill>
              <a:latin typeface="方正舒体"/>
              <a:ea typeface="方正舒体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9480" y="2590920"/>
            <a:ext cx="815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中美建立外交关系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15200" y="609480"/>
            <a:ext cx="12193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4038480" cy="26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0" t="11184" r="0" b="0"/>
          <a:stretch/>
        </p:blipFill>
        <p:spPr>
          <a:xfrm>
            <a:off x="4876920" y="990720"/>
            <a:ext cx="3886200" cy="2728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98680" y="464832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开国大典阅兵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95280" y="48769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“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乒乓外交”； 第一个美国代表团访问中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>
            <a:lum contrast="24000"/>
          </a:blip>
          <a:srcRect l="0" t="19274" r="0" b="3656"/>
          <a:stretch/>
        </p:blipFill>
        <p:spPr>
          <a:xfrm>
            <a:off x="1371600" y="1279440"/>
            <a:ext cx="6400800" cy="3368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80880" y="52578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600200" y="1170000"/>
            <a:ext cx="5692680" cy="3782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286000" y="541008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尼克松访问中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362320" y="1149480"/>
            <a:ext cx="4267080" cy="3346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752480" y="52578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1972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毛泽东会见尼克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28800" y="1093680"/>
            <a:ext cx="5715000" cy="4011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362320" y="54864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周恩来会见尼克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>
            <a:lum contrast="12000"/>
          </a:blip>
          <a:srcRect l="0" t="7521" r="0" b="2270"/>
          <a:stretch/>
        </p:blipFill>
        <p:spPr>
          <a:xfrm>
            <a:off x="1905120" y="914400"/>
            <a:ext cx="5029200" cy="3657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219320" y="5272200"/>
            <a:ext cx="670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中美正式建立外交关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447920" y="914400"/>
            <a:ext cx="647676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69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再见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38080" y="502920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不同时期与中国建交国家数量变化的柱形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5295960" y="1484280"/>
            <a:ext cx="3204360" cy="3775680"/>
            <a:chOff x="5295960" y="1484280"/>
            <a:chExt cx="3204360" cy="3775680"/>
          </a:xfrm>
        </p:grpSpPr>
        <p:sp>
          <p:nvSpPr>
            <p:cNvPr id="52" name=""/>
            <p:cNvSpPr/>
            <p:nvPr/>
          </p:nvSpPr>
          <p:spPr>
            <a:xfrm>
              <a:off x="5387400" y="4495680"/>
              <a:ext cx="3112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1950</a:t>
              </a: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年中印建交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5295960" y="1484280"/>
              <a:ext cx="3085920" cy="217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1100880" y="1487520"/>
            <a:ext cx="3166200" cy="3772440"/>
            <a:chOff x="1100880" y="1487520"/>
            <a:chExt cx="3166200" cy="3772440"/>
          </a:xfrm>
        </p:grpSpPr>
        <p:pic>
          <p:nvPicPr>
            <p:cNvPr id="55" name="" descr=""/>
            <p:cNvPicPr/>
            <p:nvPr/>
          </p:nvPicPr>
          <p:blipFill>
            <a:blip r:embed="rId2"/>
            <a:srcRect l="2636" t="0" r="2636" b="0"/>
            <a:stretch/>
          </p:blipFill>
          <p:spPr>
            <a:xfrm>
              <a:off x="1143000" y="1487520"/>
              <a:ext cx="3124080" cy="21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100880" y="4495680"/>
              <a:ext cx="3112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1949</a:t>
              </a: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年中苏建交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5181480" y="914400"/>
            <a:ext cx="3886200" cy="4482720"/>
            <a:chOff x="5181480" y="914400"/>
            <a:chExt cx="3886200" cy="448272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715000" y="914400"/>
              <a:ext cx="27687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181480" y="3962520"/>
              <a:ext cx="38862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1955</a:t>
              </a: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年周恩来参加万隆会议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62120" y="914400"/>
            <a:ext cx="2903040" cy="4558680"/>
            <a:chOff x="762120" y="914400"/>
            <a:chExt cx="2903040" cy="4558680"/>
          </a:xfrm>
        </p:grpSpPr>
        <p:sp>
          <p:nvSpPr>
            <p:cNvPr id="61" name=""/>
            <p:cNvSpPr/>
            <p:nvPr/>
          </p:nvSpPr>
          <p:spPr>
            <a:xfrm>
              <a:off x="887760" y="4038480"/>
              <a:ext cx="2777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1954</a:t>
              </a: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年周恩来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参加日内瓦会议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2">
              <a:lum bright="6000"/>
            </a:blip>
            <a:stretch/>
          </p:blipFill>
          <p:spPr>
            <a:xfrm>
              <a:off x="762120" y="914400"/>
              <a:ext cx="2666880" cy="2208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1066680" y="609480"/>
            <a:ext cx="7199640" cy="1981440"/>
            <a:chOff x="1066680" y="609480"/>
            <a:chExt cx="7199640" cy="1981440"/>
          </a:xfrm>
        </p:grpSpPr>
        <p:sp>
          <p:nvSpPr>
            <p:cNvPr id="64" name=""/>
            <p:cNvSpPr/>
            <p:nvPr/>
          </p:nvSpPr>
          <p:spPr>
            <a:xfrm>
              <a:off x="5824080" y="853920"/>
              <a:ext cx="24422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1972</a:t>
              </a: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毛泽东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会见尼克松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rcRect l="17245" t="0" r="0" b="0"/>
            <a:stretch/>
          </p:blipFill>
          <p:spPr>
            <a:xfrm>
              <a:off x="1066680" y="609480"/>
              <a:ext cx="4038840" cy="198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"/>
          <p:cNvGrpSpPr/>
          <p:nvPr/>
        </p:nvGrpSpPr>
        <p:grpSpPr>
          <a:xfrm>
            <a:off x="990720" y="3675240"/>
            <a:ext cx="7224840" cy="1887480"/>
            <a:chOff x="990720" y="3675240"/>
            <a:chExt cx="7224840" cy="1887480"/>
          </a:xfrm>
        </p:grpSpPr>
        <p:sp>
          <p:nvSpPr>
            <p:cNvPr id="67" name=""/>
            <p:cNvSpPr/>
            <p:nvPr/>
          </p:nvSpPr>
          <p:spPr>
            <a:xfrm>
              <a:off x="5773320" y="3978360"/>
              <a:ext cx="24422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1972</a:t>
              </a: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毛泽东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会见田中角荣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2"/>
            <a:srcRect l="5366" t="0" r="0" b="0"/>
            <a:stretch/>
          </p:blipFill>
          <p:spPr>
            <a:xfrm>
              <a:off x="990720" y="3675240"/>
              <a:ext cx="4038480" cy="1887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693360" y="914400"/>
            <a:ext cx="3309840" cy="4939920"/>
            <a:chOff x="693360" y="914400"/>
            <a:chExt cx="3309840" cy="4939920"/>
          </a:xfrm>
        </p:grpSpPr>
        <p:graphicFrame>
          <p:nvGraphicFramePr>
            <p:cNvPr id="70" name=""/>
            <p:cNvGraphicFramePr/>
            <p:nvPr/>
          </p:nvGraphicFramePr>
          <p:xfrm>
            <a:off x="693360" y="914400"/>
            <a:ext cx="3309840" cy="259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3360" y="914400"/>
                      <a:ext cx="3309840" cy="25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"/>
            <p:cNvSpPr/>
            <p:nvPr/>
          </p:nvSpPr>
          <p:spPr>
            <a:xfrm>
              <a:off x="836640" y="4419720"/>
              <a:ext cx="2777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1979</a:t>
              </a: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年邓小平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访问美国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572000" y="941400"/>
            <a:ext cx="4191120" cy="4988880"/>
            <a:chOff x="4572000" y="941400"/>
            <a:chExt cx="4191120" cy="4988880"/>
          </a:xfrm>
        </p:grpSpPr>
        <p:graphicFrame>
          <p:nvGraphicFramePr>
            <p:cNvPr id="74" name=""/>
            <p:cNvGraphicFramePr/>
            <p:nvPr/>
          </p:nvGraphicFramePr>
          <p:xfrm>
            <a:off x="4648320" y="941400"/>
            <a:ext cx="3886200" cy="2525760"/>
          </p:xfrm>
          <a:graphic>
            <a:graphicData uri="http://schemas.openxmlformats.org/presentationml/2006/ole">
              <p:oleObj progId="PowerPoint.Show.12" r:id="rId3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48320" y="941400"/>
                      <a:ext cx="3886200" cy="252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"/>
            <p:cNvSpPr/>
            <p:nvPr/>
          </p:nvSpPr>
          <p:spPr>
            <a:xfrm>
              <a:off x="4572000" y="4495680"/>
              <a:ext cx="41911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 </a:t>
              </a: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1982</a:t>
              </a: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年邓小平会见撒切尔夫人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685800" y="914400"/>
            <a:ext cx="3733920" cy="4650840"/>
            <a:chOff x="685800" y="914400"/>
            <a:chExt cx="3733920" cy="465084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685800" y="914400"/>
              <a:ext cx="3733920" cy="22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065600" y="4130640"/>
              <a:ext cx="2777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1989</a:t>
              </a: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年邓小平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会见阿拉法特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876920" y="914400"/>
            <a:ext cx="3581280" cy="4635000"/>
            <a:chOff x="4876920" y="914400"/>
            <a:chExt cx="3581280" cy="4635000"/>
          </a:xfrm>
        </p:grpSpPr>
        <p:pic>
          <p:nvPicPr>
            <p:cNvPr id="81" name="" descr=""/>
            <p:cNvPicPr/>
            <p:nvPr/>
          </p:nvPicPr>
          <p:blipFill>
            <a:blip r:embed="rId2"/>
            <a:srcRect l="0" t="12004" r="0" b="0"/>
            <a:stretch/>
          </p:blipFill>
          <p:spPr>
            <a:xfrm>
              <a:off x="4876920" y="914400"/>
              <a:ext cx="3555720" cy="22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876920" y="4114800"/>
              <a:ext cx="35812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  <a:ea typeface="华文行楷"/>
                </a:rPr>
                <a:t>1993</a:t>
              </a:r>
              <a:r>
                <a:rPr b="0" lang="zh-CN" sz="4400" spc="-1" strike="noStrike">
                  <a:solidFill>
                    <a:srgbClr val="ffff00"/>
                  </a:solidFill>
                  <a:latin typeface="华文行楷"/>
                  <a:ea typeface="华文行楷"/>
                </a:rPr>
                <a:t>年江泽民与克林顿会晤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J</cp:lastModifiedBy>
  <dcterms:modified xsi:type="dcterms:W3CDTF">2007-04-23T08:48:53Z</dcterms:modified>
  <cp:revision>57</cp:revision>
  <dc:subject/>
  <dc:title>PowerPoint Presentation</dc:title>
</cp:coreProperties>
</file>