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881-26EF-4C8C-8086-A6062307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0CB-C0F2-4FEB-A042-549C93B2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D878-407C-4D4E-931A-19F9EB7D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F92-B1A9-427D-BE98-4DDF6FD2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E6D-165A-4EC3-B477-17A13167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B3A1-C8D5-4ACA-BC82-3AAD6A7D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B781-BECE-4B16-B95E-135005F5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08D-5FCA-4EBF-8923-90CABE8D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EFF-00D8-4CAE-BC8C-4FEB4C10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D2A0-68B6-4D16-9D18-0A8AB8C6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A49-A132-4691-96C6-4D6BCD7D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951-BB3D-4300-A644-9CEDB3C8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EC5C-3F81-470C-A197-C9FE59B3AE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四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008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科举制的创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掌握科举制的创立和完善，并了解科举制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点：科举制的创立和完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难点：科举制的作用及其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古代的科举考试分为院试、乡试、会试，会试就是省试和殿试。小孩进学之后，可以参加院试，考中的即秀才。秀才参加乡试，考中的为举人，举人的第一名叫解元。举人参加会试，中的称贡士，贡士的第一名叫会元。贡士参加殿试，分三等，第一甲赐进士及第，分状元、榜眼、探花。第二甲赐进士出身，第三甲赐同进士出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合作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科举制的创立和完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科举制的作用和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科举制与以往选官制度的本质区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83664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一、隋朝科举制度的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341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隋文帝时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1341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分科考试选拔官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8200" y="1844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隋炀帝时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18446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正式设置进士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1844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科举制正式诞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349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二、唐朝科举制的完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285264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唐太宗时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9280" y="2852640"/>
            <a:ext cx="26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扩充国学规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35481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武则天时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42900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3640" y="33321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形成殿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5080" y="38354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创试武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429264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唐玄宗时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59280" y="42926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诗赋成为进士科主要的考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、科举制的影响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改善用人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促进教育事业的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促进文艺事业的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科举制与以往选官制度的本质区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区别在于普通读书人可以自愿报名参加官府组织的考试，这样就扩大了选官的范围，选拔官吏的权利也转移到朝廷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02:17:30Z</dcterms:created>
  <dc:creator>Administrator</dc:creator>
  <dc:description/>
  <dc:language>en-US</dc:language>
  <cp:lastModifiedBy>Administrator</cp:lastModifiedBy>
  <dcterms:modified xsi:type="dcterms:W3CDTF">2013-03-07T03:56:15Z</dcterms:modified>
  <cp:revision>3</cp:revision>
  <dc:subject/>
  <dc:title>第四课</dc:title>
</cp:coreProperties>
</file>