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403-B34E-44F4-B5A4-DB6B537B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2FC-8D1B-4DBD-9A99-FC84CFE8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29A-19A5-4223-BCE0-8C35ABF8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588-A2B8-4C89-8077-8FA3FEE4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500-E4BF-44B3-97A9-0412B44E2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FB7-8081-4C32-9ED9-1C7B710D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D51-5587-4A77-810E-45F2DCE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BDF-4078-41E9-8346-64F5B7C2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9F1-A7E4-41DC-894E-E12F027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8E9-D2F7-4BAB-941C-DE4163F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73D-30C1-4B87-AF51-F987FFB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C95-9F09-4A8C-A46D-D907910C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50B-769A-4C77-A47C-47FFE0D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44A-AAEB-4109-B4D8-E57E327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C3F-EF43-4B35-9248-8A0E53D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66B-D86C-407E-94C1-3C36E6E1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550-E58A-4553-94A3-DCD1831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3268-7AC7-4D25-A358-12FB2CCB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611280" y="1413000"/>
            <a:ext cx="8076960" cy="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348000" y="549360"/>
            <a:ext cx="24462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六单元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826920" y="1844640"/>
            <a:ext cx="756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现代中国的政治建设与祖国统一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1" name="Picture 5" descr="China_guohui"/>
          <p:cNvPicPr/>
          <p:nvPr/>
        </p:nvPicPr>
        <p:blipFill>
          <a:blip r:embed="rId1"/>
          <a:stretch/>
        </p:blipFill>
        <p:spPr>
          <a:xfrm>
            <a:off x="5724360" y="3068640"/>
            <a:ext cx="276552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uaqi"/>
          <p:cNvPicPr/>
          <p:nvPr/>
        </p:nvPicPr>
        <p:blipFill>
          <a:blip r:embed="rId2"/>
          <a:stretch/>
        </p:blipFill>
        <p:spPr>
          <a:xfrm>
            <a:off x="900000" y="31417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76320" y="82440"/>
            <a:ext cx="7238880" cy="642600"/>
          </a:xfrm>
          <a:prstGeom prst="rect">
            <a:avLst/>
          </a:prstGeom>
          <a:solidFill>
            <a:srgbClr val="66ff66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挫折阶段：文化大革命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99880" y="5365800"/>
            <a:ext cx="144000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教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8440" y="1447920"/>
            <a:ext cx="205092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革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63520" y="3581280"/>
            <a:ext cx="216216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破坏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346480" y="1130400"/>
            <a:ext cx="592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根本原因：党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倾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349360" y="1523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毛泽东错误地估计了形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349360" y="1981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林彪江青反革命集团的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141520" y="2819520"/>
            <a:ext cx="60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人民的生命财产和公民权力受到践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666880" y="3429000"/>
            <a:ext cx="478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宪法和法律被践踏，名存实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679840" y="4013280"/>
            <a:ext cx="5537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由于全面夺权，社会秩序极端混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674800" y="4572000"/>
            <a:ext cx="6240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人大制度、各党派政治协商制度遭到破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968480" y="5365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须发展社会主义民主，健全社会主义法制。必须坚持民主集中制和集体领导原则，禁止和克服任何形式的个人崇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76320" y="82440"/>
            <a:ext cx="8686800" cy="6426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（三）重建与完善阶段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年以后民主与法制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-445680" y="3452760"/>
            <a:ext cx="11552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法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85880" y="2233440"/>
            <a:ext cx="304560" cy="3657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657600" y="1600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法可依，有法必依，执法必严，违法必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166760" y="27957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平凡冤假错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190520" y="392256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全面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1166760" y="5452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依法治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166760" y="176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确定方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657600" y="3770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以宪法为核心的有中国特色的法律体系，使中国民主政治趋于法律化、制度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809880" y="518004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中共十五大上提出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全国人大九届二次会议写入宪法，具有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267080" y="2652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刘少奇平反，并在全国范围平反各类冤假错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-469440" y="3276720"/>
            <a:ext cx="11552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62120" y="1905120"/>
            <a:ext cx="304560" cy="3657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6680" y="1447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重开两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2590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与各民主党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90720" y="37101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民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95400" y="4876920"/>
            <a:ext cx="25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基层民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6320" y="82440"/>
            <a:ext cx="8686800" cy="6426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（三）完善阶段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197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年以后民主与法制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429000" y="1447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新召开人民代表大会和政治协商会议，恢复社会主义民主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3962520" y="255888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期共存，互相监督，肝胆相照，荣辱与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76720" y="36910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通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民族区域自治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276720" y="48769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通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民村民委员会组织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推进农村民主建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228600" y="1568520"/>
            <a:ext cx="8893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探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以上制度的学习中，我们可以看出新中国的民主政治建设有何特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19040" y="313884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人民民主（国家政权性质决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民主集中制（人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政治协商（政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民族区域自治（民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5680" y="69840"/>
            <a:ext cx="8915400" cy="703440"/>
          </a:xfrm>
          <a:prstGeom prst="rect">
            <a:avLst/>
          </a:prstGeom>
          <a:solidFill>
            <a:srgbClr val="66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新中国民主政治建设的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2133720"/>
            <a:ext cx="5834160" cy="1441440"/>
            <a:chOff x="1619280" y="2133720"/>
            <a:chExt cx="5834160" cy="1441440"/>
          </a:xfrm>
        </p:grpSpPr>
        <p:sp>
          <p:nvSpPr>
            <p:cNvPr id="185" name="Oval 3"/>
            <p:cNvSpPr/>
            <p:nvPr/>
          </p:nvSpPr>
          <p:spPr>
            <a:xfrm>
              <a:off x="1619280" y="2133720"/>
              <a:ext cx="5834160" cy="1441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"/>
            <p:cNvSpPr/>
            <p:nvPr/>
          </p:nvSpPr>
          <p:spPr>
            <a:xfrm>
              <a:off x="2340000" y="2600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民主政治建设的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1258920" y="476280"/>
            <a:ext cx="4103640" cy="1657080"/>
            <a:chOff x="1258920" y="476280"/>
            <a:chExt cx="4103640" cy="1657080"/>
          </a:xfrm>
        </p:grpSpPr>
        <p:sp>
          <p:nvSpPr>
            <p:cNvPr id="188" name="Line 6"/>
            <p:cNvSpPr/>
            <p:nvPr/>
          </p:nvSpPr>
          <p:spPr>
            <a:xfrm flipV="1">
              <a:off x="3924360" y="1052280"/>
              <a:ext cx="0" cy="108108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58920" y="476280"/>
              <a:ext cx="410364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前提：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新中国的成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755640" y="3500280"/>
            <a:ext cx="7488360" cy="3141720"/>
            <a:chOff x="755640" y="3500280"/>
            <a:chExt cx="7488360" cy="3141720"/>
          </a:xfrm>
        </p:grpSpPr>
        <p:grpSp>
          <p:nvGrpSpPr>
            <p:cNvPr id="191" name="Group 9"/>
            <p:cNvGrpSpPr/>
            <p:nvPr/>
          </p:nvGrpSpPr>
          <p:grpSpPr>
            <a:xfrm>
              <a:off x="755640" y="3500280"/>
              <a:ext cx="2448000" cy="3068640"/>
              <a:chOff x="755640" y="3500280"/>
              <a:chExt cx="2448000" cy="3068640"/>
            </a:xfrm>
          </p:grpSpPr>
          <p:grpSp>
            <p:nvGrpSpPr>
              <p:cNvPr id="192" name="Group 10"/>
              <p:cNvGrpSpPr/>
              <p:nvPr/>
            </p:nvGrpSpPr>
            <p:grpSpPr>
              <a:xfrm>
                <a:off x="755640" y="3500280"/>
                <a:ext cx="2448000" cy="3068640"/>
                <a:chOff x="755640" y="3500280"/>
                <a:chExt cx="2448000" cy="3068640"/>
              </a:xfrm>
            </p:grpSpPr>
            <p:sp>
              <p:nvSpPr>
                <p:cNvPr id="193" name="Line 11"/>
                <p:cNvSpPr/>
                <p:nvPr/>
              </p:nvSpPr>
              <p:spPr>
                <a:xfrm flipH="1">
                  <a:off x="2050920" y="3500280"/>
                  <a:ext cx="936720" cy="50508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12"/>
                <p:cNvGrpSpPr/>
                <p:nvPr/>
              </p:nvGrpSpPr>
              <p:grpSpPr>
                <a:xfrm>
                  <a:off x="755640" y="4076640"/>
                  <a:ext cx="2448000" cy="2492280"/>
                  <a:chOff x="755640" y="4076640"/>
                  <a:chExt cx="2448000" cy="2492280"/>
                </a:xfrm>
              </p:grpSpPr>
              <p:sp>
                <p:nvSpPr>
                  <p:cNvPr id="195" name="AutoShape 13"/>
                  <p:cNvSpPr/>
                  <p:nvPr/>
                </p:nvSpPr>
                <p:spPr>
                  <a:xfrm>
                    <a:off x="755640" y="4076640"/>
                    <a:ext cx="2448000" cy="2492280"/>
                  </a:xfrm>
                  <a:custGeom>
                    <a:avLst/>
                    <a:gdLst>
                      <a:gd name="textAreaLeft" fmla="*/ 558720 w 2448000"/>
                      <a:gd name="textAreaRight" fmla="*/ 1889280 w 2448000"/>
                      <a:gd name="textAreaTop" fmla="*/ 568800 h 2492280"/>
                      <a:gd name="textAreaBottom" fmla="*/ 1923480 h 249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104" y="13909"/>
                        </a:lnTo>
                        <a:lnTo>
                          <a:pt x="3163" y="18437"/>
                        </a:lnTo>
                        <a:lnTo>
                          <a:pt x="7557" y="18440"/>
                        </a:lnTo>
                        <a:lnTo>
                          <a:pt x="10800" y="21600"/>
                        </a:lnTo>
                        <a:lnTo>
                          <a:pt x="13909" y="18496"/>
                        </a:lnTo>
                        <a:lnTo>
                          <a:pt x="18437" y="18437"/>
                        </a:lnTo>
                        <a:lnTo>
                          <a:pt x="18440" y="14043"/>
                        </a:lnTo>
                        <a:lnTo>
                          <a:pt x="21600" y="10800"/>
                        </a:lnTo>
                        <a:lnTo>
                          <a:pt x="18496" y="7691"/>
                        </a:lnTo>
                        <a:lnTo>
                          <a:pt x="18437" y="3163"/>
                        </a:lnTo>
                        <a:lnTo>
                          <a:pt x="14043" y="3160"/>
                        </a:lnTo>
                        <a:lnTo>
                          <a:pt x="10800" y="0"/>
                        </a:lnTo>
                        <a:lnTo>
                          <a:pt x="7691" y="3104"/>
                        </a:lnTo>
                        <a:lnTo>
                          <a:pt x="3163" y="3163"/>
                        </a:lnTo>
                        <a:lnTo>
                          <a:pt x="3160" y="755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14"/>
                  <p:cNvSpPr/>
                  <p:nvPr/>
                </p:nvSpPr>
                <p:spPr>
                  <a:xfrm>
                    <a:off x="1187280" y="4435200"/>
                    <a:ext cx="1584360" cy="9471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3300"/>
                        </a:solidFill>
                        <a:latin typeface="Arial"/>
                        <a:ea typeface="楷体_GB2312"/>
                      </a:rPr>
                      <a:t>多党合作和政治协商制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AutoShape 15"/>
              <p:cNvSpPr/>
              <p:nvPr/>
            </p:nvSpPr>
            <p:spPr>
              <a:xfrm>
                <a:off x="2411280" y="5805360"/>
                <a:ext cx="360360" cy="360360"/>
              </a:xfrm>
              <a:custGeom>
                <a:avLst/>
                <a:gdLst>
                  <a:gd name="textAreaLeft" fmla="*/ 23040 w 360360"/>
                  <a:gd name="textAreaRight" fmla="*/ 337320 w 360360"/>
                  <a:gd name="textAreaTop" fmla="*/ 23040 h 360360"/>
                  <a:gd name="textAreaBottom" fmla="*/ 3373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3794"/>
                    </a:moveTo>
                    <a:lnTo>
                      <a:pt x="17806" y="10800"/>
                    </a:lnTo>
                    <a:lnTo>
                      <a:pt x="3794" y="1780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6"/>
            <p:cNvGrpSpPr/>
            <p:nvPr/>
          </p:nvGrpSpPr>
          <p:grpSpPr>
            <a:xfrm>
              <a:off x="3348000" y="3573360"/>
              <a:ext cx="2448000" cy="3068640"/>
              <a:chOff x="3348000" y="3573360"/>
              <a:chExt cx="2448000" cy="3068640"/>
            </a:xfrm>
          </p:grpSpPr>
          <p:grpSp>
            <p:nvGrpSpPr>
              <p:cNvPr id="199" name="Group 17"/>
              <p:cNvGrpSpPr/>
              <p:nvPr/>
            </p:nvGrpSpPr>
            <p:grpSpPr>
              <a:xfrm>
                <a:off x="3348000" y="3573360"/>
                <a:ext cx="2448000" cy="3068640"/>
                <a:chOff x="3348000" y="3573360"/>
                <a:chExt cx="2448000" cy="3068640"/>
              </a:xfrm>
            </p:grpSpPr>
            <p:sp>
              <p:nvSpPr>
                <p:cNvPr id="200" name="Line 18"/>
                <p:cNvSpPr/>
                <p:nvPr/>
              </p:nvSpPr>
              <p:spPr>
                <a:xfrm>
                  <a:off x="4572000" y="3573360"/>
                  <a:ext cx="0" cy="576360"/>
                </a:xfrm>
                <a:prstGeom prst="line">
                  <a:avLst/>
                </a:prstGeom>
                <a:ln w="57240">
                  <a:solidFill>
                    <a:srgbClr val="00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Group 19"/>
                <p:cNvGrpSpPr/>
                <p:nvPr/>
              </p:nvGrpSpPr>
              <p:grpSpPr>
                <a:xfrm>
                  <a:off x="3348000" y="4149720"/>
                  <a:ext cx="2448000" cy="2492280"/>
                  <a:chOff x="3348000" y="4149720"/>
                  <a:chExt cx="2448000" cy="2492280"/>
                </a:xfrm>
              </p:grpSpPr>
              <p:sp>
                <p:nvSpPr>
                  <p:cNvPr id="202" name="AutoShape 20"/>
                  <p:cNvSpPr/>
                  <p:nvPr/>
                </p:nvSpPr>
                <p:spPr>
                  <a:xfrm>
                    <a:off x="3348000" y="4149720"/>
                    <a:ext cx="2448000" cy="2492280"/>
                  </a:xfrm>
                  <a:custGeom>
                    <a:avLst/>
                    <a:gdLst>
                      <a:gd name="textAreaLeft" fmla="*/ 558720 w 2448000"/>
                      <a:gd name="textAreaRight" fmla="*/ 1889280 w 2448000"/>
                      <a:gd name="textAreaTop" fmla="*/ 568800 h 2492280"/>
                      <a:gd name="textAreaBottom" fmla="*/ 1923480 h 249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104" y="13909"/>
                        </a:lnTo>
                        <a:lnTo>
                          <a:pt x="3163" y="18437"/>
                        </a:lnTo>
                        <a:lnTo>
                          <a:pt x="7557" y="18440"/>
                        </a:lnTo>
                        <a:lnTo>
                          <a:pt x="10800" y="21600"/>
                        </a:lnTo>
                        <a:lnTo>
                          <a:pt x="13909" y="18496"/>
                        </a:lnTo>
                        <a:lnTo>
                          <a:pt x="18437" y="18437"/>
                        </a:lnTo>
                        <a:lnTo>
                          <a:pt x="18440" y="14043"/>
                        </a:lnTo>
                        <a:lnTo>
                          <a:pt x="21600" y="10800"/>
                        </a:lnTo>
                        <a:lnTo>
                          <a:pt x="18496" y="7691"/>
                        </a:lnTo>
                        <a:lnTo>
                          <a:pt x="18437" y="3163"/>
                        </a:lnTo>
                        <a:lnTo>
                          <a:pt x="14043" y="3160"/>
                        </a:lnTo>
                        <a:lnTo>
                          <a:pt x="10800" y="0"/>
                        </a:lnTo>
                        <a:lnTo>
                          <a:pt x="7691" y="3104"/>
                        </a:lnTo>
                        <a:lnTo>
                          <a:pt x="3163" y="3163"/>
                        </a:lnTo>
                        <a:lnTo>
                          <a:pt x="3160" y="755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Text Box 21"/>
                  <p:cNvSpPr/>
                  <p:nvPr/>
                </p:nvSpPr>
                <p:spPr>
                  <a:xfrm>
                    <a:off x="3780000" y="4581720"/>
                    <a:ext cx="1584000" cy="9471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3300"/>
                        </a:solidFill>
                        <a:latin typeface="Arial"/>
                        <a:ea typeface="楷体_GB2312"/>
                      </a:rPr>
                      <a:t>人民代表大会制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AutoShape 22"/>
              <p:cNvSpPr/>
              <p:nvPr/>
            </p:nvSpPr>
            <p:spPr>
              <a:xfrm>
                <a:off x="5003640" y="5589720"/>
                <a:ext cx="360360" cy="360360"/>
              </a:xfrm>
              <a:custGeom>
                <a:avLst/>
                <a:gdLst>
                  <a:gd name="textAreaLeft" fmla="*/ 23040 w 360360"/>
                  <a:gd name="textAreaRight" fmla="*/ 337320 w 360360"/>
                  <a:gd name="textAreaTop" fmla="*/ 23040 h 360360"/>
                  <a:gd name="textAreaBottom" fmla="*/ 3373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3794"/>
                    </a:moveTo>
                    <a:lnTo>
                      <a:pt x="17806" y="10800"/>
                    </a:lnTo>
                    <a:lnTo>
                      <a:pt x="3794" y="1780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3"/>
            <p:cNvGrpSpPr/>
            <p:nvPr/>
          </p:nvGrpSpPr>
          <p:grpSpPr>
            <a:xfrm>
              <a:off x="5796000" y="3500280"/>
              <a:ext cx="2448000" cy="3068640"/>
              <a:chOff x="5796000" y="3500280"/>
              <a:chExt cx="2448000" cy="3068640"/>
            </a:xfrm>
          </p:grpSpPr>
          <p:grpSp>
            <p:nvGrpSpPr>
              <p:cNvPr id="206" name="Group 24"/>
              <p:cNvGrpSpPr/>
              <p:nvPr/>
            </p:nvGrpSpPr>
            <p:grpSpPr>
              <a:xfrm>
                <a:off x="5796000" y="3500280"/>
                <a:ext cx="2448000" cy="3068640"/>
                <a:chOff x="5796000" y="3500280"/>
                <a:chExt cx="2448000" cy="3068640"/>
              </a:xfrm>
            </p:grpSpPr>
            <p:sp>
              <p:nvSpPr>
                <p:cNvPr id="207" name="Line 25"/>
                <p:cNvSpPr/>
                <p:nvPr/>
              </p:nvSpPr>
              <p:spPr>
                <a:xfrm>
                  <a:off x="6084720" y="3500280"/>
                  <a:ext cx="863640" cy="50508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26"/>
                <p:cNvGrpSpPr/>
                <p:nvPr/>
              </p:nvGrpSpPr>
              <p:grpSpPr>
                <a:xfrm>
                  <a:off x="5796000" y="4076640"/>
                  <a:ext cx="2448000" cy="2492280"/>
                  <a:chOff x="5796000" y="4076640"/>
                  <a:chExt cx="2448000" cy="2492280"/>
                </a:xfrm>
              </p:grpSpPr>
              <p:sp>
                <p:nvSpPr>
                  <p:cNvPr id="209" name="AutoShape 27"/>
                  <p:cNvSpPr/>
                  <p:nvPr/>
                </p:nvSpPr>
                <p:spPr>
                  <a:xfrm>
                    <a:off x="5796000" y="4076640"/>
                    <a:ext cx="2448000" cy="2492280"/>
                  </a:xfrm>
                  <a:custGeom>
                    <a:avLst/>
                    <a:gdLst>
                      <a:gd name="textAreaLeft" fmla="*/ 558720 w 2448000"/>
                      <a:gd name="textAreaRight" fmla="*/ 1889280 w 2448000"/>
                      <a:gd name="textAreaTop" fmla="*/ 568800 h 2492280"/>
                      <a:gd name="textAreaBottom" fmla="*/ 1923480 h 2492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104" y="13909"/>
                        </a:lnTo>
                        <a:lnTo>
                          <a:pt x="3163" y="18437"/>
                        </a:lnTo>
                        <a:lnTo>
                          <a:pt x="7557" y="18440"/>
                        </a:lnTo>
                        <a:lnTo>
                          <a:pt x="10800" y="21600"/>
                        </a:lnTo>
                        <a:lnTo>
                          <a:pt x="13909" y="18496"/>
                        </a:lnTo>
                        <a:lnTo>
                          <a:pt x="18437" y="18437"/>
                        </a:lnTo>
                        <a:lnTo>
                          <a:pt x="18440" y="14043"/>
                        </a:lnTo>
                        <a:lnTo>
                          <a:pt x="21600" y="10800"/>
                        </a:lnTo>
                        <a:lnTo>
                          <a:pt x="18496" y="7691"/>
                        </a:lnTo>
                        <a:lnTo>
                          <a:pt x="18437" y="3163"/>
                        </a:lnTo>
                        <a:lnTo>
                          <a:pt x="14043" y="3160"/>
                        </a:lnTo>
                        <a:lnTo>
                          <a:pt x="10800" y="0"/>
                        </a:lnTo>
                        <a:lnTo>
                          <a:pt x="7691" y="3104"/>
                        </a:lnTo>
                        <a:lnTo>
                          <a:pt x="3163" y="3163"/>
                        </a:lnTo>
                        <a:lnTo>
                          <a:pt x="3160" y="7557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28"/>
                  <p:cNvSpPr/>
                  <p:nvPr/>
                </p:nvSpPr>
                <p:spPr>
                  <a:xfrm>
                    <a:off x="6300720" y="4508280"/>
                    <a:ext cx="1368360" cy="9471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ff3300"/>
                        </a:solidFill>
                        <a:latin typeface="Arial"/>
                        <a:ea typeface="楷体_GB2312"/>
                      </a:rPr>
                      <a:t>民族区域自治制度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1" name="AutoShape 29"/>
              <p:cNvSpPr/>
              <p:nvPr/>
            </p:nvSpPr>
            <p:spPr>
              <a:xfrm>
                <a:off x="7308720" y="5516640"/>
                <a:ext cx="360360" cy="360360"/>
              </a:xfrm>
              <a:custGeom>
                <a:avLst/>
                <a:gdLst>
                  <a:gd name="textAreaLeft" fmla="*/ 23040 w 360360"/>
                  <a:gd name="textAreaRight" fmla="*/ 337320 w 360360"/>
                  <a:gd name="textAreaTop" fmla="*/ 23040 h 360360"/>
                  <a:gd name="textAreaBottom" fmla="*/ 3373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3794"/>
                    </a:moveTo>
                    <a:lnTo>
                      <a:pt x="17806" y="10800"/>
                    </a:lnTo>
                    <a:lnTo>
                      <a:pt x="3794" y="1780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31"/>
          <p:cNvGrpSpPr/>
          <p:nvPr/>
        </p:nvGrpSpPr>
        <p:grpSpPr>
          <a:xfrm>
            <a:off x="3995640" y="189000"/>
            <a:ext cx="4969080" cy="1944360"/>
            <a:chOff x="3995640" y="189000"/>
            <a:chExt cx="4969080" cy="1944360"/>
          </a:xfrm>
        </p:grpSpPr>
        <p:sp>
          <p:nvSpPr>
            <p:cNvPr id="213" name="Line 32"/>
            <p:cNvSpPr/>
            <p:nvPr/>
          </p:nvSpPr>
          <p:spPr>
            <a:xfrm flipV="1">
              <a:off x="3995640" y="907560"/>
              <a:ext cx="1800360" cy="1225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5796000" y="189000"/>
              <a:ext cx="3168720" cy="1434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黑体"/>
                </a:rPr>
                <a:t>法制保障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共同纲领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中华人民共和国宪法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36"/>
          <p:cNvSpPr/>
          <p:nvPr/>
        </p:nvSpPr>
        <p:spPr>
          <a:xfrm>
            <a:off x="138960" y="262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1279440"/>
            <a:ext cx="8540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(09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广东单科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我国某部宪法将国家性质表述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工人阶级领导的、工农联盟为基础的人民民主国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这一表述说明当时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三大改造尚未完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资产阶级已被消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人民公社体制已经确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经济基础还十分薄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50920" y="3909960"/>
            <a:ext cx="8893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、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08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广东单科）与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中国人民政治协商会议共同纲领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不同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954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中华人民共和国宪法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确立了政治协商制度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标志着社会主义改造的胜利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提出了民族区域自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为社会主义建设提供了法律保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7667640" y="2133720"/>
            <a:ext cx="9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7667640" y="4508640"/>
            <a:ext cx="9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28600" y="95400"/>
            <a:ext cx="2286000" cy="642600"/>
          </a:xfrm>
          <a:prstGeom prst="rect">
            <a:avLst/>
          </a:prstGeom>
          <a:solidFill>
            <a:srgbClr val="009900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4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09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天津）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95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月，毛泽东在一次党内外认识座谈会上指出，政协仍有存在的必要，但是我们不能把政协搞成国家权力机关。此话的主要背景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个五年计划颁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主义改造已经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民代表大会制度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共八大召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.195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中华人民共和国宪法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基本特点是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坚持人民民主专政    ②坚持社会主义道路   ③坚持各民族一律平等的原则  ④体现了人民民主原则和社会主义原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①②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①②③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①② ④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①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7596360" y="1197000"/>
            <a:ext cx="765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7524720" y="4437000"/>
            <a:ext cx="9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9280" y="152280"/>
            <a:ext cx="87487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北京）民族区域自治制度是新中国的重要政治制度。在我国五个民族自治区当中，最早和最晚建立的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蒙古自治区、西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蒙古自治区、宁夏回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疆维吾尔自治区、宁夏回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广西壮族自治区、西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0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江苏）某学校阻止了一次主题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和睦大家庭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民族关系图片展，展览内容按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世纪的不同年代分为若干板块，在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代板块中可能展出的图片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同纲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封面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新中国第一部宪法片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西藏自治区成立大会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内蒙古自治区成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年庆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7596360" y="1197000"/>
            <a:ext cx="765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7524720" y="4437000"/>
            <a:ext cx="9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79280" y="259560"/>
            <a:ext cx="896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探究四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我国民族自治区域与特别行政区的不同？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468360" y="1125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社会制度不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68360" y="2205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实施群体不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68360" y="3357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主要作用不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508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享有的权力不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059280" y="105264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者实行社会主义制度；后者实行资本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059280" y="2133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者是少数民族同胞当家作主；后者是港澳同胞当家作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132000" y="3284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者有利于各民族共同繁荣；后者有利于实现祖国和平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276720" y="443700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行使一般地方国家机关职权的同时，享有和行使自治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后者享有高度自治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500040" y="9288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我国不采用西方的民主政治制度？我国人民代表大会制与西方的三权分立制有何本质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900000" y="4797360"/>
            <a:ext cx="3756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经济基础不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行使权力的主体不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活动的原则不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9280" y="2421000"/>
            <a:ext cx="8964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人民代表大会制度是符合中国国情的历史抉择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1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）从历史上看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西方民主共和制在中国行不通（辛亥革命的教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）从国家性质看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人民民主专政决定了中国实行人民代表大会制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）从代表阶级利益看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广大人民的根本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（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）从经济基础看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:</a:t>
            </a:r>
            <a:r>
              <a:rPr b="1" lang="zh-CN" sz="2000" spc="-1" strike="noStrike">
                <a:solidFill>
                  <a:srgbClr val="333399"/>
                </a:solidFill>
                <a:latin typeface="Arial Narrow"/>
              </a:rPr>
              <a:t>人民代表大会制度是与公有制经济基础相适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162252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社会主义民主政治建设的历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祖国统一大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835280" y="476280"/>
            <a:ext cx="5184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单元导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187280" y="2562120"/>
            <a:ext cx="7129800" cy="581400"/>
            <a:chOff x="1187280" y="2562120"/>
            <a:chExt cx="7129800" cy="581400"/>
          </a:xfrm>
        </p:grpSpPr>
        <p:sp>
          <p:nvSpPr>
            <p:cNvPr id="56" name="Text Box 5"/>
            <p:cNvSpPr/>
            <p:nvPr/>
          </p:nvSpPr>
          <p:spPr>
            <a:xfrm>
              <a:off x="1187280" y="2562120"/>
              <a:ext cx="712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开启   建立完善   曲折   新时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2050920" y="28540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4284720" y="28540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5796000" y="28540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1258920" y="4218120"/>
            <a:ext cx="7777080" cy="581400"/>
            <a:chOff x="1258920" y="4218120"/>
            <a:chExt cx="7777080" cy="581400"/>
          </a:xfrm>
        </p:grpSpPr>
        <p:sp>
          <p:nvSpPr>
            <p:cNvPr id="61" name="Text Box 10"/>
            <p:cNvSpPr/>
            <p:nvPr/>
          </p:nvSpPr>
          <p:spPr>
            <a:xfrm>
              <a:off x="1258920" y="4218120"/>
              <a:ext cx="777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理论提出    成功实践    问题展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3058920" y="45050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5506920" y="450504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8600" y="30492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9999"/>
                </a:solidFill>
                <a:latin typeface="黑体"/>
                <a:ea typeface="黑体"/>
              </a:rPr>
              <a:t>、健全完善民主制度的措施及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57200" y="271476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）坚持和加强中共领导的多党合作和政治协商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468360" y="3714840"/>
            <a:ext cx="638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）健全和发展民族区域自治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95280" y="112536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）完善人民代表大会制度和国家领导制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28760" y="19288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）加强基层民主建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1301760"/>
            <a:ext cx="8534520" cy="642600"/>
          </a:xfrm>
          <a:prstGeom prst="rect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一）起步阶段：三大政治制度的确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14400" y="3733920"/>
            <a:ext cx="5562720" cy="1068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人民代表大会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政体，根本政治制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2362320"/>
            <a:ext cx="7315200" cy="1068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共产党领导的多党合作和政治协商制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政党制度，基本政治制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14400" y="5257800"/>
            <a:ext cx="3886200" cy="1068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民族区域自治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基本政治制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5680" y="69840"/>
            <a:ext cx="8915400" cy="703440"/>
          </a:xfrm>
          <a:prstGeom prst="rect">
            <a:avLst/>
          </a:prstGeom>
          <a:solidFill>
            <a:srgbClr val="66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民主政治建设的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03640" y="7858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49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行全国人大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8120" y="148104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5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宪法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此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为人民民主统一战线组织继续存在，并发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56040" y="27576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956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出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长期共存，互相监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>
            <a:hlinkClick r:id="" action="ppaction://hlinkshowjump?jump=nextslide"/>
          </p:cNvPr>
          <p:cNvSpPr/>
          <p:nvPr/>
        </p:nvSpPr>
        <p:spPr>
          <a:xfrm>
            <a:off x="838080" y="295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627120" y="509760"/>
            <a:ext cx="287280" cy="482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947880" y="121932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确立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447920" y="9907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619280" y="811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初步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619280" y="16844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正式确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1676520" y="26798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新阶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755640" y="5105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755720" y="5029200"/>
            <a:ext cx="72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利于加强对共产党的监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扬社会主义民主，充分调动各民主党派建设社会主义的积极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762120" y="3840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1755720" y="3610080"/>
            <a:ext cx="72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提是坚持中国共产党的领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共与各民主党派：执政党与参政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-376200" y="457200"/>
            <a:ext cx="1033560" cy="5943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共领导的多党合作与政治协商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5562720" y="1828800"/>
            <a:ext cx="304776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政治协商和民主监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28600" y="380880"/>
            <a:ext cx="8640720" cy="947160"/>
          </a:xfrm>
          <a:prstGeom prst="rect">
            <a:avLst/>
          </a:prstGeom>
          <a:solidFill>
            <a:srgbClr val="00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探究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教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95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资料回放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并结合所学知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共建立多党合作和政治协商制度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5280" y="2166840"/>
            <a:ext cx="85345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教训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历史证明在民主革命时期，民主党派的议会斗争方案未能实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基础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新民主主义革命时期，民主党派与中共并肩作战，共同创建了新中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实行多党合作有利于监督党的领导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"/>
          <p:cNvPicPr/>
          <p:nvPr/>
        </p:nvPicPr>
        <p:blipFill>
          <a:blip r:embed="rId1"/>
          <a:stretch/>
        </p:blipFill>
        <p:spPr>
          <a:xfrm>
            <a:off x="0" y="1962000"/>
            <a:ext cx="914400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09480" y="152280"/>
            <a:ext cx="792504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、人民代表大会制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LINE05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47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755640" y="2492280"/>
            <a:ext cx="7632720" cy="2297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我国的政权组织形式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政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根据民主集中的原则，通过民主选举组成全国人民代表大会和地方各级人民人民代表大会，并以人民代表大会为基础，建立全部国家机构，对人民负责，受人民监督，以实现人民当家作主的政治制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632480" y="9954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141720" y="1828800"/>
            <a:ext cx="287280" cy="865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419"/>
                </a:lnTo>
                <a:cubicBezTo>
                  <a:pt x="10800" y="10419"/>
                  <a:pt x="5400" y="10419"/>
                  <a:pt x="0" y="10419"/>
                </a:cubicBezTo>
                <a:cubicBezTo>
                  <a:pt x="5400" y="10419"/>
                  <a:pt x="10800" y="10419"/>
                  <a:pt x="10800" y="1041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51400" y="22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了新一届国家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539600" y="172080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定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人民共和国宪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130560" y="2819520"/>
            <a:ext cx="53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形成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人民代表大会制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民主政治建设奠定了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1679400" y="995400"/>
            <a:ext cx="2952720" cy="2393640"/>
            <a:chOff x="1679400" y="995400"/>
            <a:chExt cx="2952720" cy="2393640"/>
          </a:xfrm>
        </p:grpSpPr>
        <p:sp>
          <p:nvSpPr>
            <p:cNvPr id="97" name="AutoShape 9"/>
            <p:cNvSpPr/>
            <p:nvPr/>
          </p:nvSpPr>
          <p:spPr>
            <a:xfrm>
              <a:off x="1679400" y="1139760"/>
              <a:ext cx="504720" cy="21607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56160 h 2160720"/>
                <a:gd name="textAreaBottom" fmla="*/ 210456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10"/>
                  </a:lnTo>
                  <a:cubicBezTo>
                    <a:pt x="10800" y="9910"/>
                    <a:pt x="5400" y="10810"/>
                    <a:pt x="0" y="10810"/>
                  </a:cubicBezTo>
                  <a:cubicBezTo>
                    <a:pt x="5400" y="10810"/>
                    <a:pt x="10800" y="11710"/>
                    <a:pt x="10800" y="126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184120" y="99540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时间、地点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2001600" y="1860480"/>
              <a:ext cx="13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1968480" y="2868480"/>
              <a:ext cx="163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意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13"/>
          <p:cNvSpPr/>
          <p:nvPr/>
        </p:nvSpPr>
        <p:spPr>
          <a:xfrm>
            <a:off x="2119320" y="75960"/>
            <a:ext cx="69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步确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同纲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式确立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第一届全国人大召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8600" y="304920"/>
            <a:ext cx="136692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1828800" y="312840"/>
            <a:ext cx="249120" cy="544320"/>
          </a:xfrm>
          <a:custGeom>
            <a:avLst/>
            <a:gdLst>
              <a:gd name="textAreaLeft" fmla="*/ 159120 w 249120"/>
              <a:gd name="textAreaRight" fmla="*/ 249480 w 24912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391"/>
                </a:lnTo>
                <a:cubicBezTo>
                  <a:pt x="10800" y="10391"/>
                  <a:pt x="5400" y="10391"/>
                  <a:pt x="0" y="10391"/>
                </a:cubicBezTo>
                <a:cubicBezTo>
                  <a:pt x="5400" y="10391"/>
                  <a:pt x="10800" y="10391"/>
                  <a:pt x="10800" y="1039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52280" y="4224240"/>
            <a:ext cx="136692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152280" y="5791320"/>
            <a:ext cx="144000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757520" y="5524560"/>
            <a:ext cx="4857480" cy="459720"/>
          </a:xfrm>
          <a:prstGeom prst="rect">
            <a:avLst/>
          </a:prstGeom>
          <a:solidFill>
            <a:srgbClr val="66ff33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、为民主政治建设奠定了基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2701800" y="3824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现人民当家作主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4617000" y="4267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原则是民主集中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2684880" y="48006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国的根本政治制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1766880" y="6134040"/>
            <a:ext cx="6829560" cy="459720"/>
          </a:xfrm>
          <a:prstGeom prst="rect">
            <a:avLst/>
          </a:prstGeom>
          <a:solidFill>
            <a:srgbClr val="66ff33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、体现社会主义制度的优越性和民主的广泛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152280" y="1778040"/>
            <a:ext cx="1524240" cy="459720"/>
          </a:xfrm>
          <a:prstGeom prst="rect">
            <a:avLst/>
          </a:prstGeom>
          <a:solidFill>
            <a:srgbClr val="66ff33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第一届全国人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5029200" y="0"/>
            <a:ext cx="4114800" cy="3048120"/>
          </a:xfrm>
          <a:prstGeom prst="cloudCallout">
            <a:avLst>
              <a:gd name="adj1" fmla="val -63273"/>
              <a:gd name="adj2" fmla="val 15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体现社会主义和人民民主的原则，是新中国第一部社会主义类型的宪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0" y="5748480"/>
            <a:ext cx="144000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4920" y="907920"/>
            <a:ext cx="140328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27280" y="5493960"/>
            <a:ext cx="7416720" cy="11912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满足了少数民族当家作主的愿望，实现了民族平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也保证了祖国统一和民族团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调动了各族人民建设中国特色社会主义的积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民族区域自治制度的建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4920" y="1844640"/>
            <a:ext cx="144144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4920" y="4437000"/>
            <a:ext cx="147636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763640" y="3535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年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724280" y="3521160"/>
            <a:ext cx="33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五个省级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6360" y="3462480"/>
            <a:ext cx="1440000" cy="5205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确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733200" y="1219320"/>
            <a:ext cx="11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是一个统一的多民族的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905120" y="1630440"/>
            <a:ext cx="64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少数民族的地理分布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杂居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聚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905120" y="19908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各少数民族地区的政治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济发展不平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化习俗以及宗教信仰等各不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905120" y="285444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民族关系的原则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民族平等</a:t>
            </a:r>
            <a:r>
              <a:rPr b="1" lang="zh-CN" sz="16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团结和共同繁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600200" y="42670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接受中央政府的统一领导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少数民族自己当家作主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坚持社会主义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3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3564000" y="0"/>
          <a:ext cx="4530600" cy="32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0"/>
                    <a:ext cx="453060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"/>
          <p:cNvGraphicFramePr/>
          <p:nvPr/>
        </p:nvGraphicFramePr>
        <p:xfrm>
          <a:off x="152280" y="631800"/>
          <a:ext cx="403704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631800"/>
                    <a:ext cx="40370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4648320" y="2590920"/>
          <a:ext cx="923760" cy="14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90920"/>
                    <a:ext cx="9237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6"/>
          <p:cNvSpPr/>
          <p:nvPr/>
        </p:nvSpPr>
        <p:spPr>
          <a:xfrm>
            <a:off x="3429000" y="914400"/>
            <a:ext cx="1905120" cy="914400"/>
          </a:xfrm>
          <a:prstGeom prst="wedgeRoundRectCallout">
            <a:avLst>
              <a:gd name="adj1" fmla="val 40666"/>
              <a:gd name="adj2" fmla="val 198092"/>
              <a:gd name="adj3" fmla="val 16667"/>
            </a:avLst>
          </a:prstGeom>
          <a:solidFill>
            <a:srgbClr val="1ba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宁夏回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7"/>
          <p:cNvGraphicFramePr/>
          <p:nvPr/>
        </p:nvGraphicFramePr>
        <p:xfrm>
          <a:off x="4572000" y="4970520"/>
          <a:ext cx="1852560" cy="135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70520"/>
                    <a:ext cx="185256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533520" y="2905200"/>
          <a:ext cx="3543120" cy="22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2905200"/>
                    <a:ext cx="35431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9"/>
          <p:cNvSpPr/>
          <p:nvPr/>
        </p:nvSpPr>
        <p:spPr>
          <a:xfrm>
            <a:off x="457200" y="2057400"/>
            <a:ext cx="31240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新疆维吾尔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 rot="19457400">
            <a:off x="5349600" y="1980360"/>
            <a:ext cx="14608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内蒙古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 rot="1567200">
            <a:off x="1801440" y="3857400"/>
            <a:ext cx="1247400" cy="52056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西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5181480" y="4343400"/>
            <a:ext cx="1828800" cy="990720"/>
          </a:xfrm>
          <a:prstGeom prst="wedgeRoundRectCallout">
            <a:avLst>
              <a:gd name="adj1" fmla="val -46875"/>
              <a:gd name="adj2" fmla="val 77722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广西壮族自治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47720" y="51339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我国的五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省级自治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372360" y="692280"/>
            <a:ext cx="2771640" cy="1800000"/>
          </a:xfrm>
          <a:prstGeom prst="cloudCallout">
            <a:avLst>
              <a:gd name="adj1" fmla="val -67699"/>
              <a:gd name="adj2" fmla="val 37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最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幼圆"/>
                <a:ea typeface="幼圆"/>
              </a:rPr>
              <a:t>1947</a:t>
            </a:r>
            <a:r>
              <a:rPr b="1" lang="zh-CN" sz="2400" spc="-1" strike="noStrike">
                <a:solidFill>
                  <a:srgbClr val="000066"/>
                </a:solidFill>
                <a:latin typeface="幼圆"/>
                <a:ea typeface="幼圆"/>
              </a:rPr>
              <a:t>年，内蒙古自治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 flipH="1">
            <a:off x="178560" y="1052640"/>
            <a:ext cx="3024360" cy="1682640"/>
          </a:xfrm>
          <a:prstGeom prst="cloudCallout">
            <a:avLst>
              <a:gd name="adj1" fmla="val -3861"/>
              <a:gd name="adj2" fmla="val 134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幼圆"/>
                <a:ea typeface="幼圆"/>
              </a:rPr>
              <a:t>最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幼圆"/>
                <a:ea typeface="幼圆"/>
              </a:rPr>
              <a:t>1965</a:t>
            </a:r>
            <a:r>
              <a:rPr b="1" lang="zh-CN" sz="2400" spc="-1" strike="noStrike">
                <a:solidFill>
                  <a:srgbClr val="000066"/>
                </a:solidFill>
                <a:latin typeface="幼圆"/>
                <a:ea typeface="幼圆"/>
              </a:rPr>
              <a:t>年，西藏自治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11-27T06:35:53Z</dcterms:modified>
  <cp:revision>19</cp:revision>
  <dc:subject/>
  <dc:title>幻灯片 1</dc:title>
</cp:coreProperties>
</file>