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8FA8-E289-4417-8D4F-C5D5220BF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F034-CF36-4268-AEC9-BE19AC98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86A6-C444-402B-B3F8-55B677DBF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6F4D-B4C2-4C80-A2C8-4E986A31C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7F96-505D-41EC-A384-C69F691A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F49C-5708-4E01-A78D-6481E0C4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91CF-D46E-4DAB-A1E6-3F18C32C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432E-80D4-49E4-BC7A-8062A775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7E24-0F8F-4D88-9E93-CAAA4C23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227E-1607-4984-9933-0960B671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260E-03F9-428F-B2ED-82A09CF4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3066-2EB6-4A5F-B340-DE9C4ABB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A4C2-E2A9-484B-9B86-A3500EC104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76680" y="41148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宋体"/>
              </a:rPr>
              <a:t>宜宾县育才中学 黄梅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900000" y="1600200"/>
            <a:ext cx="7920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隶书"/>
              </a:rPr>
              <a:t>2012</a:t>
            </a: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隶书"/>
              </a:rPr>
              <a:t>中招实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28036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771640" y="2060640"/>
            <a:ext cx="3353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72548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38280" y="182736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50885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02:38:53Z</dcterms:created>
  <dc:creator>huang</dc:creator>
  <dc:description/>
  <dc:language>en-US</dc:language>
  <cp:lastModifiedBy>Administrator</cp:lastModifiedBy>
  <dcterms:modified xsi:type="dcterms:W3CDTF">2012-03-22T06:07:31Z</dcterms:modified>
  <cp:revision>99</cp:revision>
  <dc:subject/>
  <dc:title>第四单元《生物圈的人》第三章  第二节 发生在肺内的气体交换</dc:title>
</cp:coreProperties>
</file>