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7763-4794-4084-AE6B-22597EE964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录相太大，无法上传。录相截取自教参所附教学资源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录相太大，无法上传。录相截取自教参所附教学资源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录相太大，无法上传。录相截取自教参所附教学资源盘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9F6-86FB-4BF1-B161-FCD3C52C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AA8-072F-4579-8476-000BE7385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E634-07E9-4B0D-AFC5-AF6D7DF5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3D0D-CD31-4802-9D43-F64995F4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D94-B121-4D3B-B0BE-DC317E3F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5E2-3BCE-4B9F-BB09-4759657B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1B32-509F-4390-A378-FD210643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2731-383F-4F30-A58F-38BAF91B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FB5-69B5-433E-9411-3E578F78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A045-201D-4039-B9AF-722EC947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6822-F51B-4AB1-93D8-913E903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20A-7245-4358-A51D-8747F177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C749-1BB0-4B76-B435-593AD4722D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第二节 昆虫的生殖和发育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324480" cy="3841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4343040"/>
            <a:ext cx="304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蝴蝶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幼虫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1769" t="2336" r="4427" b="11195"/>
          <a:stretch/>
        </p:blipFill>
        <p:spPr>
          <a:xfrm>
            <a:off x="228600" y="1143000"/>
            <a:ext cx="4114800" cy="28735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0" y="1143000"/>
            <a:ext cx="4286160" cy="28576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181480" y="434340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蝴蝶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成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8229600" cy="58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阅读课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-1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页，完成以下任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案的自主预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本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页有关家蚕的一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课本第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页讨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172200" y="5052960"/>
            <a:ext cx="2971800" cy="1805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8088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0880" y="2590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3.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春蚕到死丝方尽，蜡炬成灰泪始干”是否准确？为什么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正确。蚕作茧后并没有死，变成了蛹 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春蚕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化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丝方尽 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72200" y="5052960"/>
            <a:ext cx="297180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29400" y="5638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228600"/>
            <a:ext cx="822960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家蚕是通过哪种生殖方式繁殖后代的？这种生殖方式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性生殖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由受精卵发育成新个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1406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蝴蝶的发育过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96080" cy="52369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05120" y="1522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蝗虫的发育过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30000"/>
          </a:blip>
          <a:srcRect l="0" t="0" r="67252" b="0"/>
          <a:stretch/>
        </p:blipFill>
        <p:spPr>
          <a:xfrm>
            <a:off x="457200" y="762120"/>
            <a:ext cx="3581280" cy="2577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rcRect l="32765" t="0" r="33626" b="0"/>
          <a:stretch/>
        </p:blipFill>
        <p:spPr>
          <a:xfrm>
            <a:off x="4876920" y="762120"/>
            <a:ext cx="3581280" cy="2511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67252" t="0" r="0" b="0"/>
          <a:stretch/>
        </p:blipFill>
        <p:spPr>
          <a:xfrm>
            <a:off x="2362320" y="3505320"/>
            <a:ext cx="3581280" cy="2577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3276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成虫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94360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若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4724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成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72200" y="5052960"/>
            <a:ext cx="2971800" cy="18050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蝴蝶与蝗虫生殖发育的异同点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19320" y="1600200"/>
          <a:ext cx="6553080" cy="3657600"/>
        </p:xfrm>
        <a:graphic>
          <a:graphicData uri="http://schemas.openxmlformats.org/drawingml/2006/table">
            <a:tbl>
              <a:tblPr/>
              <a:tblGrid>
                <a:gridCol w="990360"/>
                <a:gridCol w="3429000"/>
                <a:gridCol w="2133720"/>
              </a:tblGrid>
              <a:tr h="609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比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不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相同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160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蝴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蝗虫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ff0000"/>
                      </a:solidFill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5715000" y="3124080"/>
            <a:ext cx="1828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仿宋"/>
              </a:rPr>
              <a:t>有性生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华文仿宋"/>
              </a:rPr>
              <a:t>变态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438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完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变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发育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卵、幼虫、蛹、成虫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33720" y="3886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不完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变态发育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卵、若虫、成虫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553080" y="5284800"/>
            <a:ext cx="2590920" cy="1573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28600" y="140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昆虫的变态发育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在由受精卵发育成新个体的过程中，昆虫的幼虫与成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形态结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习性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差异很大，这种发育过程称为变态发育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课堂小结：昆虫的变态发育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14778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262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完全变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1325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完全变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12492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卵、幼虫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成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2620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卵、若虫、成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蝉的发育过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086600" cy="4960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3" dur="indefinite" restart="never" nodeType="tmRoot">
          <p:childTnLst>
            <p:seq>
              <p:cTn id="11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8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赤眼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43800" cy="4915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9" dur="indefinite" restart="never" nodeType="tmRoot">
          <p:childTnLst>
            <p:seq>
              <p:cTn id="120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李超英</dc:creator>
  <dc:description/>
  <dc:language>en-US</dc:language>
  <cp:lastModifiedBy>a</cp:lastModifiedBy>
  <dcterms:modified xsi:type="dcterms:W3CDTF">2013-03-04T11:32:47Z</dcterms:modified>
  <cp:revision>102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