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%E9%B8%9F5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689-5DA4-4039-A9D2-84F2CBE8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0D5-9A76-461D-80BD-D2C7D72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D62-018A-4ECE-A37E-2E1B42F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BAE-FFA6-4D39-9BEE-DC672168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D4C-F703-4683-B2D7-5748C09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486-66D6-45F6-81CA-CFA5FDE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FA1-B8E0-408A-B994-08EE0A3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3F0-EB39-41F9-A362-0E8725B3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0DA-8DF6-4FE1-B1FA-18E85CFD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7AF-489B-4987-8D52-CF276B8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731-70F7-4A85-9F0D-BF0A439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D2D-3915-4AE9-B05D-59CEF20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A4E3-5DFE-45C3-8B4B-FC73413084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audio" Target="../media/&#40479;5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50920" y="3860640"/>
            <a:ext cx="3268800" cy="2693520"/>
            <a:chOff x="2050920" y="3860640"/>
            <a:chExt cx="3268800" cy="2693520"/>
          </a:xfrm>
        </p:grpSpPr>
        <p:sp>
          <p:nvSpPr>
            <p:cNvPr id="42" name=""/>
            <p:cNvSpPr/>
            <p:nvPr/>
          </p:nvSpPr>
          <p:spPr>
            <a:xfrm>
              <a:off x="2050920" y="6165720"/>
              <a:ext cx="316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2698560" y="400464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2914560" y="4221000"/>
              <a:ext cx="0" cy="2232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1280" y="5877000"/>
              <a:ext cx="237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82560" y="4437000"/>
              <a:ext cx="2232360" cy="1944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03280" y="609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396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14560" y="4797360"/>
              <a:ext cx="1224000" cy="107964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3080" y="609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62720" y="4495680"/>
            <a:ext cx="2743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8960" y="2781360"/>
            <a:ext cx="40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3.3.2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简单的线性规划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64560" y="333360"/>
            <a:ext cx="54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普通高中课程标准实验教科书—数学必修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[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308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5034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4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问题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数学建模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5000"/>
            <a:ext cx="4932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甲、乙两种产品分别生产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，由已知条件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88000" y="2060640"/>
          <a:ext cx="20523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2060640"/>
                    <a:ext cx="2052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236960" y="5157720"/>
            <a:ext cx="646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工厂获得的利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435640" y="3068640"/>
                <a:ext cx="134460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16360" y="1890720"/>
            <a:ext cx="5955480" cy="4967280"/>
            <a:chOff x="2916360" y="1890720"/>
            <a:chExt cx="5955480" cy="4967280"/>
          </a:xfrm>
        </p:grpSpPr>
        <p:sp>
          <p:nvSpPr>
            <p:cNvPr id="151" name=""/>
            <p:cNvSpPr/>
            <p:nvPr/>
          </p:nvSpPr>
          <p:spPr>
            <a:xfrm>
              <a:off x="3420720" y="3833640"/>
              <a:ext cx="41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916360" y="1890720"/>
              <a:ext cx="5955480" cy="4967280"/>
              <a:chOff x="2916360" y="1890720"/>
              <a:chExt cx="5955480" cy="4967280"/>
            </a:xfrm>
          </p:grpSpPr>
          <p:sp>
            <p:nvSpPr>
              <p:cNvPr id="153" name=""/>
              <p:cNvSpPr/>
              <p:nvPr/>
            </p:nvSpPr>
            <p:spPr>
              <a:xfrm>
                <a:off x="6013080" y="2104920"/>
                <a:ext cx="0" cy="38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916360" y="1890720"/>
                <a:ext cx="5955480" cy="4967280"/>
                <a:chOff x="2916360" y="1890720"/>
                <a:chExt cx="5955480" cy="4967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16360" y="4770360"/>
                  <a:ext cx="583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643280" y="2178000"/>
                  <a:ext cx="0" cy="46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12720" y="477036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462520" y="412272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62160" y="189072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85720" y="42656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57080" y="36180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80000" y="4697280"/>
                  <a:ext cx="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73440" y="3473640"/>
                  <a:ext cx="7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72720" y="30402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09800" y="4187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3348000" y="2825640"/>
                <a:ext cx="4463640" cy="21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4644360" y="3833640"/>
                <a:ext cx="1368000" cy="936720"/>
                <a:chOff x="4644360" y="3833640"/>
                <a:chExt cx="1368000" cy="93672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4644360" y="3833640"/>
                  <a:ext cx="215640" cy="216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4644360" y="3833640"/>
                  <a:ext cx="431640" cy="432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4644720" y="3833640"/>
                  <a:ext cx="647280" cy="6476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4644720" y="3833640"/>
                  <a:ext cx="792000" cy="792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4931640" y="3978000"/>
                  <a:ext cx="792000" cy="792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076360" y="4049640"/>
                  <a:ext cx="718560" cy="720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716000" y="3905280"/>
                  <a:ext cx="863280" cy="865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5220360" y="4049640"/>
                  <a:ext cx="718920" cy="720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363640" y="4120920"/>
                  <a:ext cx="648720" cy="649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507640" y="4265640"/>
                  <a:ext cx="504360" cy="504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5652360" y="4410000"/>
                  <a:ext cx="360000" cy="36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5794920" y="4552920"/>
                  <a:ext cx="217080" cy="217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3348000" y="0"/>
            <a:ext cx="2457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125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不等式组所表示的平面区域：</a:t>
            </a:r>
            <a:r>
              <a:rPr b="0" lang="zh-CN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2403360"/>
            <a:ext cx="244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图中的阴影部分的整点（坐标为整数的点）就代表所有可能的日生产安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2457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问题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4183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分析目标函数：</a:t>
            </a:r>
            <a:r>
              <a:rPr b="0" lang="zh-CN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255852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356000" y="2060640"/>
                <a:ext cx="22338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2457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问题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19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234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84720" y="692280"/>
            <a:ext cx="0" cy="38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2081160"/>
            <a:ext cx="41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87640" y="209520"/>
            <a:ext cx="5956200" cy="4967280"/>
            <a:chOff x="2987640" y="209520"/>
            <a:chExt cx="5956200" cy="4967280"/>
          </a:xfrm>
        </p:grpSpPr>
        <p:sp>
          <p:nvSpPr>
            <p:cNvPr id="193" name=""/>
            <p:cNvSpPr/>
            <p:nvPr/>
          </p:nvSpPr>
          <p:spPr>
            <a:xfrm>
              <a:off x="2987640" y="3089160"/>
              <a:ext cx="58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14920" y="496800"/>
              <a:ext cx="0" cy="46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84720" y="3089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34520" y="2441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4160" y="209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7360" y="2584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28720" y="193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016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5080" y="17924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4360" y="136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1440" y="2506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92360" y="1197000"/>
            <a:ext cx="446436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081160"/>
            <a:ext cx="3743280" cy="259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716000" y="2152800"/>
            <a:ext cx="1368720" cy="936000"/>
            <a:chOff x="4716000" y="2152800"/>
            <a:chExt cx="1368720" cy="936000"/>
          </a:xfrm>
        </p:grpSpPr>
        <p:sp>
          <p:nvSpPr>
            <p:cNvPr id="207" name=""/>
            <p:cNvSpPr/>
            <p:nvPr/>
          </p:nvSpPr>
          <p:spPr>
            <a:xfrm flipH="1">
              <a:off x="4716360" y="2152800"/>
              <a:ext cx="21600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716360" y="2152800"/>
              <a:ext cx="43200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716000" y="2152800"/>
              <a:ext cx="647640" cy="64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716000" y="2152800"/>
              <a:ext cx="792360" cy="79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280" y="2296800"/>
              <a:ext cx="792360" cy="79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148000" y="2368440"/>
              <a:ext cx="718920" cy="72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87640" y="2224080"/>
              <a:ext cx="863640" cy="86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292720" y="2368440"/>
              <a:ext cx="719280" cy="72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35280" y="2439720"/>
              <a:ext cx="649080" cy="649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580000" y="2584440"/>
              <a:ext cx="504720" cy="50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2728800"/>
              <a:ext cx="360360" cy="36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867280" y="2871720"/>
              <a:ext cx="217440" cy="21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940360" y="2081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780000" y="5084640"/>
                <a:ext cx="45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42800" y="1268280"/>
            <a:ext cx="154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240" y="4149720"/>
            <a:ext cx="1170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0920" y="4869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当直线经过点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即：当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79280" y="595008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生产甲产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乙产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时，工厂可获得最大利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3284640"/>
                <a:ext cx="2543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左下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588000" y="4581360"/>
                <a:ext cx="2319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063 L -8.33333E-007 -0.23047 E">
                                      <p:cBhvr>
                                        <p:cTn id="256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61396E-006 L -5.55556E-007 -0.23069 E">
                                      <p:cBhvr>
                                        <p:cTn id="26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609480"/>
            <a:ext cx="813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课堂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341000"/>
            <a:ext cx="8353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，使式中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足约束条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508720" y="2349360"/>
                <a:ext cx="220968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20720" y="1052640"/>
            <a:ext cx="244800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二元一次不等式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表示平面区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1052640"/>
            <a:ext cx="1800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直线定界，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特殊点定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63640" y="3932280"/>
            <a:ext cx="2448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简单的线性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23479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约束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306864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目标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4581360"/>
            <a:ext cx="136836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可行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789360"/>
            <a:ext cx="136836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可行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5373720"/>
            <a:ext cx="136836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最优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2492280"/>
            <a:ext cx="720720" cy="3241800"/>
          </a:xfrm>
          <a:custGeom>
            <a:avLst/>
            <a:gdLst>
              <a:gd name="textAreaLeft" fmla="*/ 460440 w 720720"/>
              <a:gd name="textAreaRight" fmla="*/ 721080 w 720720"/>
              <a:gd name="textAreaTop" fmla="*/ 84240 h 3241800"/>
              <a:gd name="textAreaBottom" fmla="*/ 3157560 h 324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68720" y="1268280"/>
            <a:ext cx="1224000" cy="432000"/>
          </a:xfrm>
          <a:prstGeom prst="rightArrow">
            <a:avLst>
              <a:gd name="adj1" fmla="val 50000"/>
              <a:gd name="adj2" fmla="val 70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349360" y="1916280"/>
            <a:ext cx="1033560" cy="2016000"/>
            <a:chOff x="2349360" y="1916280"/>
            <a:chExt cx="1033560" cy="2016000"/>
          </a:xfrm>
        </p:grpSpPr>
        <p:sp>
          <p:nvSpPr>
            <p:cNvPr id="242" name=""/>
            <p:cNvSpPr/>
            <p:nvPr/>
          </p:nvSpPr>
          <p:spPr>
            <a:xfrm>
              <a:off x="2484360" y="1916280"/>
              <a:ext cx="431640" cy="2016000"/>
            </a:xfrm>
            <a:prstGeom prst="downArrow">
              <a:avLst>
                <a:gd name="adj1" fmla="val 50000"/>
                <a:gd name="adj2" fmla="val 116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49360" y="2370240"/>
              <a:ext cx="10335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应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20720" y="5300640"/>
            <a:ext cx="2448000" cy="1015920"/>
          </a:xfrm>
          <a:prstGeom prst="rect">
            <a:avLst/>
          </a:prstGeom>
          <a:solidFill>
            <a:srgbClr val="ffcc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求解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画、作、移、求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4437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360" y="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小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71640" y="7650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线性规划问题的一般步骤：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002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平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找出与可行域有公共点且纵截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大或最小的直线，确定可行域内最优解的位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280" y="4653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求：解有关方程组求出最优解，将最优解代入目标函数求最值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81080" y="1413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画：画出线性约束条件所表示的可行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0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作：作出过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且与目标函数直线平行的直线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87280" y="0"/>
            <a:ext cx="2730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课堂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125000"/>
            <a:ext cx="914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和最小值，使式中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约束条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50920" y="1989000"/>
                <a:ext cx="2770200" cy="21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95640" y="2060640"/>
            <a:ext cx="468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P91   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P93   A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布置作业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00000" y="213372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必做题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4076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选做题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4292640"/>
            <a:ext cx="4537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P93    B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4000" y="191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各位领导老师批评指正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1" name=""/>
          <p:cNvSpPr/>
          <p:nvPr/>
        </p:nvSpPr>
        <p:spPr>
          <a:xfrm>
            <a:off x="1692360" y="342900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祝同学们学习进步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1600200" cy="1235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564000" y="3654360"/>
            <a:ext cx="2378160" cy="1131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580000" y="4005360"/>
            <a:ext cx="2378160" cy="1131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1763640" y="3500280"/>
            <a:ext cx="2378160" cy="113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723888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5029200" y="2286000"/>
            <a:ext cx="144792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004 -0.48403 E">
                                      <p:cBhvr>
                                        <p:cTn id="382" dur="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9%B8%9F5.WAV"/>
                                        </p:tgtEl>
                                      </p:cMediaNode>
                                    </p:audio>
                                    <p:animMotion origin="layout" path="M 1.66667E-006 7.77778E-006 C -0.00087 0.01899 -0.00157 0.03936 -0.00469 0.05834 C -0.00764 0.07732 -0.01303 0.09607 -0.01737 0.11459 C -0.01771 0.11667 -0.0224 0.14005 -0.02344 0.14167 C -0.02657 0.147 -0.0375 0.15001 -0.0375 0.15001 C -0.06407 0.14931 -0.09063 0.14978 -0.11719 0.14792 C -0.12466 0.14746 -0.13195 0.13936 -0.13924 0.13751 C -0.14237 0.13473 -0.1448 0.13079 -0.14844 0.12917 C -0.15591 0.12593 -0.16112 0.12431 -0.16719 0.11876 C -0.20157 0.12084 -0.2382 0.12223 -0.27188 0.13334 C -0.29497 0.14098 -0.31511 0.15325 -0.33907 0.15626 C -0.34115 0.15695 -0.34323 0.15741 -0.34532 0.15834 C -0.34844 0.1595 -0.35469 0.16251 -0.35469 0.16251 C -0.37084 0.16112 -0.38473 0.15996 -0.4 0.15417 C -0.40764 0.1514 -0.4125 0.14422 -0.42032 0.14167 C -0.42327 0.13913 -0.42674 0.13797 -0.42969 0.13542 C -0.43941 0.12663 -0.4349 0.12593 -0.44844 0.12292 C -0.46615 0.12385 -0.48681 0.12315 -0.50469 0.12917 C -0.5125 0.13172 -0.51685 0.13519 -0.52344 0.13959 C -0.5349 0.14723 -0.55 0.14978 -0.5625 0.15209 C -0.56563 0.1507 -0.56875 0.14931 -0.57188 0.14792 C -0.57431 0.14677 -0.57605 0.14376 -0.57813 0.14167 C -0.58785 0.13265 -0.58438 0.13473 -0.59219 0.13126 C -0.59497 0.12015 -0.60035 0.11112 -0.60313 0.10001 C -0.60261 0.09653 -0.60261 0.09283 -0.60157 0.08959 C -0.6 0.08496 -0.59653 0.08195 -0.59532 0.07709 C -0.59219 0.06436 -0.58994 0.04978 -0.58594 0.03751 C -0.58334 0.02964 -0.56719 0.00765 -0.56094 0.00209 C -0.55747 -0.01203 -0.56233 0.00325 -0.55469 -0.00833 C -0.5507 -0.01435 -0.54757 -0.02106 -0.54375 -0.02708 C -0.53872 -0.03495 -0.54132 -0.03749 -0.53438 -0.04374 C -0.52639 -0.06481 -0.53664 -0.03888 -0.52657 -0.06041 C -0.51928 -0.07615 -0.51303 -0.09305 -0.50313 -0.10624 C -0.5007 -0.11597 -0.49705 -0.12546 -0.49063 -0.13124 C -0.48803 -0.14189 -0.48178 -0.14814 -0.475 -0.15416 C -0.47136 -0.16134 -0.47032 -0.16527 -0.4625 -0.16874 C -0.45938 -0.17013 -0.45625 -0.17152 -0.45313 -0.17291 C -0.45157 -0.1736 -0.44844 -0.17499 -0.44844 -0.17499 C -0.44011 -0.17268 -0.43178 -0.17152 -0.42344 -0.16874 C -0.42188 -0.16735 -0.42049 -0.1655 -0.41875 -0.16458 C -0.4158 -0.16272 -0.40938 -0.16041 -0.40938 -0.16041 C -0.40539 -0.14467 -0.41129 -0.16342 -0.40313 -0.14999 C -0.40209 -0.14837 -0.40244 -0.1456 -0.40157 -0.14374 C -0.39966 -0.13935 -0.39653 -0.1361 -0.39532 -0.13124 C -0.39341 -0.1236 -0.38664 -0.10763 -0.38282 -0.09999 C -0.38091 -0.09004 -0.38056 -0.08634 -0.375 -0.07916 C -0.37362 -0.0706 -0.37136 -0.06597 -0.36875 -0.05833 C -0.3632 -0.0412 -0.36112 -0.02152 -0.34844 -0.01041 C -0.34011 0.00626 -0.35122 -0.01388 -0.3408 7.77778E-006 C -0.33039 0.0139 -0.34532 -0.00069 -0.33282 0.01042 C -0.33195 0.01251 -0.33108 0.01482 -0.32969 0.01667 C -0.32848 0.01853 -0.32622 0.01899 -0.32518 0.02084 C -0.31928 0.02964 -0.31928 0.03103 -0.31719 0.03959 C -0.31771 0.04515 -0.31806 0.0507 -0.31875 0.05626 C -0.31945 0.06065 -0.32188 0.06876 -0.32188 0.06876 C -0.32153 0.07778 -0.32153 0.08681 -0.32032 0.09584 C -0.31754 0.11945 -0.30382 0.13728 -0.29688 0.15834 C -0.29046 0.17778 -0.28872 0.19885 -0.27969 0.21667 C -0.27848 0.22315 -0.27761 0.23265 -0.27344 0.23751 C -0.26546 0.247 -0.24966 0.26112 -0.23907 0.26459 C -0.22223 0.27964 -0.20261 0.28635 -0.18282 0.29167 C -0.17761 0.29306 -0.1724 0.29445 -0.16719 0.29584 C -0.16303 0.297 -0.15469 0.30001 -0.15469 0.30001 C -0.13542 0.2963 -0.13629 0.29607 -0.11112 0.29792 C -0.06164 0.3088 0.00156 0.29885 0.0467 0.29792 C 0.05989 0.29445 0.07291 0.29306 0.08593 0.28959 C 0.0934 0.28751 0.10052 0.2838 0.10781 0.28126 C 0.12361 0.27593 0.13923 0.27153 0.15468 0.26459 C 0.16024 0.26204 0.16631 0.26251 0.17187 0.26042 C 0.18072 0.25718 0.18819 0.2507 0.19687 0.24792 C 0.2019 0.24329 0.20711 0.24167 0.2125 0.23751 C 0.21996 0.23195 0.21475 0.23496 0.22187 0.22709 C 0.2276 0.22084 0.23159 0.222 0.23593 0.21042 C 0.23784 0.20533 0.2394 0.20024 0.24218 0.19584 C 0.24652 0.1889 0.24704 0.19121 0.25 0.18334 C 0.25416 0.17223 0.25607 0.15927 0.26406 0.15209 C 0.26649 0.14237 0.26892 0.13589 0.27187 0.12709 C 0.27517 0.11714 0.27517 0.10695 0.27968 0.09792 C 0.28194 0.08311 0.28038 0.09098 0.28437 0.07501 C 0.28541 0.07084 0.2875 0.06251 0.2875 0.06251 C 0.28697 0.05556 0.2875 0.04839 0.28593 0.04167 C 0.28489 0.03681 0.2809 0.03403 0.27968 0.02917 C 0.2769 0.01783 0.27604 0.02686 0.27187 0.01042 C 0.27135 0.00834 0.27135 0.00579 0.27031 0.00417 C 0.2677 7.77777999999996E-006 0.26354 -0.00208 0.26093 -0.00624 C 0.25468 -0.0162 0.24739 -0.02592 0.23906 -0.03333 C 0.23142 -0.0486 0.21093 -0.05948 0.19843 -0.06666 C 0.18315 -0.07546 0.16718 -0.07847 0.15156 -0.08541 C 0.13715 -0.09189 0.12256 -0.09675 0.10781 -0.10208 C 0.09618 -0.10624 0.08506 -0.11272 0.07343 -0.11666 C 0.06979 -0.11782 0.06631 -0.1206 0.0625 -0.12083 C 0.05555 -0.12129 0.04895 -0.12083 0.04218 -0.12083 E">
                                      <p:cBhvr>
                                        <p:cTn id="389" dur="1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8.33333E-006 -4.44444E-006 C 0.00469 0.01898 -0.0059 0.04005 -0.00937 0.05834 C -0.01302 0.07801 -0.01822 0.09699 -0.02187 0.11667 C -0.02447 0.1301 -0.02447 0.1419 -0.02656 0.15625 C -0.02795 0.16551 -0.02986 0.17408 -0.03124 0.18334 C -0.03003 0.2088 -0.02777 0.23033 -0.02187 0.25417 C -0.02135 0.27361 -0.02118 0.29306 -0.02031 0.3125 C -0.01996 0.31852 -0.01753 0.31991 -0.01562 0.325 C -0.01145 0.33588 -0.00677 0.34607 -0.00156 0.35625 C 0.00556 0.37061 -0.00104 0.37477 0.01094 0.38542 C 0.01407 0.39769 0.01007 0.38635 0.01719 0.39584 C 0.02431 0.40533 0.0158 0.4 0.02501 0.40417 C 0.02987 0.41389 0.03785 0.42662 0.04532 0.43334 C 0.04896 0.44051 0.05001 0.44584 0.05469 0.45209 C 0.05834 0.4669 0.05591 0.46088 0.06094 0.47084 C 0.05955 0.48542 0.05764 0.49398 0.05313 0.50602 C 0.05244 0.50811 0.05261 0.51088 0.05157 0.5125 C 0.04879 0.5169 0.04046 0.51945 0.03751 0.52084 C 0.02882 0.52477 0.01997 0.52824 0.01094 0.53125 C -0.02499 0.52338 0.02969 0.53473 -0.06874 0.52709 C -0.07673 0.52639 -0.0842 0.52176 -0.09218 0.52084 C -0.09531 0.51945 -0.09878 0.51922 -0.10156 0.51667 C -0.10312 0.51528 -0.10451 0.51343 -0.10624 0.5125 C -0.11319 0.50903 -0.121 0.50741 -0.12812 0.50417 C -0.13506 0.50116 -0.14166 0.49352 -0.14843 0.48959 C -0.15347 0.48681 -0.15885 0.48565 -0.16406 0.48311 C -0.16579 0.48264 -0.16701 0.4801 -0.16874 0.47894 C -0.17569 0.475 -0.17361 0.47894 -0.17968 0.475 C -0.18663 0.47037 -0.18246 0.47037 -0.19062 0.46667 C -0.20243 0.46135 -0.2144 0.45602 -0.22656 0.45209 C -0.2309 0.44838 -0.23628 0.44746 -0.24062 0.44375 C -0.24635 0.43866 -0.25312 0.43542 -0.25937 0.43125 C -0.26249 0.42917 -0.26562 0.42686 -0.26874 0.425 C -0.2717 0.42315 -0.27812 0.42084 -0.27812 0.42084 C -0.28697 0.42385 -0.2927 0.42477 -0.29999 0.43125 C -0.3085 0.44838 -0.29739 0.42871 -0.30781 0.43959 C -0.31128 0.44329 -0.31354 0.44885 -0.31718 0.45209 C -0.31874 0.45348 -0.32031 0.45486 -0.32187 0.45625 C -0.32951 0.4713 -0.3401 0.48357 -0.35156 0.49375 C -0.3592 0.50903 -0.37152 0.51922 -0.38281 0.52917 C -0.38611 0.53218 -0.38871 0.53704 -0.39218 0.53959 C -0.39791 0.54375 -0.40624 0.54491 -0.41249 0.54792 C -0.41753 0.56111 -0.42031 0.55811 -0.43124 0.56042 C -0.46093 0.55602 -0.45034 0.56019 -0.46406 0.55417 C -0.46979 0.54653 -0.47534 0.54491 -0.48281 0.54167 C -0.48454 0.54098 -0.48576 0.53843 -0.48749 0.53727 C -0.49201 0.53473 -0.49739 0.53496 -0.50156 0.53125 C -0.51475 0.51968 -0.50624 0.52454 -0.52031 0.52084 C -0.52795 0.51875 -0.53385 0.51412 -0.54062 0.51019 C -0.54357 0.50857 -0.54999 0.50602 -0.54999 0.50602 C -0.54843 0.50556 -0.54687 0.50348 -0.54531 0.50417 C -0.54322 0.5051 -0.53906 0.50834 -0.54062 0.51019 C -0.54253 0.51297 -0.54583 0.50926 -0.54843 0.50834 C -0.55885 0.50486 -0.56805 0.49607 -0.57812 0.49167 L -0.59687 0.47709 L -0.59218 0.475 C -0.58159 0.47963 -0.58454 0.47014 -0.58593 0.46042 C -0.58541 0.45209 -0.58506 0.44375 -0.58437 0.43542 C -0.5835 0.42662 -0.58055 0.42199 -0.57812 0.41459 C -0.57482 0.40486 -0.57291 0.39352 -0.57031 0.38334 C -0.56961 0.38033 -0.56614 0.38033 -0.56406 0.37917 C -0.55694 0.375 -0.55156 0.37176 -0.54374 0.36875 C -0.53072 0.35718 -0.51701 0.35232 -0.50156 0.35 C -0.4842 0.35232 -0.48211 0.35371 -0.46249 0.35 C -0.4592 0.34931 -0.45312 0.34584 -0.45312 0.34584 C -0.44999 0.33959 -0.44548 0.33426 -0.44374 0.32709 C -0.44149 0.31829 -0.43958 0.30093 -0.43593 0.29375 C -0.43229 0.28658 -0.4302 0.27917 -0.42812 0.27084 C -0.42569 0.18172 -0.42482 0.17431 -0.42812 0.05417 C -0.42829 0.04607 -0.43767 0.04561 -0.44062 0.04375 C -0.45225 0.03588 -0.46423 0.03357 -0.47656 0.02917 C -0.48124 0.02755 -0.48593 0.025 -0.49062 0.02292 C -0.49218 0.02223 -0.49531 0.02084 -0.49531 0.02084 C -0.50138 0.0088 -0.51284 0.00186 -0.52187 -0.00625 C -0.53263 -0.01597 -0.49583 -0.00486 -0.48281 -0.00416 C -0.47013 -0.00254 -0.4592 0.00162 -0.44687 0.00417 C -0.43923 0.00579 -0.40364 0.00811 -0.39999 0.00834 C -0.39791 0.00903 -0.39583 0.00949 -0.39374 0.01042 C -0.39062 0.01158 -0.38437 0.01459 -0.38437 0.01459 C -0.38333 0.01875 -0.38229 0.02292 -0.38124 0.02709 C -0.37986 0.03241 -0.37812 0.04375 -0.37812 0.04375 C -0.37725 0.06829 -0.37638 0.09074 -0.37343 0.11459 C -0.37135 0.14931 -0.3684 0.18449 -0.36406 0.21875 C -0.36197 0.25463 -0.36388 0.28936 -0.36718 0.325 C -0.36684 0.32778 -0.36562 0.33797 -0.36406 0.34167 C -0.36215 0.34607 -0.35902 0.34931 -0.35781 0.35417 C -0.3552 0.36436 -0.35659 0.35834 -0.35468 0.37292 C -0.35104 0.43542 -0.35538 0.35811 -0.35156 0.44167 C -0.35069 0.4625 -0.35017 0.47269 -0.34374 0.48959 C -0.34305 0.49144 -0.3434 0.49422 -0.34218 0.49584 C -0.32743 0.51551 -0.30399 0.52153 -0.28437 0.525 C -0.27864 0.52315 -0.27291 0.52061 -0.26718 0.51875 C -0.26562 0.51736 -0.26388 0.51621 -0.26249 0.51459 C -0.26076 0.51273 -0.25954 0.50996 -0.25781 0.50834 C -0.2559 0.50625 -0.25329 0.50602 -0.25156 0.50417 C -0.24166 0.49352 -0.23506 0.47871 -0.22499 0.46875 C -0.2118 0.43936 -0.2302 0.47755 -0.21249 0.45 C -0.21163 0.44861 -0.20954 0.43611 -0.20937 0.43542 C -0.20538 0.42477 -0.19878 0.41412 -0.19374 0.40417 C -0.1894 0.39537 -0.19149 0.39028 -0.18906 0.38125 C -0.18836 0.37894 -0.1868 0.37732 -0.18593 0.375 C -0.18246 0.36598 -0.18246 0.35672 -0.17812 0.34792 C -0.17586 0.33611 -0.17274 0.32431 -0.16718 0.31459 C -0.16458 0.30116 -0.16059 0.28704 -0.15312 0.27709 C -0.15017 0.26551 -0.14374 0.25463 -0.13906 0.24375 C -0.13784 0.24098 -0.1368 0.2382 -0.13593 0.23542 C -0.13524 0.23334 -0.13506 0.23102 -0.13437 0.22917 C -0.13003 0.2176 -0.12309 0.20741 -0.11874 0.19584 C -0.11163 0.17686 -0.1151 0.18426 -0.10937 0.17292 C -0.10798 0.16343 -0.10711 0.15787 -0.10312 0.15 C -0.09878 0.12709 -0.09461 0.10371 -0.08906 0.08125 C -0.09079 0.01181 -0.09062 0.04098 -0.09062 -0.00625 E">
                                      <p:cBhvr>
                                        <p:cTn id="391" dur="1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35640" y="2349360"/>
            <a:ext cx="2952720" cy="2951280"/>
          </a:xfrm>
          <a:prstGeom prst="rtTriangle">
            <a:avLst/>
          </a:prstGeom>
          <a:solidFill>
            <a:srgbClr val="ff99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5364000" y="2349360"/>
            <a:ext cx="2951280" cy="2951280"/>
          </a:xfrm>
          <a:prstGeom prst="rtTriangl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0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226200" y="2131560"/>
            <a:ext cx="1440" cy="33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867280" y="1916280"/>
            <a:ext cx="2956680" cy="2609640"/>
            <a:chOff x="5867280" y="1916280"/>
            <a:chExt cx="2956680" cy="2609640"/>
          </a:xfrm>
        </p:grpSpPr>
        <p:sp>
          <p:nvSpPr>
            <p:cNvPr id="61" name=""/>
            <p:cNvSpPr/>
            <p:nvPr/>
          </p:nvSpPr>
          <p:spPr>
            <a:xfrm>
              <a:off x="5867280" y="4076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55680" y="40053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98920" y="191628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62560" y="2349360"/>
            <a:ext cx="2881440" cy="2881440"/>
          </a:xfrm>
          <a:prstGeom prst="line">
            <a:avLst/>
          </a:prstGeom>
          <a:ln w="38160">
            <a:solidFill>
              <a:srgbClr val="ef0d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916280"/>
            <a:ext cx="4520880" cy="180036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平面直角坐标系中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x+y-1=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解为坐标的点集是经过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0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一条直线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那么以不等式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x+y-1&gt;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解为坐标的点集的几何意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16960" y="3068640"/>
            <a:ext cx="2554560" cy="2609640"/>
            <a:chOff x="5916960" y="3068640"/>
            <a:chExt cx="2554560" cy="2609640"/>
          </a:xfrm>
        </p:grpSpPr>
        <p:grpSp>
          <p:nvGrpSpPr>
            <p:cNvPr id="67" name=""/>
            <p:cNvGrpSpPr/>
            <p:nvPr/>
          </p:nvGrpSpPr>
          <p:grpSpPr>
            <a:xfrm>
              <a:off x="5916960" y="3068640"/>
              <a:ext cx="1248480" cy="1370160"/>
              <a:chOff x="5916960" y="3068640"/>
              <a:chExt cx="1248480" cy="1370160"/>
            </a:xfrm>
          </p:grpSpPr>
          <p:sp>
            <p:nvSpPr>
              <p:cNvPr id="68" name=""/>
              <p:cNvSpPr/>
              <p:nvPr/>
            </p:nvSpPr>
            <p:spPr>
              <a:xfrm>
                <a:off x="5916960" y="3068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3680" y="4070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996960" y="5157720"/>
              <a:ext cx="14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f0d28"/>
                  </a:solidFill>
                  <a:latin typeface="Tahoma"/>
                </a:rPr>
                <a:t>x+y-1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016040" y="278136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ahoma"/>
              </a:rPr>
              <a:t>x+y-1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58600" y="442260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ahoma"/>
              </a:rPr>
              <a:t>x+y-1&l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2800" y="5734080"/>
            <a:ext cx="3789360" cy="520560"/>
          </a:xfrm>
          <a:prstGeom prst="rect">
            <a:avLst/>
          </a:prstGeom>
          <a:noFill/>
          <a:ln w="3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判断不等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+y-1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哪一侧平面区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874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133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画出不等式组                      表示的平面区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08440" y="1268280"/>
                <a:ext cx="214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874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zh-CN" sz="3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1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满足不等式组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x+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39640" y="2133720"/>
                <a:ext cx="2143080" cy="24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292720" y="414972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933720"/>
            <a:ext cx="1511280" cy="79236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987640" y="2060640"/>
            <a:ext cx="5761080" cy="3887280"/>
            <a:chOff x="2987640" y="2060640"/>
            <a:chExt cx="5761080" cy="3887280"/>
          </a:xfrm>
        </p:grpSpPr>
        <p:grpSp>
          <p:nvGrpSpPr>
            <p:cNvPr id="83" name=""/>
            <p:cNvGrpSpPr/>
            <p:nvPr/>
          </p:nvGrpSpPr>
          <p:grpSpPr>
            <a:xfrm>
              <a:off x="2987640" y="2060640"/>
              <a:ext cx="5761080" cy="3887280"/>
              <a:chOff x="2987640" y="2060640"/>
              <a:chExt cx="5761080" cy="3887280"/>
            </a:xfrm>
          </p:grpSpPr>
          <p:sp>
            <p:nvSpPr>
              <p:cNvPr id="84" name=""/>
              <p:cNvSpPr/>
              <p:nvPr/>
            </p:nvSpPr>
            <p:spPr>
              <a:xfrm>
                <a:off x="2987640" y="4221000"/>
                <a:ext cx="4392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04000" y="2205000"/>
                <a:ext cx="0" cy="3742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348000" y="4724280"/>
                <a:ext cx="37450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924360" y="3068280"/>
                <a:ext cx="2232000" cy="2231640"/>
              </a:xfrm>
              <a:prstGeom prst="line">
                <a:avLst/>
              </a:prstGeom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29080" y="3139920"/>
                <a:ext cx="2303640" cy="230472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80360" y="40766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4000" y="20606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0" y="378756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61080" y="33559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37440" y="38606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20000" y="4579920"/>
                <a:ext cx="1440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cc"/>
                    </a:solidFill>
                    <a:latin typeface="Times New Roman"/>
                  </a:rPr>
                  <a:t>y=-1(</a:t>
                </a:r>
                <a:r>
                  <a:rPr b="1" lang="zh-CN" sz="2800" spc="-1" strike="noStrike">
                    <a:solidFill>
                      <a:srgbClr val="ff33cc"/>
                    </a:solidFill>
                    <a:latin typeface="Times New Roman"/>
                  </a:rPr>
                  <a:t>上</a:t>
                </a:r>
                <a:r>
                  <a:rPr b="1" lang="zh-CN" sz="2800" spc="-1" strike="noStrike">
                    <a:solidFill>
                      <a:srgbClr val="ff33cc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61440" y="5229000"/>
                <a:ext cx="20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cc33"/>
                    </a:solidFill>
                    <a:latin typeface="Times New Roman"/>
                  </a:rPr>
                  <a:t>x+y=1(</a:t>
                </a:r>
                <a:r>
                  <a:rPr b="1" lang="zh-CN" sz="2800" spc="-1" strike="noStrike">
                    <a:solidFill>
                      <a:srgbClr val="33cc33"/>
                    </a:solidFill>
                    <a:latin typeface="Times New Roman"/>
                  </a:rPr>
                  <a:t>左下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40720" y="2563560"/>
                <a:ext cx="20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cc"/>
                    </a:solidFill>
                    <a:latin typeface="Times New Roman"/>
                  </a:rPr>
                  <a:t>y=x(</a:t>
                </a:r>
                <a:r>
                  <a:rPr b="1" lang="zh-CN" sz="2800" spc="-1" strike="noStrike">
                    <a:solidFill>
                      <a:srgbClr val="9900cc"/>
                    </a:solidFill>
                    <a:latin typeface="Times New Roman"/>
                  </a:rPr>
                  <a:t>右下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4572000" y="4724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874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求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x+y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最大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414972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068640"/>
            <a:ext cx="3816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052640"/>
            <a:ext cx="0" cy="3743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6360" y="3571920"/>
            <a:ext cx="374472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39640" y="1916280"/>
            <a:ext cx="2232000" cy="223200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1987560"/>
            <a:ext cx="2303280" cy="230508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924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90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2635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2035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270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68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y=-1(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40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x+y=1(</a:t>
            </a: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左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411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y=x(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右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2781360"/>
            <a:ext cx="1582920" cy="79056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700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141300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69000"/>
            <a:ext cx="435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：欲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x+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值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=2x+y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：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206064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: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几何意义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27813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，可以转化成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76720" y="915840"/>
                <a:ext cx="3598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可化为：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643280" y="393372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：当平行直线系扫过公共区域时，哪条直线纵截距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57340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500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61000"/>
            <a:ext cx="46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不同常数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2x+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族平行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155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952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像这样关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y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次不等式组称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线性约束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条件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234936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z=2x+y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称为目标函数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这里目标函数为关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y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一次式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称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线性目标函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4292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线性约束下求线性目标函数的最值问题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称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线性规划问题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481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归纳概括，形成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5280" y="907920"/>
                <a:ext cx="214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640" y="1341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满足线性约束条件（不等式组）的解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x,y)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叫做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行解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781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有可行解组成的集合叫做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行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789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使目标函数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取得最值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可行解叫做这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的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优解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481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归纳概括，形成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1640" y="7650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线性规划问题的一般步骤：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002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平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找出与可行域有公共点且纵截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大或最小的直线，确定可行域内最优解的位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280" y="4653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求：解有关方程组求出最优解，将最优解代入目标函数求最值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81080" y="1413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画：画出线性约束条件所表示的可行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55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反思过程，提炼方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作：作出过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且与目标函数直线平行的直线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56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实战演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工厂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种配件生产甲、乙两种产品，每生产一件甲产品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件耗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每生产一件乙产品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件耗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该厂每天最多可从配件厂获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件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件，按每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，该厂所有可能的日生产安排是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生产一件甲产品获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元，生产一件乙产品获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元，采用哪种生产安排利润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9:27:16Z</dcterms:created>
  <dc:creator>蔡玉姬</dc:creator>
  <dc:description/>
  <dc:language>en-US</dc:language>
  <cp:lastModifiedBy>USER</cp:lastModifiedBy>
  <dcterms:modified xsi:type="dcterms:W3CDTF">2010-10-27T08:07:02Z</dcterms:modified>
  <cp:revision>587</cp:revision>
  <dc:subject/>
  <dc:title>PowerPoint 演示文稿</dc:title>
</cp:coreProperties>
</file>