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96B-7297-435E-9167-2EBB5C3E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611-40EC-440F-81D5-AB3A4670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C85-88DF-46DC-979D-1B4AD9AF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D02-04C2-4750-B82E-60D69375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3C7-45F6-44EA-8D96-AC4B633D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271-482B-428B-9F9F-20861EE5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EDA-86D5-43BC-978E-6E5AC2EF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A2E-A247-49BB-B246-275EBD0B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AE0-8DFE-4A36-909D-2E98DDC4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05A-A2CD-4442-9C9A-B25956AF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E95-57F5-47C0-9480-5B659C7D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EB4-22FD-4AE6-9B95-DAA6D16E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BF9F-BCFA-409A-9023-5068534344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初三英语第三次周考试卷讲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中英语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高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难答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短文填空要采用三步做题法，第一步，跳读课文，掌握大意。第二步，精读课文，确定选项，填上单词。第三步，通读课文，检查答案，修正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补全对话，要联系上下文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己作为其中的一个角色，你在场会怎么说，就是正确的答案。当没有线索时可以从下文推测出上文的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文写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招作文考察学生语言组织水平和逻辑思维能力。学生应先审题，确定它的主导时态、基本框架、写作人称等。然后，写在草稿纸上 ，写完后，逐句仔细检查并修正。最后才把答案，工整的写在卷子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链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地方、地点，主要指有地名的比较大的区域。比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 visited a lot of different pla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us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由房屋组成的家庭套房或别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.g. We have a big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太空、空间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’s space for a table and two ch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oo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房间、卧室、空间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.g  There are two rooms in our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链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般情况下，感叹句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的中心词为名词，结构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a(an) +adj. 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数名词单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谓语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 a lucky boy  (he is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+adj 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词复数或不可数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谓语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interesting stories (they are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的中心词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dj  or  ad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结构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+adj or adv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谓语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lucky the boy is!   How hard they work!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链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9.feel, sound, taste, loo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都是感官动词，都可以跟形容词作表语，但强调的重点不一样。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ee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身体感觉、感受，比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 feel 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听起来怎么样，比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 sounds inter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味觉，比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kind of bread tastes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o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外表给人的印象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looks yo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试卷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试卷与中招考试相比具有许多共性，第一、综合性强，比较全面的考察了学生对初中英语基础知识到英语应用的考察。第二、知识点分散，考题灵活，符合中招考试选拔性的特点。第三、作为平时的练习考试，只有把平时像做中招题那样认真对待，才能练中提高，练中反思，练中升华。因此，每次周考一定要认真对待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成绩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次成绩平均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，最高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，最低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，两极分化严重，部分同学存在懈怠和自暴自弃。每位同学应根据成绩查漏补缺，在课下进行有针对性的训练。同时大家要回归课本，把基础知识掌握牢，不能有漏洞，再结合我们的周考，才能取得优异的成绩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存在的共性问题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听力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单选中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，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完形填空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短文填空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补全对话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文。失分比较大的大多为应用性和灵活性比较强的题目，解决问题的办法，认真训练，不断反思，注重基础，注重总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单选题的学习，掌握同类题目知识点和做题方法，达到触类旁通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完型填空、阅读理解、补全对话等题目的探究和学习，提高自己英语综合应用的水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小组合作学习，提高大家的学习效率，激发大家的参与热情，培养良好的团队合作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核对答案，发现问题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min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—5ABCAA,        6—10BABBA 11—15BABBA,   16—20DBEC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—25CBABD,    26—30DABC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1—35BADBB,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—40CBAAB,    41—45BDA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6—50CCBAB,   51—55DCB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—60DDCBB,  61—65BDE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核对答案，发现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en 6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ess 6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aring 6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our 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ss 7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y 7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lled 7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ctivities 7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ousands 7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just        7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o’s t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was listening to a spee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was it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o gave the tal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do you think of the tal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合作探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8mi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重点讨论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对自己的错题按先后顺序讨论，争取组内解决，消除疑虑。对大家都不会的题目重点探究，力争组内解决，不能解决者，稍后反馈给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长要发挥协调作用，记录新生成的问题，以便小组展示、质疑。对有疑问的问题也要记录，以便质疑提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难答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听力得满分的同学谈体会和做题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对于单选题中大家的难点，由学优生给同学们解答，尔后老师点评补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型填空是一个综合性试题，做题时要兼顾上下文和语法规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阅读理解不能咬住一处不放，从总体着手，根据题干要求在文中找论点，不能自己想当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5-15T09:14:4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