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382-3380-483C-914C-A4306EC2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CA8-2F00-4AE6-AEE4-06810628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C8A-EFDE-477B-B3AD-9A853BC4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5A4-8430-4724-BCBB-324B0273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99E-CD6A-453E-9785-04787D3A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ACA-368B-47D1-B413-CC9B0876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7D0-5B1E-4079-AB5F-4CCD67C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626-8CAD-4950-A2EC-859F7A33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0D9-DBF9-4FD8-BD67-05742D6D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757-880A-467A-ABE5-B8B0ABC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94B-AAB2-4DE7-9CC4-67B26AC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160-C266-45AA-B29C-8145C2F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300A-70AB-46A7-A6D0-04EE595A5B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219640" y="765000"/>
            <a:ext cx="266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Unit 1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403280" y="1197000"/>
            <a:ext cx="6912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Times New Roman"/>
              </a:rPr>
              <a:t>Write a conversation between the nurse and the student using the notes in 3a. Use the question and phrases below to help yo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"/>
          <p:cNvSpPr/>
          <p:nvPr/>
        </p:nvSpPr>
        <p:spPr>
          <a:xfrm>
            <a:off x="395280" y="1339920"/>
            <a:ext cx="792000" cy="77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1989000"/>
            <a:ext cx="1439640" cy="576360"/>
          </a:xfrm>
          <a:prstGeom prst="ellipse">
            <a:avLst/>
          </a:prstGeom>
          <a:noFill/>
          <a:ln w="38160">
            <a:solidFill>
              <a:srgbClr val="cc00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843280" y="836280"/>
            <a:ext cx="936720" cy="107964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404640"/>
            <a:ext cx="1511280" cy="642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护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39640" y="836640"/>
            <a:ext cx="8209080" cy="47005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matter?/ What happened?/ Are you O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I don’t feel well./ I feel…/ I have a …/ Should I …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…/ You shouldn’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l down/ got hit by …/ cut myself / hurt m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867280" y="1628640"/>
            <a:ext cx="2808360" cy="2305080"/>
          </a:xfrm>
          <a:prstGeom prst="wedgeRoundRectCallout">
            <a:avLst>
              <a:gd name="adj1" fmla="val -60287"/>
              <a:gd name="adj2" fmla="val 8333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46440"/>
            <a:ext cx="2376360" cy="194436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773360"/>
            <a:ext cx="280836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ate too much junk food, and I got a stomachac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843280" y="4726080"/>
            <a:ext cx="4392720" cy="1871640"/>
          </a:xfrm>
          <a:prstGeom prst="wedgeRoundRectCallout">
            <a:avLst>
              <a:gd name="adj1" fmla="val -40782"/>
              <a:gd name="adj2" fmla="val -5983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71640" y="404640"/>
            <a:ext cx="2952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air 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284720" y="2278080"/>
            <a:ext cx="1224000" cy="21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092320"/>
            <a:ext cx="201600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the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059280" y="4775040"/>
            <a:ext cx="4176720" cy="1749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n’t eat so much next time. Now, you should lie down and r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84720" y="1052640"/>
            <a:ext cx="2808360" cy="1584360"/>
          </a:xfrm>
          <a:prstGeom prst="wedgeRoundRectCallout">
            <a:avLst>
              <a:gd name="adj1" fmla="val -60287"/>
              <a:gd name="adj2" fmla="val 34870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270080"/>
            <a:ext cx="2376360" cy="194472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335640" y="1268280"/>
            <a:ext cx="24843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have a toothac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2843280" y="4149720"/>
            <a:ext cx="3889440" cy="1657440"/>
          </a:xfrm>
          <a:prstGeom prst="wedgeRoundRectCallout">
            <a:avLst>
              <a:gd name="adj1" fmla="val -39592"/>
              <a:gd name="adj2" fmla="val -61111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515960"/>
            <a:ext cx="21603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292640"/>
            <a:ext cx="3528720" cy="133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see a dentist and get an X-r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1703520" cy="204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867280" y="1052640"/>
            <a:ext cx="3097440" cy="2736720"/>
          </a:xfrm>
          <a:prstGeom prst="wedgeRoundRectCallout">
            <a:avLst>
              <a:gd name="adj1" fmla="val -59328"/>
              <a:gd name="adj2" fmla="val -870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270080"/>
            <a:ext cx="2376360" cy="194472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1125360"/>
            <a:ext cx="3203640" cy="2531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didn’t wear enough warm clothes yesterday. Now  I have a cou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149720"/>
            <a:ext cx="3384360" cy="1295280"/>
          </a:xfrm>
          <a:prstGeom prst="wedgeRoundRectCallout">
            <a:avLst>
              <a:gd name="adj1" fmla="val -38041"/>
              <a:gd name="adj2" fmla="val -6421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1515960"/>
            <a:ext cx="216036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O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4308480"/>
            <a:ext cx="3528720" cy="921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drink some hot t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rcRect l="8564" t="0" r="0" b="0"/>
          <a:stretch/>
        </p:blipFill>
        <p:spPr>
          <a:xfrm>
            <a:off x="3995640" y="1700280"/>
            <a:ext cx="1544760" cy="201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940360" y="1050840"/>
            <a:ext cx="3060720" cy="2305080"/>
          </a:xfrm>
          <a:prstGeom prst="wedgeRoundRectCallout">
            <a:avLst>
              <a:gd name="adj1" fmla="val -58560"/>
              <a:gd name="adj2" fmla="val -8472"/>
              <a:gd name="adj3" fmla="val 16667"/>
            </a:avLst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66560" y="1268280"/>
            <a:ext cx="2376720" cy="1944720"/>
          </a:xfrm>
          <a:prstGeom prst="wedgeRoundRectCallout">
            <a:avLst>
              <a:gd name="adj1" fmla="val 61287"/>
              <a:gd name="adj2" fmla="val -287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1171440"/>
            <a:ext cx="3132000" cy="2043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was making dinner just now and I cut myself acci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148280"/>
            <a:ext cx="3817800" cy="1368360"/>
          </a:xfrm>
          <a:prstGeom prst="wedgeRoundRectCallout">
            <a:avLst>
              <a:gd name="adj1" fmla="val -39398"/>
              <a:gd name="adj2" fmla="val -6345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59280" y="1627200"/>
            <a:ext cx="1028520" cy="216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1514520"/>
            <a:ext cx="201600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the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274920" y="4181400"/>
            <a:ext cx="3602160" cy="1335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put some medicine o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rcRect l="32653" t="0" r="0" b="9351"/>
          <a:stretch/>
        </p:blipFill>
        <p:spPr>
          <a:xfrm>
            <a:off x="4140360" y="1771560"/>
            <a:ext cx="1536480" cy="194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468360" y="1268280"/>
            <a:ext cx="813744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1 Write different health problems next to the body parts. Then write more health problems you know of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1476360" y="3213000"/>
            <a:ext cx="66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: 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: 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at: 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th: 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mach: 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blems: 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矩形 3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3962160" cy="115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468360" y="587520"/>
            <a:ext cx="806436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: ______________________________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: ______________________________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at: _____________________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th: _______________________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mach: _____________________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blems: _____________________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692360" y="549360"/>
            <a:ext cx="70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headache/get hit on the hea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1763640" y="1523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sore back/hurt one’s back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2124000" y="2492280"/>
            <a:ext cx="391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sore throat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3500280"/>
            <a:ext cx="4105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toothach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4548240"/>
            <a:ext cx="4562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ve a stomachach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3780000" y="5229360"/>
            <a:ext cx="4562280" cy="1258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a fever/have a nosebleed/cut oneself         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39640" y="260280"/>
            <a:ext cx="82090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2 Put these questions and answers in order to make a convers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187280" y="1700280"/>
            <a:ext cx="691380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hurt myself playing soccer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sore leg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What should I do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think you should see a doctor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get an X-ra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OK, thanks. I’ll do that now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What’s the matter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Oh, that doesn’t sound good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384200" y="1773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404720" y="5805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1384200" y="3497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404720" y="464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376280" y="522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1346040" y="2924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95280" y="333360"/>
            <a:ext cx="7056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  <a:ea typeface="Times New Roman"/>
              </a:rPr>
              <a:t>3. Write advice for these peopl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250920" y="1125360"/>
            <a:ext cx="887724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oblem: Alan cut himse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roblem: Cindy has a headac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roblem: My cousins have bad col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Problem: Jack hurt his back playing volley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ce: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050920" y="177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ome medicine o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124000" y="292428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ke a temperature and r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1979640" y="4145040"/>
            <a:ext cx="66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e down, rest and drink mor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2050920" y="5300640"/>
            <a:ext cx="66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 to the hospital and get an X-r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03280" y="620640"/>
            <a:ext cx="64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Unit 1 What's the matter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4606" t="3921" r="1727" b="4136"/>
          <a:stretch/>
        </p:blipFill>
        <p:spPr>
          <a:xfrm>
            <a:off x="2268360" y="2492280"/>
            <a:ext cx="4392720" cy="3384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68360" y="1484280"/>
            <a:ext cx="849636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I. 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根据句意及首字母</a:t>
            </a:r>
            <a:r>
              <a:rPr b="1" lang="en-US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,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填入适当的单词。</a:t>
            </a:r>
            <a:r>
              <a:rPr b="1" lang="en-US" sz="3400" spc="-1" strike="noStrike">
                <a:solidFill>
                  <a:srgbClr val="009900"/>
                </a:solidFill>
                <a:latin typeface="宋体"/>
                <a:ea typeface="隶书"/>
              </a:rPr>
              <a:t> </a:t>
            </a:r>
            <a:r>
              <a:rPr b="1" lang="en-US" sz="3400" spc="-1" strike="noStrike">
                <a:solidFill>
                  <a:srgbClr val="000000"/>
                </a:solidFill>
                <a:latin typeface="隶书"/>
                <a:ea typeface="隶书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 What’s the m______ with you?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 Your face looks a bit red, maybe you have a f____. 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 He usually goes to school on f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 I have a t________, so I want to see a 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entist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16360" y="333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cc00ff"/>
                    </a:gs>
                  </a:gsLst>
                  <a:lin ang="5400000"/>
                </a:gradFill>
                <a:latin typeface="Arial"/>
              </a:rPr>
              <a:t>Exercis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cc00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4840" y="2147760"/>
            <a:ext cx="2089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282760" y="3414600"/>
            <a:ext cx="2808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6486480" y="404820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568600" y="465300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otha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476280"/>
            <a:ext cx="7704000" cy="5358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en you have a stomachache, please 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own and r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I get o____ at the next st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He h____ his knee, I should put a bandage on i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Aron almost lost his life because of a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0" indent="-442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Their water r___ ou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2425680" y="122544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5376960" y="123984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/>
          <p:nvPr/>
        </p:nvSpPr>
        <p:spPr>
          <a:xfrm>
            <a:off x="2138400" y="188748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820880" y="255096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130400" y="453708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cc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5200560"/>
            <a:ext cx="20890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24000" y="476280"/>
            <a:ext cx="67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I. 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排序</a:t>
            </a:r>
            <a:r>
              <a:rPr b="1" lang="en-US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,</a:t>
            </a:r>
            <a:r>
              <a:rPr b="1" lang="zh-CN" sz="3400" spc="-1" strike="noStrike">
                <a:solidFill>
                  <a:srgbClr val="009900"/>
                </a:solidFill>
                <a:latin typeface="宋体"/>
                <a:ea typeface="Times New Roman"/>
              </a:rPr>
              <a:t>组成符合逻辑的对话。 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401840"/>
            <a:ext cx="8317080" cy="4259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 it anything serious? 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y head hurts. I feel terrible. 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lease sit down. Let me have a look at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. 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’s wrong with you, young man? 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o, nothing serious. Take this medicine,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nd you can be better soon.  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4570560"/>
            <a:ext cx="436320" cy="523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52440" y="3878280"/>
            <a:ext cx="436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24000" y="2122560"/>
            <a:ext cx="43632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24000" y="2727360"/>
            <a:ext cx="4363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24000" y="1474920"/>
            <a:ext cx="436320" cy="52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3908520" cy="1262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1844640"/>
            <a:ext cx="7632720" cy="3110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9560" indent="-439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rite a conversation between the nurse and the student using the useful sentences in 3b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9560" indent="-4395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Remember the words, phrases and sentences in this uni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ADMINI~1\APPLIC~1\360se6\USERDA~1\Temp\U_2714~1.JPG"/>
          <p:cNvPicPr/>
          <p:nvPr/>
        </p:nvPicPr>
        <p:blipFill>
          <a:blip r:embed="rId2"/>
          <a:srcRect l="0" t="0" r="0" b="2973"/>
          <a:stretch/>
        </p:blipFill>
        <p:spPr>
          <a:xfrm>
            <a:off x="1619280" y="2781360"/>
            <a:ext cx="612144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979640" y="765000"/>
            <a:ext cx="5327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Section B 2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3a-Self check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755640" y="1484280"/>
            <a:ext cx="784224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n Ralston is an American mountain 1_______. There were many times when Aron almost lost his life because 2___ accident. On April 26, 2003, He found himself in a very dangerous 3________ when climbing in Utah. On that day, Aron’s arm was caught under a 360-kilo rock that f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3033000" y="220500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li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702160" y="33638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矩形 7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160720" cy="9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700360" y="549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Fill in the blan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3192120" y="4581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587520"/>
            <a:ext cx="828216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him when he was climbing by 4________ in the mountains. Because he could not free his arm, he stayed there for five days and hoped that 5_________ would find him. But when his water ran 6____, he knew that he would have to do something to 7_____ his own life. He was not ready to die that day. So he used h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901800" y="13082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him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518160" y="25383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ome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74440" y="38354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565800" y="44830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1"/>
          <p:cNvSpPr/>
          <p:nvPr/>
        </p:nvSpPr>
        <p:spPr>
          <a:xfrm>
            <a:off x="755640" y="514440"/>
            <a:ext cx="799308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fe to 8___ off half his right arm. Then, with his left arm, he bandaged himself so 9_____ he would not lose too much 10_______. After that , he climbed down the mountain to find help. His love for mountain climbing is 11___ great that he kept on 12_________ mountains even after this experien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627640" y="6206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205080" y="192420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557440" y="26370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95816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582160" y="458136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limb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332000" y="1266840"/>
            <a:ext cx="7343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Times New Roman"/>
              </a:rPr>
              <a:t>Imagine you are the school nurse and a student just had an accident or a health problem. Make notes about what he/she should and shouldn’t d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2"/>
          <p:cNvSpPr/>
          <p:nvPr/>
        </p:nvSpPr>
        <p:spPr>
          <a:xfrm>
            <a:off x="395280" y="1339920"/>
            <a:ext cx="792000" cy="77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4120" y="115920"/>
          <a:ext cx="8435880" cy="6629400"/>
        </p:xfrm>
        <a:graphic>
          <a:graphicData uri="http://schemas.openxmlformats.org/drawingml/2006/table">
            <a:tbl>
              <a:tblPr/>
              <a:tblGrid>
                <a:gridCol w="2952720"/>
                <a:gridCol w="3024000"/>
                <a:gridCol w="245916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ident or health probl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 / She shou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 / She should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528480" y="1325520"/>
            <a:ext cx="266400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a sore back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481560" y="1340280"/>
            <a:ext cx="259236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Times New Roman"/>
              </a:rPr>
              <a:t>lie down and res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597000" y="1517760"/>
            <a:ext cx="187092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do spor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549520"/>
            <a:ext cx="2448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a fev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409920" y="2359080"/>
            <a:ext cx="280836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Times New Roman"/>
              </a:rPr>
              <a:t>take some medic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41520"/>
            <a:ext cx="287964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a sore thro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543240" y="5734080"/>
            <a:ext cx="20628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cut myself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454560"/>
            <a:ext cx="273672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Times New Roman"/>
              </a:rPr>
              <a:t>drink some hot te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5527800"/>
            <a:ext cx="287964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Times New Roman"/>
              </a:rPr>
              <a:t>put some medicine on i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437000"/>
            <a:ext cx="2663640" cy="112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have a toothach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3422880" y="4724280"/>
            <a:ext cx="251856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Times New Roman"/>
              </a:rPr>
              <a:t>see a dentist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7053480" y="263700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053480" y="353376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053480" y="461952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126560" y="5627520"/>
            <a:ext cx="612000" cy="61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Times New Roman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3:07:37Z</dcterms:created>
  <dc:creator/>
  <dc:description/>
  <dc:language>en-US</dc:language>
  <cp:lastModifiedBy>User</cp:lastModifiedBy>
  <dcterms:modified xsi:type="dcterms:W3CDTF">2014-01-22T07:08:18Z</dcterms:modified>
  <cp:revision>81</cp:revision>
  <dc:subject/>
  <dc:title>幻灯片 1</dc:title>
</cp:coreProperties>
</file>