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20.jpeg" ContentType="image/jpeg"/>
  <Override PartName="/ppt/media/image12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9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5.jpeg" ContentType="image/jpeg"/>
  <Override PartName="/ppt/media/image16.png" ContentType="image/png"/>
  <Override PartName="/ppt/media/image18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C96-786A-40FC-B035-F98DD659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71B-938E-4BB0-B68C-A61CBF3F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4F1-A431-4404-8239-8BF0BD97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B11-EB27-4836-87CD-F631242D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64C-722A-4AD9-A427-5F7FD4C7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5F2-FFB9-4BB7-AC2C-ED01FD9E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E4C-7BBE-4903-B46E-9D9C11F7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0EF-9C68-4200-8956-DB235B69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37E-BE62-40C3-BE14-52E38701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92E-C1DA-4C3D-9D90-CA38119F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702-A387-4ACD-A7E3-40833ED8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1C4-506E-4D7B-8C2C-9CF692C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EDB0-11DB-4C05-9879-97D0B3F0D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4861080" y="779400"/>
            <a:ext cx="345600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8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Unit 1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395280" y="1197000"/>
            <a:ext cx="8209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What’s the matter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这是人们特别是医生和护士询问病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病情时常用问句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意思是“怎么了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其后常与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连用。类似的有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’s wrong?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怎么啦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’s wrong with you?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你怎么了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’s your trouble?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你怎么了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’s the trouble with you?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你怎么了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’s up?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你怎么了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2627280" y="47628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Times New Roman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755640" y="1125360"/>
            <a:ext cx="7632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ve a co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伤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感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固定词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身体不适的常用词组还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 bad col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 fever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发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 headache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头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 stomachache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肚子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胃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 toothache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牙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9682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31600" y="1839960"/>
            <a:ext cx="15703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牙疼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胃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头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喉咙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发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743280" y="1839960"/>
            <a:ext cx="40669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have a tootha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have a stomacha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have a backa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have a heada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have a sore thr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have a 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have a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~1\ADMINI~1\APPLIC~1\360se6\USERDA~1\Temp\U_1617~1.JPG"/>
          <p:cNvPicPr/>
          <p:nvPr/>
        </p:nvPicPr>
        <p:blipFill>
          <a:blip r:embed="rId2"/>
          <a:srcRect l="0" t="0" r="0" b="6311"/>
          <a:stretch/>
        </p:blipFill>
        <p:spPr>
          <a:xfrm>
            <a:off x="6516720" y="189000"/>
            <a:ext cx="2309760" cy="1484280"/>
          </a:xfrm>
          <a:prstGeom prst="rect">
            <a:avLst/>
          </a:prstGeom>
          <a:ln w="0">
            <a:noFill/>
          </a:ln>
        </p:spPr>
      </p:pic>
      <p:pic>
        <p:nvPicPr>
          <p:cNvPr id="66" name="矩形 7" descr=""/>
          <p:cNvPicPr/>
          <p:nvPr/>
        </p:nvPicPr>
        <p:blipFill>
          <a:blip r:embed="rId3"/>
          <a:stretch/>
        </p:blipFill>
        <p:spPr>
          <a:xfrm>
            <a:off x="2916360" y="620640"/>
            <a:ext cx="3024000" cy="100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896560" y="2066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68760" y="1616040"/>
            <a:ext cx="23932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躺下并且休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喝热蜂蜜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喝大量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牙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量体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医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64880" y="1544760"/>
            <a:ext cx="49827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lie down and r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drink hot tea with h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drink lots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see a den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take one’s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go to a do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/>
          <p:cNvSpPr/>
          <p:nvPr/>
        </p:nvSpPr>
        <p:spPr>
          <a:xfrm>
            <a:off x="420840" y="1131840"/>
            <a:ext cx="5806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根据上下文意思填空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31640" y="1844640"/>
            <a:ext cx="8317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y: Lisa, are you OK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a: I ____ a headache and I can’t move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neck. What ______ I do? Should 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my temperatur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y: No, it doesn’t sound like you have 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. What ___ you do on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en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a: I played computer _____ all weekend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矩形 6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3382920" cy="858960"/>
          </a:xfrm>
          <a:prstGeom prst="rect">
            <a:avLst/>
          </a:prstGeom>
          <a:ln w="0">
            <a:noFill/>
          </a:ln>
        </p:spPr>
      </p:pic>
      <p:sp>
        <p:nvSpPr>
          <p:cNvPr id="73" name="矩形 1"/>
          <p:cNvSpPr/>
          <p:nvPr/>
        </p:nvSpPr>
        <p:spPr>
          <a:xfrm>
            <a:off x="1765080" y="2387520"/>
            <a:ext cx="104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4287240" y="2890800"/>
            <a:ext cx="1402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1404000" y="3429000"/>
            <a:ext cx="9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k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4221720" y="4437000"/>
            <a:ext cx="779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934160" y="548316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am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5"/>
          <p:cNvSpPr/>
          <p:nvPr/>
        </p:nvSpPr>
        <p:spPr>
          <a:xfrm>
            <a:off x="322200" y="655560"/>
            <a:ext cx="84978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y: That’s probably why. You need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breaks ____ from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a: Yeah, I think I sat in the ____ way for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long without mov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y: I think you should ___ down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. If your head and neck still hur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orrow, then go to a ______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a: OK. Thanks, Mand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4141440" y="130644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w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5942520" y="2459160"/>
            <a:ext cx="111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5437440" y="3573360"/>
            <a:ext cx="61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6213960" y="4691160"/>
            <a:ext cx="138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615840" y="2004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32000" y="1482840"/>
            <a:ext cx="6696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你怎么了？我头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他怎么了？他发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855800" y="2130480"/>
            <a:ext cx="58834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What is the matter with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I have a headach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What’s the matter with h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He has a f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332000" y="76824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翻译下列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9682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476280"/>
            <a:ext cx="806616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李雷怎么了？他喉咙痛。他应该多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如果你的头和脖子明天仍然疼的话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请去看医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14240" y="1628640"/>
            <a:ext cx="79614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What’s the matter with Li Lei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He has a sore thro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He should drink lots of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If your head and neck still hurt tomorrow, then go to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900000" y="1197000"/>
            <a:ext cx="7329600" cy="1801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 matter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 stomachach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n’t eat so much next ti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900000" y="3278160"/>
            <a:ext cx="7329600" cy="1801440"/>
          </a:xfrm>
          <a:prstGeom prst="rect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 matter with Be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hurt himself. He has a sore ba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hould lie down and re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925560" y="5361120"/>
            <a:ext cx="7304040" cy="123228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have a fev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. / No, I don’t. / I don’t kn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38320" y="189000"/>
            <a:ext cx="482436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Grammar focus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/>
          <p:cNvSpPr/>
          <p:nvPr/>
        </p:nvSpPr>
        <p:spPr>
          <a:xfrm>
            <a:off x="569160" y="836640"/>
            <a:ext cx="8145000" cy="1904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he have a toothache?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he d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hould see a dentist and get an X-r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39640" y="2935440"/>
            <a:ext cx="7309080" cy="130068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hould she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should take her tempera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39640" y="4489560"/>
            <a:ext cx="7309080" cy="19040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I put some medicine on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you shou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you should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rcRect l="0" t="0" r="5783" b="5556"/>
          <a:stretch/>
        </p:blipFill>
        <p:spPr>
          <a:xfrm>
            <a:off x="2124000" y="2924280"/>
            <a:ext cx="4681440" cy="3671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13"/>
          <p:cNvSpPr txBox="1"/>
          <p:nvPr/>
        </p:nvSpPr>
        <p:spPr>
          <a:xfrm>
            <a:off x="322200" y="620640"/>
            <a:ext cx="86425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8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ba068b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Unit 1</a:t>
            </a:r>
            <a:endParaRPr b="1" lang="en-US" sz="1800" spc="-1" strike="noStrike">
              <a:ln w="9360">
                <a:solidFill>
                  <a:srgbClr val="ba068b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ba068b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What's the matter?</a:t>
            </a:r>
            <a:endParaRPr b="1" lang="en-US" sz="1800" spc="-1" strike="noStrike">
              <a:ln w="9360">
                <a:solidFill>
                  <a:srgbClr val="ba068b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0"/>
          <p:cNvSpPr/>
          <p:nvPr/>
        </p:nvSpPr>
        <p:spPr>
          <a:xfrm flipV="1">
            <a:off x="4788000" y="3501720"/>
            <a:ext cx="8650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 flipH="1" flipV="1">
            <a:off x="2843280" y="3502080"/>
            <a:ext cx="59832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003640" y="4726080"/>
            <a:ext cx="5050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 flipH="1">
            <a:off x="2916360" y="4726080"/>
            <a:ext cx="576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矩形 34" descr=""/>
          <p:cNvPicPr/>
          <p:nvPr/>
        </p:nvPicPr>
        <p:blipFill>
          <a:blip r:embed="rId2"/>
          <a:stretch/>
        </p:blipFill>
        <p:spPr>
          <a:xfrm>
            <a:off x="2268360" y="430200"/>
            <a:ext cx="4608720" cy="1270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611280" y="191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以下四个句子，总结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用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DOCUME~1\ADMINI~1\APPLIC~1\360se6\USERDA~1\Temp\U_3204~1.JPG"/>
          <p:cNvPicPr/>
          <p:nvPr/>
        </p:nvPicPr>
        <p:blipFill>
          <a:blip r:embed="rId3"/>
          <a:stretch/>
        </p:blipFill>
        <p:spPr>
          <a:xfrm>
            <a:off x="0" y="58680"/>
            <a:ext cx="1368360" cy="164160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>
            <a:off x="2843280" y="3862440"/>
            <a:ext cx="2952720" cy="934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\ h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352440" y="2855880"/>
            <a:ext cx="2706840" cy="646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48000" y="2852640"/>
            <a:ext cx="561672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odles for breakfa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24000" y="5157720"/>
            <a:ext cx="352728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ad col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65600" y="5176800"/>
            <a:ext cx="4083120" cy="12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have a look at the pictu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3"/>
          <p:cNvSpPr/>
          <p:nvPr/>
        </p:nvSpPr>
        <p:spPr>
          <a:xfrm>
            <a:off x="466560" y="1657440"/>
            <a:ext cx="785052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作“有”讲。 如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ag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有一个包。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s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ed cup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他有一个红杯子。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作“吃、喝”讲。如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eakfast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吃早饭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a 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喝茶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iscuit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吃块饼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rink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喝点水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矩形 5" descr=""/>
          <p:cNvPicPr/>
          <p:nvPr/>
        </p:nvPicPr>
        <p:blipFill>
          <a:blip r:embed="rId2"/>
          <a:stretch/>
        </p:blipFill>
        <p:spPr>
          <a:xfrm>
            <a:off x="2532240" y="450720"/>
            <a:ext cx="3624120" cy="110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3"/>
          <p:cNvSpPr/>
          <p:nvPr/>
        </p:nvSpPr>
        <p:spPr>
          <a:xfrm>
            <a:off x="538200" y="981000"/>
            <a:ext cx="785016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作“患病”讲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old,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e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固定短语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ry,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ok, </a:t>
            </a: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av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矩形 2" descr=""/>
          <p:cNvPicPr/>
          <p:nvPr/>
        </p:nvPicPr>
        <p:blipFill>
          <a:blip r:embed="rId2"/>
          <a:stretch/>
        </p:blipFill>
        <p:spPr>
          <a:xfrm>
            <a:off x="2556000" y="189000"/>
            <a:ext cx="3517920" cy="936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544680" y="1146240"/>
            <a:ext cx="798804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36036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她有许多好朋友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6036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____ lots of good friend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6036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我们感冒时，应该多喝水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6036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_____ bad colds, we should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nk more wat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6036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他早餐常吃鸡蛋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6036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____ eggs for breakfa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6036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他昨天去参加聚会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36036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___________ yester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910160" y="1733400"/>
            <a:ext cx="803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917800" y="2957400"/>
            <a:ext cx="10447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765800" y="4726080"/>
            <a:ext cx="803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749600" y="5910120"/>
            <a:ext cx="2315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d a par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179280" y="1557360"/>
            <a:ext cx="889344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属情态动词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后接动词原形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没有人称和数的变化。用于提出建议劝告别人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否定形式为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 not,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通常缩写为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n’t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Tom, I have a toothache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汤姆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牙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—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 see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ntist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应当去看牙医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542160" y="907920"/>
            <a:ext cx="14029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矩形 5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3120840" cy="1104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395280" y="549360"/>
            <a:ext cx="846144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— I’m not feeling well these days. I have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d coug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些天我身体不适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老是咳嗽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—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n’t smoke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much, I thin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认为你不该抽这么多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395280" y="3664080"/>
            <a:ext cx="7921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put some medicine on i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you should. / No, you shouldn’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e do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should take her temperatu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矩形 5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3511800" cy="1224000"/>
          </a:xfrm>
          <a:prstGeom prst="rect">
            <a:avLst/>
          </a:prstGeom>
          <a:ln w="0">
            <a:noFill/>
          </a:ln>
        </p:spPr>
      </p:pic>
      <p:sp>
        <p:nvSpPr>
          <p:cNvPr id="124" name="矩形 6"/>
          <p:cNvSpPr/>
          <p:nvPr/>
        </p:nvSpPr>
        <p:spPr>
          <a:xfrm>
            <a:off x="250920" y="2276640"/>
            <a:ext cx="828036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e has a stomachach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__________ eat so much next ti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she see a dentist and get an X-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she _______. / No, she 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2199600" y="2924280"/>
            <a:ext cx="19288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n’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2917080" y="4732200"/>
            <a:ext cx="14029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6311160" y="4732200"/>
            <a:ext cx="19288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n’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263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身代词又称为自身代词，表示动作行为反射到行为执行者本身。它还可以在句中起到强调的作用，用以加强语气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56000" y="1125360"/>
            <a:ext cx="3960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80000"/>
                  </a:outerShdw>
                </a:effectLst>
                <a:latin typeface="宋体"/>
              </a:rPr>
              <a:t>反身代词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98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13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英语中共有八个反身代词，在使用时应注意和它所指的相应的对象在人称、性别、数上保持一致。其基本形式如下表所示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3360" y="3395520"/>
          <a:ext cx="8001000" cy="3005280"/>
        </p:xfrm>
        <a:graphic>
          <a:graphicData uri="http://schemas.openxmlformats.org/drawingml/2006/table">
            <a:tbl>
              <a:tblPr/>
              <a:tblGrid>
                <a:gridCol w="1231920"/>
                <a:gridCol w="1892160"/>
                <a:gridCol w="2284560"/>
                <a:gridCol w="2592360"/>
              </a:tblGrid>
              <a:tr h="62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一人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二人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三人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69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单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self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self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mself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rself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self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复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rselv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urselv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mselv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pic>
        <p:nvPicPr>
          <p:cNvPr id="132" name="矩形 4" descr=""/>
          <p:cNvPicPr/>
          <p:nvPr/>
        </p:nvPicPr>
        <p:blipFill>
          <a:blip r:embed="rId2"/>
          <a:stretch/>
        </p:blipFill>
        <p:spPr>
          <a:xfrm>
            <a:off x="2700360" y="260280"/>
            <a:ext cx="3535200" cy="100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4520" y="1773360"/>
            <a:ext cx="7881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可用作宾语，指的是宾语和主语表示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同一个或同一些的人或事物。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79280" y="3154320"/>
            <a:ext cx="77058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如：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aria bought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rself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scarf.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玛丽亚给自己买了一条围巾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79640" y="4594320"/>
            <a:ext cx="76197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e must look after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urselves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ery well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我们必须好好照顾自己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矩形 5" descr=""/>
          <p:cNvPicPr/>
          <p:nvPr/>
        </p:nvPicPr>
        <p:blipFill>
          <a:blip r:embed="rId2"/>
          <a:stretch/>
        </p:blipFill>
        <p:spPr>
          <a:xfrm>
            <a:off x="2363760" y="547560"/>
            <a:ext cx="3681360" cy="1067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539640" y="909720"/>
            <a:ext cx="8064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Section A 3 </a:t>
            </a:r>
            <a:endParaRPr b="1" lang="en-US" sz="1800" spc="-1" strike="noStrike">
              <a:ln w="936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Grammar focus - 4c</a:t>
            </a:r>
            <a:endParaRPr b="1" lang="en-US" sz="1800" spc="-1" strike="noStrike">
              <a:ln w="936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3029" t="955" r="0" b="0"/>
          <a:stretch/>
        </p:blipFill>
        <p:spPr>
          <a:xfrm>
            <a:off x="2411280" y="3573360"/>
            <a:ext cx="3971880" cy="328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83680" y="189000"/>
            <a:ext cx="84819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用作表语，指的是表语和主语表示同一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或同一些人或事物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16000" y="1413000"/>
            <a:ext cx="73087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如：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he isn’t quite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self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da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她今天身体不太舒服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0000" y="2708280"/>
            <a:ext cx="8481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用作主语或宾语的同位语，常用来加强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语气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0920" y="4005360"/>
            <a:ext cx="849636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如：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he</a:t>
            </a:r>
            <a:r>
              <a:rPr b="1" lang="en-US" sz="3400" spc="-1" strike="noStrike">
                <a:solidFill>
                  <a:srgbClr val="ba068b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self</a:t>
            </a:r>
            <a:r>
              <a:rPr b="1" lang="en-US" sz="3400" spc="-1" strike="noStrike">
                <a:solidFill>
                  <a:srgbClr val="ba068b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ill fly to London tomorrow.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明天她自己将要坐飞机去伦敦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185840" y="5264280"/>
            <a:ext cx="75391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 met the writer</a:t>
            </a:r>
            <a:r>
              <a:rPr b="1" lang="en-US" sz="3400" spc="-1" strike="noStrike">
                <a:solidFill>
                  <a:srgbClr val="ba068b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mself</a:t>
            </a:r>
            <a:r>
              <a:rPr b="1" lang="en-US" sz="3400" spc="-1" strike="noStrike">
                <a:solidFill>
                  <a:srgbClr val="ba068b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st week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我上周见到了那位作家本人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74760" y="54936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用在某些固定短语当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93880" y="1289160"/>
            <a:ext cx="75466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照顾自己</a:t>
            </a:r>
            <a:r>
              <a:rPr b="1" lang="zh-CN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ok after oneself / take care of oneself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自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ach oneself sth./ learn sth. by one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玩得高兴，过得愉快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joy one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请自用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……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（随便吃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喝些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……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lp oneself to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8360" y="907920"/>
            <a:ext cx="734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摔伤自己     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rt one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自言自语     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 to one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沉浸于，陶醉于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……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之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e oneself i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把某人单独留下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ave sb. by one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给自己买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…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..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东西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y oneself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介绍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……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自己         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e one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反身代词不能单独做主语，但可以做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主语的同位语，起强调作用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39640" y="3130560"/>
            <a:ext cx="60199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如：我自己能完成作业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9640" y="3995640"/>
            <a:ext cx="806292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误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Myself can finish my homewor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正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I myself can finish my homework. /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can finish my homework myself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矩形 5" descr=""/>
          <p:cNvPicPr/>
          <p:nvPr/>
        </p:nvPicPr>
        <p:blipFill>
          <a:blip r:embed="rId2"/>
          <a:stretch/>
        </p:blipFill>
        <p:spPr>
          <a:xfrm>
            <a:off x="2697120" y="404640"/>
            <a:ext cx="3530520" cy="1081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969480"/>
            <a:ext cx="84247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身代词表示“某人自己”，不能表示“某人的东西”，因为它没有所有格的形式。表达“某人自己的（东西）”时，须要用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’s ow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5000" y="3635280"/>
            <a:ext cx="769464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我用我自己的蜡笔画画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误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I’m drawing with myself cray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正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I’m drawing with my own cray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920" y="136836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My classmate, Li Ming, made a card for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 just n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ad luck! I cut _______ with a knife     yesterda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y tell us they can look after __________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we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My cat can find food by 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elp __________ to some beef, boy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矩形 9" descr=""/>
          <p:cNvPicPr/>
          <p:nvPr/>
        </p:nvPicPr>
        <p:blipFill>
          <a:blip r:embed="rId2"/>
          <a:stretch/>
        </p:blipFill>
        <p:spPr>
          <a:xfrm>
            <a:off x="2554200" y="260280"/>
            <a:ext cx="3530520" cy="10605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757440" y="1989000"/>
            <a:ext cx="16315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mself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3638160" y="2637000"/>
            <a:ext cx="14882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self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6535800" y="3862440"/>
            <a:ext cx="22791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mselv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5264280" y="5092560"/>
            <a:ext cx="11757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self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1783080" y="5734080"/>
            <a:ext cx="22093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selv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374760" y="765000"/>
            <a:ext cx="80136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a068b"/>
                </a:solidFill>
                <a:latin typeface="Arial"/>
                <a:ea typeface="Times New Roman"/>
              </a:rPr>
              <a:t>4a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Fill in the blanks and practice the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conversa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108000" y="2057400"/>
            <a:ext cx="8862840" cy="18792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: I hurt ______ when I played basketball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terday. What _______ I do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You ______ see a doctor and get an X-r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108000" y="4113360"/>
            <a:ext cx="8862840" cy="2474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: _______ the matt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My sister and I ______ sore throa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 we go to schoo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No, you 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矩形 4" descr=""/>
          <p:cNvPicPr/>
          <p:nvPr/>
        </p:nvPicPr>
        <p:blipFill>
          <a:blip r:embed="rId2"/>
          <a:stretch/>
        </p:blipFill>
        <p:spPr>
          <a:xfrm>
            <a:off x="2413080" y="79200"/>
            <a:ext cx="4174920" cy="828720"/>
          </a:xfrm>
          <a:prstGeom prst="rect">
            <a:avLst/>
          </a:prstGeom>
          <a:ln w="0">
            <a:noFill/>
          </a:ln>
        </p:spPr>
      </p:pic>
      <p:sp>
        <p:nvSpPr>
          <p:cNvPr id="162" name="矩形 7"/>
          <p:cNvSpPr/>
          <p:nvPr/>
        </p:nvSpPr>
        <p:spPr>
          <a:xfrm>
            <a:off x="2403000" y="2097000"/>
            <a:ext cx="13802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4325400" y="2706840"/>
            <a:ext cx="14029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0"/>
          <p:cNvSpPr/>
          <p:nvPr/>
        </p:nvSpPr>
        <p:spPr>
          <a:xfrm>
            <a:off x="1948680" y="3282840"/>
            <a:ext cx="14029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1"/>
          <p:cNvSpPr/>
          <p:nvPr/>
        </p:nvSpPr>
        <p:spPr>
          <a:xfrm>
            <a:off x="1197360" y="4146480"/>
            <a:ext cx="15217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’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4147920" y="4762440"/>
            <a:ext cx="10447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1196280" y="5337000"/>
            <a:ext cx="14745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2710440" y="5946840"/>
            <a:ext cx="1928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n’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611280" y="692280"/>
            <a:ext cx="7610400" cy="2474280"/>
          </a:xfrm>
          <a:prstGeom prst="rect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: _____ Mike _____ a fev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No, he ________. He _____ a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omachach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He _______ drink some hot te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1714680" y="725400"/>
            <a:ext cx="1175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3975120" y="725400"/>
            <a:ext cx="10447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3022920" y="1339920"/>
            <a:ext cx="15217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esn’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9"/>
          <p:cNvSpPr/>
          <p:nvPr/>
        </p:nvSpPr>
        <p:spPr>
          <a:xfrm>
            <a:off x="5686920" y="1339920"/>
            <a:ext cx="803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2445840" y="2492280"/>
            <a:ext cx="14029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ul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0"/>
          <p:cNvSpPr/>
          <p:nvPr/>
        </p:nvSpPr>
        <p:spPr>
          <a:xfrm>
            <a:off x="108000" y="1657440"/>
            <a:ext cx="88200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Jenny cut herself.</a:t>
            </a:r>
            <a:r>
              <a:rPr b="1" lang="en-US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shoul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a068b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get an X-ray / put some medicine on the cut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advice: 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 Kate has a toothache.</a:t>
            </a:r>
            <a:r>
              <a:rPr b="1" lang="en-US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shoul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a068b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see a dentist / get some sleep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advice: 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252360" y="333360"/>
            <a:ext cx="864072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Times New Roman"/>
              </a:rPr>
              <a:t>4b</a:t>
            </a:r>
            <a:r>
              <a:rPr b="1" lang="en-US" sz="3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Circle the best advice for these health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problems. Then add your own advi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弧形 4"/>
          <p:cNvSpPr/>
          <p:nvPr/>
        </p:nvSpPr>
        <p:spPr>
          <a:xfrm>
            <a:off x="3132000" y="2665440"/>
            <a:ext cx="5651640" cy="934920"/>
          </a:xfrm>
          <a:custGeom>
            <a:avLst/>
            <a:gdLst/>
            <a:ahLst/>
            <a:rect l="l" t="t" r="r" b="b"/>
            <a:pathLst>
              <a:path stroke="0" w="5256213" h="555625">
                <a:moveTo>
                  <a:pt x="2374583" y="1296"/>
                </a:moveTo>
                <a:lnTo>
                  <a:pt x="2907924" y="1579"/>
                </a:lnTo>
                <a:cubicBezTo>
                  <a:pt x="6030781" y="36927"/>
                  <a:pt x="6042611" y="516821"/>
                  <a:pt x="2921539" y="553889"/>
                </a:cubicBezTo>
                <a:cubicBezTo>
                  <a:pt x="2743819" y="556000"/>
                  <a:pt x="2564525" y="556187"/>
                  <a:pt x="2386445" y="554449"/>
                </a:cubicBezTo>
                <a:cubicBezTo>
                  <a:pt x="-735903" y="523970"/>
                  <a:pt x="-821079" y="45200"/>
                  <a:pt x="2288220" y="2333"/>
                </a:cubicBezTo>
                <a:lnTo>
                  <a:pt x="2628107" y="277813"/>
                </a:lnTo>
                <a:lnTo>
                  <a:pt x="2374583" y="1296"/>
                </a:lnTo>
                <a:close/>
              </a:path>
              <a:path fill="none" w="5256213" h="555625">
                <a:moveTo>
                  <a:pt x="2374583" y="1296"/>
                </a:moveTo>
                <a:lnTo>
                  <a:pt x="2907924" y="1579"/>
                </a:lnTo>
                <a:cubicBezTo>
                  <a:pt x="6030781" y="36927"/>
                  <a:pt x="6042611" y="516821"/>
                  <a:pt x="2921539" y="553889"/>
                </a:cubicBezTo>
                <a:cubicBezTo>
                  <a:pt x="2743819" y="556000"/>
                  <a:pt x="2564525" y="556187"/>
                  <a:pt x="2386445" y="554449"/>
                </a:cubicBezTo>
                <a:cubicBezTo>
                  <a:pt x="-735903" y="523970"/>
                  <a:pt x="-821079" y="45200"/>
                  <a:pt x="2288220" y="2333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弧形 5"/>
          <p:cNvSpPr/>
          <p:nvPr/>
        </p:nvSpPr>
        <p:spPr>
          <a:xfrm>
            <a:off x="539640" y="5041800"/>
            <a:ext cx="2448000" cy="719280"/>
          </a:xfrm>
          <a:custGeom>
            <a:avLst/>
            <a:gdLst/>
            <a:ahLst/>
            <a:rect l="l" t="t" r="r" b="b"/>
            <a:pathLst>
              <a:path stroke="0" w="2520950" h="554038">
                <a:moveTo>
                  <a:pt x="1011495" y="5458"/>
                </a:moveTo>
                <a:cubicBezTo>
                  <a:pt x="1184244" y="-2192"/>
                  <a:pt x="1362372" y="-1796"/>
                  <a:pt x="1534381" y="6620"/>
                </a:cubicBezTo>
                <a:cubicBezTo>
                  <a:pt x="2842797" y="70637"/>
                  <a:pt x="2852499" y="479766"/>
                  <a:pt x="1547190" y="546777"/>
                </a:cubicBezTo>
                <a:cubicBezTo>
                  <a:pt x="1375064" y="555613"/>
                  <a:pt x="1196406" y="556395"/>
                  <a:pt x="1022817" y="549070"/>
                </a:cubicBezTo>
                <a:cubicBezTo>
                  <a:pt x="-289581" y="493695"/>
                  <a:pt x="-359192" y="86518"/>
                  <a:pt x="930599" y="9655"/>
                </a:cubicBezTo>
                <a:lnTo>
                  <a:pt x="1260475" y="277019"/>
                </a:lnTo>
                <a:lnTo>
                  <a:pt x="1011495" y="5458"/>
                </a:lnTo>
                <a:close/>
              </a:path>
              <a:path fill="none" w="2520950" h="554038">
                <a:moveTo>
                  <a:pt x="1011495" y="5458"/>
                </a:moveTo>
                <a:cubicBezTo>
                  <a:pt x="1184244" y="-2192"/>
                  <a:pt x="1362372" y="-1796"/>
                  <a:pt x="1534381" y="6620"/>
                </a:cubicBezTo>
                <a:cubicBezTo>
                  <a:pt x="2842797" y="70637"/>
                  <a:pt x="2852499" y="479766"/>
                  <a:pt x="1547190" y="546777"/>
                </a:cubicBezTo>
                <a:cubicBezTo>
                  <a:pt x="1375064" y="555613"/>
                  <a:pt x="1196406" y="556395"/>
                  <a:pt x="1022817" y="549070"/>
                </a:cubicBezTo>
                <a:cubicBezTo>
                  <a:pt x="-289581" y="493695"/>
                  <a:pt x="-359192" y="86518"/>
                  <a:pt x="930599" y="9655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2722680" y="3371760"/>
            <a:ext cx="494496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t a bandage on i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700360" y="5618160"/>
            <a:ext cx="561672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e shouldn’t eat cold fo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"/>
          <p:cNvSpPr/>
          <p:nvPr/>
        </p:nvSpPr>
        <p:spPr>
          <a:xfrm>
            <a:off x="395280" y="836640"/>
            <a:ext cx="835200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. Mary and Sue have colds.</a:t>
            </a:r>
            <a:r>
              <a:rPr b="1" lang="en-US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houldn’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sleep/ exercise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advice: 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. Bob has a sore back.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houl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lie down and rest / take his temperature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advice: 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弧形 5"/>
          <p:cNvSpPr/>
          <p:nvPr/>
        </p:nvSpPr>
        <p:spPr>
          <a:xfrm>
            <a:off x="2124000" y="2133720"/>
            <a:ext cx="1727280" cy="647640"/>
          </a:xfrm>
          <a:custGeom>
            <a:avLst/>
            <a:gdLst/>
            <a:ahLst/>
            <a:rect l="l" t="t" r="r" b="b"/>
            <a:pathLst>
              <a:path stroke="0" w="1150938" h="554037">
                <a:moveTo>
                  <a:pt x="343110" y="23586"/>
                </a:moveTo>
                <a:cubicBezTo>
                  <a:pt x="498119" y="-9347"/>
                  <a:pt x="675399" y="-7723"/>
                  <a:pt x="827693" y="28026"/>
                </a:cubicBezTo>
                <a:cubicBezTo>
                  <a:pt x="1254093" y="128116"/>
                  <a:pt x="1259912" y="419618"/>
                  <a:pt x="837588" y="523634"/>
                </a:cubicBezTo>
                <a:cubicBezTo>
                  <a:pt x="686454" y="560857"/>
                  <a:pt x="508888" y="564058"/>
                  <a:pt x="352395" y="532379"/>
                </a:cubicBezTo>
                <a:cubicBezTo>
                  <a:pt x="-83099" y="444222"/>
                  <a:pt x="-124586" y="154975"/>
                  <a:pt x="281606" y="38842"/>
                </a:cubicBezTo>
                <a:lnTo>
                  <a:pt x="575469" y="277019"/>
                </a:lnTo>
                <a:lnTo>
                  <a:pt x="343110" y="23586"/>
                </a:lnTo>
                <a:close/>
              </a:path>
              <a:path fill="none" w="1150938" h="554037">
                <a:moveTo>
                  <a:pt x="343110" y="23586"/>
                </a:moveTo>
                <a:cubicBezTo>
                  <a:pt x="498119" y="-9347"/>
                  <a:pt x="675399" y="-7723"/>
                  <a:pt x="827693" y="28026"/>
                </a:cubicBezTo>
                <a:cubicBezTo>
                  <a:pt x="1254093" y="128116"/>
                  <a:pt x="1259912" y="419618"/>
                  <a:pt x="837588" y="523634"/>
                </a:cubicBezTo>
                <a:cubicBezTo>
                  <a:pt x="686454" y="560857"/>
                  <a:pt x="508888" y="564058"/>
                  <a:pt x="352395" y="532379"/>
                </a:cubicBezTo>
                <a:cubicBezTo>
                  <a:pt x="-83099" y="444222"/>
                  <a:pt x="-124586" y="154975"/>
                  <a:pt x="281606" y="38842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弧形 6"/>
          <p:cNvSpPr/>
          <p:nvPr/>
        </p:nvSpPr>
        <p:spPr>
          <a:xfrm>
            <a:off x="755640" y="4437000"/>
            <a:ext cx="3672000" cy="720720"/>
          </a:xfrm>
          <a:custGeom>
            <a:avLst/>
            <a:gdLst/>
            <a:ahLst/>
            <a:rect l="l" t="t" r="r" b="b"/>
            <a:pathLst>
              <a:path stroke="0" w="3217863" h="554038">
                <a:moveTo>
                  <a:pt x="1358054" y="3388"/>
                </a:moveTo>
                <a:cubicBezTo>
                  <a:pt x="1532863" y="-1363"/>
                  <a:pt x="1711028" y="-1116"/>
                  <a:pt x="1885371" y="4119"/>
                </a:cubicBezTo>
                <a:cubicBezTo>
                  <a:pt x="3654534" y="57245"/>
                  <a:pt x="3665089" y="493852"/>
                  <a:pt x="1898556" y="549512"/>
                </a:cubicBezTo>
                <a:cubicBezTo>
                  <a:pt x="1723916" y="555015"/>
                  <a:pt x="1545191" y="555502"/>
                  <a:pt x="1369626" y="550956"/>
                </a:cubicBezTo>
                <a:cubicBezTo>
                  <a:pt x="-401817" y="505082"/>
                  <a:pt x="-477663" y="70136"/>
                  <a:pt x="1274605" y="6046"/>
                </a:cubicBezTo>
                <a:lnTo>
                  <a:pt x="1608932" y="277019"/>
                </a:lnTo>
                <a:lnTo>
                  <a:pt x="1358054" y="3388"/>
                </a:lnTo>
                <a:close/>
              </a:path>
              <a:path fill="none" w="3217863" h="554038">
                <a:moveTo>
                  <a:pt x="1358054" y="3388"/>
                </a:moveTo>
                <a:cubicBezTo>
                  <a:pt x="1532863" y="-1363"/>
                  <a:pt x="1711028" y="-1116"/>
                  <a:pt x="1885371" y="4119"/>
                </a:cubicBezTo>
                <a:cubicBezTo>
                  <a:pt x="3654534" y="57245"/>
                  <a:pt x="3665089" y="493852"/>
                  <a:pt x="1898556" y="549512"/>
                </a:cubicBezTo>
                <a:cubicBezTo>
                  <a:pt x="1723916" y="555015"/>
                  <a:pt x="1545191" y="555502"/>
                  <a:pt x="1369626" y="550956"/>
                </a:cubicBezTo>
                <a:cubicBezTo>
                  <a:pt x="-401817" y="505082"/>
                  <a:pt x="-477663" y="70136"/>
                  <a:pt x="1274605" y="6046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3011400" y="2598840"/>
            <a:ext cx="49453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ink more wa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3013200" y="5013360"/>
            <a:ext cx="49435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t an X-r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矩形 6" descr=""/>
          <p:cNvPicPr/>
          <p:nvPr/>
        </p:nvPicPr>
        <p:blipFill>
          <a:blip r:embed="rId2"/>
          <a:srcRect l="0" t="0" r="3789" b="0"/>
          <a:stretch/>
        </p:blipFill>
        <p:spPr>
          <a:xfrm>
            <a:off x="324000" y="189000"/>
            <a:ext cx="3671640" cy="93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403280" y="4013280"/>
            <a:ext cx="72723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’s the matter with 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e ha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s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toothache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should she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86200" y="126828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5"/>
          <p:cNvSpPr/>
          <p:nvPr/>
        </p:nvSpPr>
        <p:spPr>
          <a:xfrm>
            <a:off x="250920" y="1268280"/>
            <a:ext cx="835344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zh-CN" sz="3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One student mimes a problem. The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other students in your group guess 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roblem and give advi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矩形 9" descr=""/>
          <p:cNvPicPr/>
          <p:nvPr/>
        </p:nvPicPr>
        <p:blipFill>
          <a:blip r:embed="rId2"/>
          <a:stretch/>
        </p:blipFill>
        <p:spPr>
          <a:xfrm>
            <a:off x="2268360" y="209520"/>
            <a:ext cx="4175280" cy="113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900000" y="3216240"/>
          <a:ext cx="7635960" cy="3314880"/>
        </p:xfrm>
        <a:graphic>
          <a:graphicData uri="http://schemas.openxmlformats.org/drawingml/2006/table">
            <a:tbl>
              <a:tblPr/>
              <a:tblGrid>
                <a:gridCol w="2090880"/>
                <a:gridCol w="2031840"/>
                <a:gridCol w="3513240"/>
              </a:tblGrid>
              <a:tr h="660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ic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u Peng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l dow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 home and rest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7"/>
          <p:cNvSpPr/>
          <p:nvPr/>
        </p:nvSpPr>
        <p:spPr>
          <a:xfrm>
            <a:off x="611280" y="1341360"/>
            <a:ext cx="802944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What’s the matter? Did you hurt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self playing socc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No, I didn’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Did you fall dow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Yes, I di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 You should go home and get some re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1441440" y="2876400"/>
            <a:ext cx="6946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’s the matter with h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have a backache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/sor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should he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14560" y="192240"/>
            <a:ext cx="2737080" cy="2589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1403280" y="2809800"/>
            <a:ext cx="684072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’s the matter with h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 have a 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heart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should he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627280" y="301680"/>
            <a:ext cx="3210120" cy="2406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/>
          <p:cNvSpPr/>
          <p:nvPr/>
        </p:nvSpPr>
        <p:spPr>
          <a:xfrm>
            <a:off x="755640" y="1268280"/>
            <a:ext cx="7705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Times New Roman"/>
              </a:rPr>
              <a:t>2c </a:t>
            </a:r>
            <a:r>
              <a:rPr b="1" lang="en-US" sz="3600" spc="-1" strike="noStrike">
                <a:solidFill>
                  <a:srgbClr val="ba068b"/>
                </a:solidFill>
                <a:latin typeface="Arial"/>
                <a:ea typeface="Times New Roman"/>
              </a:rPr>
              <a:t>Make conversations u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068b"/>
                </a:solidFill>
                <a:latin typeface="Arial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ba068b"/>
                </a:solidFill>
                <a:latin typeface="Arial"/>
                <a:ea typeface="Times New Roman"/>
              </a:rPr>
              <a:t>the information in 2a and 2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矩形 11" descr=""/>
          <p:cNvPicPr/>
          <p:nvPr/>
        </p:nvPicPr>
        <p:blipFill>
          <a:blip r:embed="rId2"/>
          <a:stretch/>
        </p:blipFill>
        <p:spPr>
          <a:xfrm>
            <a:off x="3203640" y="404640"/>
            <a:ext cx="2425680" cy="792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900000" y="2781360"/>
            <a:ext cx="7704360" cy="338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: What’s the mat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 head feels very h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aybe you have a f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should I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A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You should take your tempera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1114560" y="55548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Times New Roman"/>
              </a:rPr>
              <a:t>2d  </a:t>
            </a:r>
            <a:r>
              <a:rPr b="1" lang="en-US" sz="3600" spc="-1" strike="noStrike">
                <a:solidFill>
                  <a:srgbClr val="ba068b"/>
                </a:solidFill>
                <a:latin typeface="Arial"/>
                <a:ea typeface="Times New Roman"/>
              </a:rPr>
              <a:t>Role-play the convers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62080" y="1268280"/>
            <a:ext cx="870264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d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sa, are you 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is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have a headache and I can’t move 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k. What should I do? Should I take 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d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, it doesn’t sound like you hav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. What did you do on the week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is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played computer games all we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d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’s probably why. You need to 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s away from the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611280" y="1268280"/>
            <a:ext cx="79819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is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h, I think I sat in the same wa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long withou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d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think you should lie dow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. If your head and neck still hur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morrow, then go to a do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is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. Thanks, M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23:53:11Z</dcterms:created>
  <dc:creator/>
  <dc:description/>
  <dc:language>en-US</dc:language>
  <cp:lastModifiedBy>User</cp:lastModifiedBy>
  <dcterms:modified xsi:type="dcterms:W3CDTF">2015-01-08T05:31:56Z</dcterms:modified>
  <cp:revision>1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