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3FF-69D8-47EE-B266-4F4AB771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EC3-0A50-4511-A56B-C690B407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0CA-36D9-4DC5-A478-476888F0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ED8-BE48-4CC5-8586-9B8A70C3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1E2-5788-4BF9-B7C2-9FD4A3A1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A26-AAC4-4FA4-8213-8092C28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CAE-FF5C-45E3-934D-6D2295C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654-BEB6-4F5D-84ED-AB0E08F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3C5-3B5B-48A3-8BF5-1A74875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054-ACA1-4608-A5C5-CE80BF8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0CD-535C-499E-934B-2C1EE851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663-A8A9-4B7D-9B6E-813D5E5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139F-49B8-4FDF-B2F0-986ACFD6F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772400" y="571500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it 5, Module 3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块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91440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A  Trip  On  “ The True North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课时    阅读课      “真北方之旅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语组    王建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7360"/>
            <a:ext cx="9144000" cy="30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引导学生正确回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------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I want to go sightse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-------- Canada. Because Canada is very beatiful.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通过问问题，学生讨论，组织语言回答来激发和练习他们的表达能力，咱们今天来沿着文章中主人公的路线来走一遍，首先展示给他们一张加拿大的地图。顺利地过渡到去使用地图表达方向与位置上。这样就提高了他们的参与热情，来积极的阅读和表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248760" cy="696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1066680" cy="103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24280" y="5867280"/>
            <a:ext cx="685800" cy="38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1080" y="4343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6386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8672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590920" y="4495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07440" y="48744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the Arc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78440" y="2590920"/>
            <a:ext cx="38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The Atlant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400" y="253368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27640" y="558180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展示一张加拿大的地图做好旅行前的准备，同时来练习表达方向和位置（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Direction and Position)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的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90512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or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re is…?     Is it nearby? Is…close to…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n what direction i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fa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 It is/ lies in the north/south/west/east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 It is about …kilometres from…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 …is clos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3080" y="228600"/>
            <a:ext cx="38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Step 2.  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8991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整个阅读（快读和细读）过程中，为了更好的提高学生阅读和合作学习的能力，激发他们的课堂参与热情，在这个环节设计了一个比赛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228600" y="2286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Cont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  Team A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m B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Name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the best travelers across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Item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     1.Fast R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arefu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Drawing the travel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Ru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   every part scores; the team which gets the highest score is the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ast 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927080"/>
            <a:ext cx="9144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快读（</a:t>
            </a:r>
            <a:r>
              <a:rPr b="0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Fast  Reading</a:t>
            </a:r>
            <a:r>
              <a:rPr b="0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）其目的就是让学生快速浏览文章，归纳文章和各段主题大意，以最快的方式获取信息。这个教学环节我设计了两个任务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ask 1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一） 通过快读文章首尾段和标题获得简单信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ask 2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任务二） 通过快读整篇文章获取一些基本信息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Task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the title and the first two paragraphs quickly to answer the following ques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3372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What is the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destinatio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f the trip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0" i="1" lang="zh-CN" sz="3200" spc="-1" strike="noStrike">
                <a:solidFill>
                  <a:srgbClr val="009999"/>
                </a:solidFill>
                <a:latin typeface="Arial"/>
              </a:rPr>
              <a:t>Montreal on the Atlantic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What is 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The True Nor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 in the tit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i="1" lang="zh-CN" sz="3200" spc="-1" strike="noStrike">
                <a:solidFill>
                  <a:srgbClr val="009999"/>
                </a:solidFill>
                <a:latin typeface="Arial"/>
              </a:rPr>
              <a:t>It is the name of the cross-Canada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Task 2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the paragraphs 2,3,4 and try to give the right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----- Which 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contine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are the cousins cro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  They are crossing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South America           B. North As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----- Which city ,people say , is Canada’s most beautiful city ,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surrounded b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mountains and the Pacific Oc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 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Toronto                  B.Calgary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Ottawa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86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Careful Readi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9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阅读理解能力素质体现在两个方面，一个是快速浏览，一个是准确理解。因此在细读这个环节中仍采用高考阅读理解选择题的模式，同时根据我班的英语基础水平设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Task 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ad the passage carefully and try to give the right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◆   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Going eastwa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you can see the following things except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mountains                     B.thousands of lak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forests and wide rivers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Because of the Great Lakes, Canada ha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the world’s total fres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two-thirds               B. one-fourt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e-third               D. two-fif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9240" y="196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说课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324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alysis of the Teaching Materi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材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eaching  Aim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alysis of Teaching and Learning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法分析与学法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4956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Analysis of Teaching Proc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学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913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lackboard work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9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Li Daiyu and her cousin Liu Qian </a:t>
            </a:r>
            <a:r>
              <a:rPr b="0" i="1" lang="zh-CN" sz="3200" spc="-1" strike="noStrike">
                <a:solidFill>
                  <a:srgbClr val="ff3300"/>
                </a:solidFill>
                <a:latin typeface="Arial"/>
              </a:rPr>
              <a:t>were on 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tri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6666ff"/>
                </a:solidFill>
                <a:latin typeface="Arial"/>
              </a:rPr>
              <a:t>t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visit their cousins in Montreal        on _______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the Arctic    B. the Pacific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Atlant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◆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Many of them </a:t>
            </a:r>
            <a:r>
              <a:rPr b="0" i="1" lang="zh-CN" sz="3200" spc="-1" strike="noStrike">
                <a:solidFill>
                  <a:srgbClr val="ff3300"/>
                </a:solidFill>
                <a:latin typeface="Arial"/>
              </a:rPr>
              <a:t>have a gift f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riding wild           horses and can win _______ dollars in pr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ten thousands of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ousand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ens of thousands of     D. ten thou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Task 4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采用填写表格的方式使学生对阅读到的信息进行分析，归纳等高级思维活动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对加拿大几个主要城市的人文，地理情况来总结归纳，准确理解文章。学生进行小组讨论合作来完成表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79640" y="0"/>
            <a:ext cx="532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Monotype Corsiva"/>
              </a:rPr>
              <a:t>Careful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2682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1052640"/>
          <a:ext cx="8496000" cy="5545080"/>
        </p:xfrm>
        <a:graphic>
          <a:graphicData uri="http://schemas.openxmlformats.org/drawingml/2006/table">
            <a:tbl>
              <a:tblPr/>
              <a:tblGrid>
                <a:gridCol w="2447640"/>
                <a:gridCol w="604836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755640" y="112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Verdana"/>
              </a:rPr>
              <a:t>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1197000"/>
            <a:ext cx="60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Verdana"/>
              </a:rPr>
              <a:t>Key points about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133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nc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2720" y="3284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g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581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under 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5734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7340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The text doesn’t menti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0280"/>
            <a:ext cx="63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armest, the most beautiful, one of the most popular cities to live in, has some of the oldest and most beautiful forests, w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33577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It is famous for the Calgary Stampe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429264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 busy port city at the top of the Great L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11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Step 3.Consolidat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巩固运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07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学生通过阅读文章获得信息输入，而运用所得信息来完成某项语言任务是巩固其阅读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本课是一篇旅行经历，那么如果脑海里有一条清晰的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旅行路线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，则对文章重点的理解和阅读信息的准确掌握有很大的帮助，在这个教学环节上我设计了一个任务活动。即通过小组讨论，绘制一条主人公的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旅行路线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raw the route of the travel in Canada    ( 1 point for each correct answ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213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360" y="32130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8000" y="342900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068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3645000"/>
            <a:ext cx="180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306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306864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cou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645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32360" y="3429000"/>
            <a:ext cx="1079640" cy="358920"/>
          </a:xfrm>
          <a:prstGeom prst="rightArrow">
            <a:avLst>
              <a:gd name="adj1" fmla="val 50000"/>
              <a:gd name="adj2" fmla="val 75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56360" y="3645000"/>
            <a:ext cx="2303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7640" y="2781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cky Mou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0400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10680" y="3429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00360" y="4653000"/>
            <a:ext cx="3816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076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gary (Stampe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72360" y="4653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4437000"/>
            <a:ext cx="976320" cy="343080"/>
          </a:xfrm>
          <a:prstGeom prst="leftArrow">
            <a:avLst>
              <a:gd name="adj1" fmla="val 50000"/>
              <a:gd name="adj2" fmla="val 711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68360" y="4653000"/>
            <a:ext cx="295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3860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heat-growing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7636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365720"/>
            <a:ext cx="539640" cy="1573200"/>
          </a:xfrm>
          <a:custGeom>
            <a:avLst/>
            <a:gdLst>
              <a:gd name="textAreaLeft" fmla="*/ 72000 w 539640"/>
              <a:gd name="textAreaRight" fmla="*/ 467640 w 539640"/>
              <a:gd name="textAreaTop" fmla="*/ 275040 h 1573200"/>
              <a:gd name="textAreaBottom" fmla="*/ 1140480 h 15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5805360"/>
            <a:ext cx="165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92360" y="501336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under 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5950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5300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d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558972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87700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5013360"/>
            <a:ext cx="172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ke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87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6000" y="566100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5950080"/>
            <a:ext cx="1368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7080" y="544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6000" y="54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459640" y="544500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Winning Team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1905120"/>
            <a:ext cx="6192720" cy="3074760"/>
          </a:xfrm>
          <a:custGeom>
            <a:avLst/>
            <a:gdLst>
              <a:gd name="textAreaLeft" fmla="*/ 1413720 w 6192720"/>
              <a:gd name="textAreaRight" fmla="*/ 4779000 w 6192720"/>
              <a:gd name="textAreaTop" fmla="*/ 702000 h 3074760"/>
              <a:gd name="textAreaBottom" fmla="*/ 2372760 h 307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Best Travel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cross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Step 4. 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74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学习和掌握本课学到的新单词，短语和句型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再次阅读课文，在旅行路线图的帮助下，试着复述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868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Blackboard work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26828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066680"/>
          <a:ext cx="8534520" cy="5105160"/>
        </p:xfrm>
        <a:graphic>
          <a:graphicData uri="http://schemas.openxmlformats.org/drawingml/2006/table">
            <a:tbl>
              <a:tblPr/>
              <a:tblGrid>
                <a:gridCol w="4038840"/>
                <a:gridCol w="4495680"/>
              </a:tblGrid>
              <a:tr h="1447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华文新魏"/>
                        </a:rPr>
                        <a:t>            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华文新魏"/>
                        </a:rPr>
                        <a:t>Unit 3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华文新魏"/>
                        </a:rPr>
                        <a:t>A Trip On “ The True North”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destin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surrounded by…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were on a trip to…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Going eastwar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have a gift for(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对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...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有天赋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)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1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89548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anks for your attention!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nalysis of the Teaching Material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教材分析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52480"/>
            <a:ext cx="88390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单元的中心话题是“加拿大”。本课时阅读部分是本单元第二课时，内容包括导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Lead-in 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阅读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Reading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巩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Consolidation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阅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Reading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篇游记，记述了李黛予和刘倩去加拿大看望表兄妹的旅途见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本课时的学习，可以初步了解加拿大的一些基本情况，包括地理环境，各大城市特点以及人文活动。同时梳理文章中重要的单词，短语和重点句型的用法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Teaching important point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difficultie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本课重、难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76520"/>
            <a:ext cx="9144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教学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通过阅读文章学到关于加拿大的地理，人文，主要城市，自然风光和自然资源的一些基本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教学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提高学生的阅读理解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88390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eaching  Aim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识目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nowledge Objec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使学生在本课学到一些重要的新单词，短语和句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目标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Ability Obj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让学生学会怎样去阅读旅行文章和使用地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感目标</a:t>
            </a:r>
            <a:r>
              <a:rPr b="1" lang="zh-CN" sz="1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Moral Object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引起学生学习外国人文，地理和文化的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alysis of Teaching and Learning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法分析与学法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95280"/>
            <a:ext cx="91440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教法设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演示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制作的课件，图片显示给学生看，便于学生对微观知识的掌握，从而达到解决问题的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9999"/>
                </a:solidFill>
                <a:latin typeface="华文新魏"/>
                <a:ea typeface="华文新魏"/>
              </a:rPr>
              <a:t>任务型教学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所学的新知识隐含在一个或几个问题当中，学生通过对所提的任务进行分析，讨论，并在老师的帮助和讲解下找到问题解决的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alysis of Teaching and Learning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法分析与学法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9528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法指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根据我班学生英语基础和能力较弱的实际，在对阅读课文作为整体处理的同时，对各个教学环节的问题和任务分不同的层次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浅入深</a:t>
            </a:r>
            <a:r>
              <a:rPr b="1" lang="zh-CN" sz="32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，并通过学习小组合作学习完成一次阅读比赛，力争使绝大多数同学能够参与到课堂活动，以此提高他们的阅读技能，描述，讨论等组织，运用语言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Ⅳ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Analysis of Teaching Process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682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Step 1.  Lead-i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Step 2.Reading for Informat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息阅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Step 3.Consolidati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巩固运用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Step 4. Homework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作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1600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Fast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29718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Careful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772400" y="5638680"/>
            <a:ext cx="1371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179280"/>
            <a:ext cx="39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Step 1.  Lead-i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19320"/>
            <a:ext cx="914400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节课的热身和读前为这篇文章的学习做了铺垫，为了引起学生的热情和兴趣，课前通过问一些假设问题，给他们创造一个就好像主人公的旅行变成了自己的这样一个氛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Questions as fo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Since summer vacation is coming. What will you do besides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f you had a chance to visit some foreign ountries, which country would you like to visit most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4-15T13:16:19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