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gif" ContentType="image/gif"/>
  <Override PartName="/ppt/media/chimes.wav" ContentType="audio/x-wav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D7F5-18CF-498B-A06C-26EFFA32E6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730C-CDEE-43BA-84E1-CA7D602D97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F8C-919B-4D5D-83EC-A8560540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C82-BD23-4872-B6B4-83A1095E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F28-4176-4D53-AD49-5C4C3216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617-85A9-4413-AE7D-39BFDB9D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A0D8-3ABC-44EA-BBCA-1875C88B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D0F6-5A6D-4B28-9BB4-98D8B972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0F21-2EA4-472E-905D-BB215CE1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74F4-7B1A-4692-A8B1-6C6B61C5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AE12-F9E4-4FCE-A897-644A132F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35F7-212E-45D9-B236-FDFD9196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EB97-9521-4934-8453-52B0FFE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F60-32D2-4457-B8D8-8187B28A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AC8C-25B5-49AF-A930-6A4019C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4A3-5370-4AC3-AEE8-536E11E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6394-6476-4D64-B80D-3E04774B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D488-6D55-4EDD-9646-0FD82D84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77EA-9B6D-4FEA-9A53-8D720273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AB6-2CBC-4EA3-8B42-B76BB46A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A52-2300-4C82-9CED-88D16067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22D-6930-4FFC-9F65-E772EB28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910-6EA9-446A-85A7-AF611A57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5BF-88BC-440B-9C67-2D51869C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B34-59CA-42F4-9D7B-73A1DA2A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CFA-617A-4E44-8D07-FB9FE76C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E191-58B2-406C-8B96-BC8EF6617B6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DD6D-6E42-486A-98B5-B94FD0875A9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cnpic.com/user/User_Templet/3/magnify.php?userid=108248&amp;img_id=108248-00571" TargetMode="External"/><Relationship Id="rId3" Type="http://schemas.openxmlformats.org/officeDocument/2006/relationships/image" Target="../media/image1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" Target=""/><Relationship Id="rId4" Type="http://schemas.openxmlformats.org/officeDocument/2006/relationships/image" Target="../media/image13.gif"/><Relationship Id="rId5" Type="http://schemas.openxmlformats.org/officeDocument/2006/relationships/hyperlink" Target="http://le365.asiaec.com/play/zls/499886.html" TargetMode="External"/><Relationship Id="rId6" Type="http://schemas.openxmlformats.org/officeDocument/2006/relationships/image" Target="../media/image14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cnpic.com/user/User_Templet/3/magnify.php?userid=108248&amp;img_id=108248-00571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107" descr="117fb1a4581"/>
          <p:cNvPicPr/>
          <p:nvPr/>
        </p:nvPicPr>
        <p:blipFill>
          <a:blip r:embed="rId1"/>
          <a:srcRect l="0" t="0" r="0" b="-45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WordArt 3108"/>
          <p:cNvSpPr txBox="1"/>
          <p:nvPr/>
        </p:nvSpPr>
        <p:spPr>
          <a:xfrm>
            <a:off x="1258920" y="1844640"/>
            <a:ext cx="3600360" cy="87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荷塘月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7" name=""/>
          <p:cNvSpPr/>
          <p:nvPr/>
        </p:nvSpPr>
        <p:spPr>
          <a:xfrm>
            <a:off x="6980400" y="1700280"/>
            <a:ext cx="1277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8d8ec"/>
                </a:solidFill>
                <a:latin typeface="Arial"/>
              </a:rPr>
              <a:t>郑州市第十六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0" y="4221000"/>
            <a:ext cx="6678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ec"/>
                </a:solidFill>
                <a:latin typeface="Arial"/>
              </a:rPr>
              <a:t>魏信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468360" y="1773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荷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68360" y="2997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荷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8360" y="4365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荷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68360" y="5157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荷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403280" y="1773360"/>
            <a:ext cx="3353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弥望，田田，层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亭亭的舞女的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403280" y="299736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袅娜，羞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珠，星星，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476360" y="4365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渺茫的歌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476360" y="515772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凝碧的波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脉脉的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304920" y="304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总结</a:t>
            </a:r>
            <a:r>
              <a:rPr b="1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：修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1"/>
          <p:cNvGrpSpPr/>
          <p:nvPr/>
        </p:nvGrpSpPr>
        <p:grpSpPr>
          <a:xfrm>
            <a:off x="4427640" y="1989000"/>
            <a:ext cx="215640" cy="4392360"/>
            <a:chOff x="4427640" y="1989000"/>
            <a:chExt cx="215640" cy="4392360"/>
          </a:xfrm>
        </p:grpSpPr>
        <p:sp>
          <p:nvSpPr>
            <p:cNvPr id="210" name="Line 12"/>
            <p:cNvSpPr/>
            <p:nvPr/>
          </p:nvSpPr>
          <p:spPr>
            <a:xfrm>
              <a:off x="4643280" y="1989000"/>
              <a:ext cx="0" cy="43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"/>
            <p:cNvGrpSpPr/>
            <p:nvPr/>
          </p:nvGrpSpPr>
          <p:grpSpPr>
            <a:xfrm>
              <a:off x="4427640" y="1989000"/>
              <a:ext cx="215640" cy="4392000"/>
              <a:chOff x="4427640" y="1989000"/>
              <a:chExt cx="215640" cy="4392000"/>
            </a:xfrm>
          </p:grpSpPr>
          <p:sp>
            <p:nvSpPr>
              <p:cNvPr id="212" name="Line 14"/>
              <p:cNvSpPr/>
              <p:nvPr/>
            </p:nvSpPr>
            <p:spPr>
              <a:xfrm>
                <a:off x="4427640" y="198900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5"/>
              <p:cNvSpPr/>
              <p:nvPr/>
            </p:nvSpPr>
            <p:spPr>
              <a:xfrm>
                <a:off x="4427640" y="6381000"/>
                <a:ext cx="21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4" name="Picture 16" descr="2"/>
          <p:cNvPicPr/>
          <p:nvPr/>
        </p:nvPicPr>
        <p:blipFill>
          <a:blip r:embed="rId1"/>
          <a:stretch/>
        </p:blipFill>
        <p:spPr>
          <a:xfrm>
            <a:off x="5508720" y="1676520"/>
            <a:ext cx="3406680" cy="320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5" name="Picture 17" descr="108248-005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4419720"/>
            <a:ext cx="3200400" cy="212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6" name="Text Box 18"/>
          <p:cNvSpPr/>
          <p:nvPr/>
        </p:nvSpPr>
        <p:spPr>
          <a:xfrm>
            <a:off x="228600" y="990720"/>
            <a:ext cx="80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段描写月下荷塘，景物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59800" y="2133720"/>
            <a:ext cx="11552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远及近，自上而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荷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252000" y="2276640"/>
            <a:ext cx="39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187280" y="260280"/>
            <a:ext cx="186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荷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916360" y="45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闪电般、凝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332000" y="1628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荷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684080" y="3213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荷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332000" y="4437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荷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3426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舒然展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987640" y="1197000"/>
            <a:ext cx="21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晶莹剔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忽隐忽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纤尘不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7620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132000" y="3141720"/>
            <a:ext cx="20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若有若无清淡飘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826920" y="692280"/>
            <a:ext cx="360360" cy="54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5960160" y="33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843520" y="1700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比喻，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940360" y="328464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6176160" y="54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 flipH="1">
            <a:off x="7596360" y="692280"/>
            <a:ext cx="574560" cy="5329080"/>
          </a:xfrm>
          <a:custGeom>
            <a:avLst/>
            <a:gdLst>
              <a:gd name="textAreaLeft" fmla="*/ 367560 w 574560"/>
              <a:gd name="textAreaRight" fmla="*/ 575280 w 574560"/>
              <a:gd name="textAreaTop" fmla="*/ 138960 h 5329080"/>
              <a:gd name="textAreaBottom" fmla="*/ 5190120 h 53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76360" y="5445000"/>
            <a:ext cx="15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荷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16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脉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0360" y="450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34000" y="2060640"/>
            <a:ext cx="1521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831e8"/>
                </a:solidFill>
                <a:latin typeface="Arial"/>
                <a:ea typeface="华文行楷"/>
              </a:rPr>
              <a:t>淡雅宁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83808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95280" y="21337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句是两种感觉的相通，即使用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通感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的修辞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746280" y="739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4067280" y="3500280"/>
            <a:ext cx="11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相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1262520" y="3200760"/>
            <a:ext cx="5968440" cy="2539080"/>
            <a:chOff x="1262520" y="3200760"/>
            <a:chExt cx="5968440" cy="2539080"/>
          </a:xfrm>
        </p:grpSpPr>
        <p:sp>
          <p:nvSpPr>
            <p:cNvPr id="244" name="Text Box 8"/>
            <p:cNvSpPr/>
            <p:nvPr/>
          </p:nvSpPr>
          <p:spPr>
            <a:xfrm>
              <a:off x="1262520" y="3366360"/>
              <a:ext cx="667800" cy="23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Times New Roman"/>
                </a:rPr>
                <a:t>清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9"/>
            <p:cNvSpPr/>
            <p:nvPr/>
          </p:nvSpPr>
          <p:spPr>
            <a:xfrm>
              <a:off x="6563160" y="3200760"/>
              <a:ext cx="667800" cy="12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Times New Roman"/>
                </a:rPr>
                <a:t>歌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0"/>
          <p:cNvGrpSpPr/>
          <p:nvPr/>
        </p:nvGrpSpPr>
        <p:grpSpPr>
          <a:xfrm>
            <a:off x="2127240" y="3068640"/>
            <a:ext cx="5713200" cy="1863360"/>
            <a:chOff x="2127240" y="3068640"/>
            <a:chExt cx="5713200" cy="1863360"/>
          </a:xfrm>
        </p:grpSpPr>
        <p:sp>
          <p:nvSpPr>
            <p:cNvPr id="247" name="Text Box 11"/>
            <p:cNvSpPr/>
            <p:nvPr/>
          </p:nvSpPr>
          <p:spPr>
            <a:xfrm>
              <a:off x="2127240" y="3110400"/>
              <a:ext cx="54612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00"/>
                  </a:solidFill>
                  <a:latin typeface="Times New Roman"/>
                </a:rPr>
                <a:t>（嗅觉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2"/>
            <p:cNvSpPr/>
            <p:nvPr/>
          </p:nvSpPr>
          <p:spPr>
            <a:xfrm>
              <a:off x="7294320" y="3068640"/>
              <a:ext cx="546120" cy="18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00"/>
                  </a:solidFill>
                  <a:latin typeface="Times New Roman"/>
                </a:rPr>
                <a:t>（听觉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3"/>
          <p:cNvGrpSpPr/>
          <p:nvPr/>
        </p:nvGrpSpPr>
        <p:grpSpPr>
          <a:xfrm>
            <a:off x="2987640" y="3645000"/>
            <a:ext cx="3809520" cy="1228320"/>
            <a:chOff x="2987640" y="3645000"/>
            <a:chExt cx="3809520" cy="1228320"/>
          </a:xfrm>
        </p:grpSpPr>
        <p:pic>
          <p:nvPicPr>
            <p:cNvPr id="250" name="Picture 14" descr="33"/>
            <p:cNvPicPr/>
            <p:nvPr/>
          </p:nvPicPr>
          <p:blipFill>
            <a:blip r:embed="rId1"/>
            <a:stretch/>
          </p:blipFill>
          <p:spPr>
            <a:xfrm>
              <a:off x="2987640" y="3645000"/>
              <a:ext cx="129528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5" descr="33"/>
            <p:cNvPicPr/>
            <p:nvPr/>
          </p:nvPicPr>
          <p:blipFill>
            <a:blip r:embed="rId2"/>
            <a:stretch/>
          </p:blipFill>
          <p:spPr>
            <a:xfrm>
              <a:off x="5501880" y="3717000"/>
              <a:ext cx="1295280" cy="115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2" name="Picture 16" descr="hua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5640" y="3573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picd4ir7v6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8"/>
          <p:cNvSpPr/>
          <p:nvPr/>
        </p:nvSpPr>
        <p:spPr>
          <a:xfrm>
            <a:off x="1258920" y="4365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似有似无、时断时续、捉摸不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90792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052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31e8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1831e8"/>
                </a:solidFill>
                <a:latin typeface="Arial"/>
                <a:ea typeface="华文新魏"/>
              </a:rPr>
              <a:t>微风过处，送来缕缕清香，仿佛远处高楼上渺茫的歌声似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33336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总结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：通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荷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2700360" y="692280"/>
            <a:ext cx="35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通感举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57200" y="18288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女孩长得好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5181480" y="1828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视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7620120" y="1828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6324480" y="2209680"/>
            <a:ext cx="12193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457200" y="41148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红杏枝头春意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181480" y="4114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视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7620120" y="4114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听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6324480" y="4495680"/>
            <a:ext cx="12193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457200" y="29718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政客名声很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181480" y="2971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听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762012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嗅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6324480" y="3352680"/>
            <a:ext cx="12193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2"/>
          <p:cNvPicPr/>
          <p:nvPr/>
        </p:nvPicPr>
        <p:blipFill>
          <a:blip r:embed="rId1"/>
          <a:stretch/>
        </p:blipFill>
        <p:spPr>
          <a:xfrm>
            <a:off x="4572000" y="1219320"/>
            <a:ext cx="4267080" cy="320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3" name="Picture 3" descr="108248-0057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706920"/>
            <a:ext cx="3200400" cy="212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4" name="Line 4"/>
          <p:cNvSpPr/>
          <p:nvPr/>
        </p:nvSpPr>
        <p:spPr>
          <a:xfrm>
            <a:off x="4419720" y="25909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50920" y="1484280"/>
            <a:ext cx="4114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43b8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咬文嚼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在第五段用了一些传神的动词 ，描绘出了可感的月光形象，请找出自己喜欢的句子加以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514600" y="26668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76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提升</a:t>
            </a:r>
            <a:r>
              <a:rPr b="0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：活用动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3352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月光如流水一般，静静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在这一片叶子和花上。薄薄的青雾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起在荷塘里。叶子和花仿佛在牛乳中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过一样；又像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着轻纱的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219320" y="259092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地写出了月光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立体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有形如流水般地倾泻但又无声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幽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447920" y="41148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显示出雾的轻飘状态，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828800" y="5105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403280" y="4797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了叶子和花在月光照耀下 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洁白纯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7"/>
          <p:cNvCxnSpPr/>
          <p:nvPr/>
        </p:nvCxnSpPr>
        <p:spPr>
          <a:xfrm flipH="1" rot="16200000">
            <a:off x="3801960" y="1534680"/>
            <a:ext cx="1982160" cy="153360"/>
          </a:xfrm>
          <a:prstGeom prst="bentConnector5">
            <a:avLst>
              <a:gd name="adj1" fmla="val -11534"/>
              <a:gd name="adj2" fmla="val 2774823"/>
              <a:gd name="adj3" fmla="val 84686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4" name="Line 8"/>
          <p:cNvSpPr/>
          <p:nvPr/>
        </p:nvSpPr>
        <p:spPr>
          <a:xfrm>
            <a:off x="2627280" y="1484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1187280" y="1844640"/>
            <a:ext cx="0" cy="32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1187280" y="508464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3635280" y="1916280"/>
            <a:ext cx="0" cy="4343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4572000" y="60958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3635280" y="5661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青雾中描摹出花和叶，显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朦胧含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神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腴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419640" y="220500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作者在第六段用了一些叠字叠词，找出来并说说这些词语的妙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9079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提升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：叠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276720" y="2085480"/>
            <a:ext cx="5029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远近近、高高低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出了树的错落有致，既开阔又有立体感，用语平实自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重、阴阴、隐隐约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神地描述出特定环境中的景物特点，不仅写出了树木之多，而且加强了叶色的浓重气氛。开始隐隐约约地表达出阴暗、沉郁的色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腴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荷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hetangyuesehehua1"/>
          <p:cNvPicPr/>
          <p:nvPr/>
        </p:nvPicPr>
        <p:blipFill>
          <a:blip r:embed="rId2"/>
          <a:stretch/>
        </p:blipFill>
        <p:spPr>
          <a:xfrm>
            <a:off x="6732720" y="2360520"/>
            <a:ext cx="2411280" cy="1830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804000" y="4419720"/>
            <a:ext cx="2340000" cy="20541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298" name="AutoShape 5"/>
          <p:cNvSpPr/>
          <p:nvPr/>
        </p:nvSpPr>
        <p:spPr>
          <a:xfrm>
            <a:off x="0" y="2362320"/>
            <a:ext cx="6705720" cy="3809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539640" y="62064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本文的写作特点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2421000"/>
            <a:ext cx="658800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ff"/>
                </a:solidFill>
                <a:latin typeface="Arial"/>
              </a:rPr>
              <a:t>          </a:t>
            </a:r>
            <a:r>
              <a:rPr b="1" lang="zh-CN" sz="3000" spc="-1" strike="noStrike">
                <a:solidFill>
                  <a:srgbClr val="6600ff"/>
                </a:solidFill>
                <a:latin typeface="Arial"/>
              </a:rPr>
              <a:t>作者欣赏荷塘月色前，走在小煤屑路上时，心情是淡淡的哀愁；当面对月下荷塘、塘上月色的美景时，心情是淡淡的喜悦；看完四周的景物，回忆江南的荷塘时，心情又回到了原点，依旧是淡淡的哀愁——热闹是它们的，我什么也没有。这情与景有何关系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971640" y="609300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31e8"/>
                </a:solidFill>
                <a:latin typeface="Arial"/>
              </a:rPr>
              <a:t>情景交融，写景为抒情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4"/>
          <p:cNvSpPr/>
          <p:nvPr/>
        </p:nvSpPr>
        <p:spPr>
          <a:xfrm>
            <a:off x="1219320" y="5311800"/>
            <a:ext cx="73152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09014"/>
                </a:solidFill>
                <a:latin typeface="Tahoma"/>
                <a:ea typeface="隶书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1"/>
          <p:cNvSpPr/>
          <p:nvPr/>
        </p:nvSpPr>
        <p:spPr>
          <a:xfrm>
            <a:off x="4140360" y="189000"/>
            <a:ext cx="5003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华文新魏"/>
              </a:rPr>
              <a:t>本课时内容概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84720" y="1268280"/>
            <a:ext cx="35290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拟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通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情景交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华文新魏"/>
              </a:rPr>
              <a:t>活用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华文新魏"/>
              </a:rPr>
              <a:t>叠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6"/>
          <p:cNvGrpSpPr/>
          <p:nvPr/>
        </p:nvGrpSpPr>
        <p:grpSpPr>
          <a:xfrm>
            <a:off x="468360" y="476280"/>
            <a:ext cx="3382560" cy="647280"/>
            <a:chOff x="468360" y="476280"/>
            <a:chExt cx="3382560" cy="647280"/>
          </a:xfrm>
        </p:grpSpPr>
        <p:sp>
          <p:nvSpPr>
            <p:cNvPr id="160" name="Freeform 7"/>
            <p:cNvSpPr/>
            <p:nvPr/>
          </p:nvSpPr>
          <p:spPr>
            <a:xfrm>
              <a:off x="667800" y="849240"/>
              <a:ext cx="2983680" cy="274320"/>
            </a:xfrm>
            <a:custGeom>
              <a:avLst/>
              <a:gdLst>
                <a:gd name="textAreaLeft" fmla="*/ 0 w 2983680"/>
                <a:gd name="textAreaRight" fmla="*/ 2984040 w 29836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468360" y="476280"/>
              <a:ext cx="3382560" cy="567720"/>
            </a:xfrm>
            <a:prstGeom prst="rect">
              <a:avLst/>
            </a:prstGeom>
            <a:gradFill rotWithShape="0">
              <a:gsLst>
                <a:gs pos="0">
                  <a:srgbClr val="fff6a7"/>
                </a:gs>
                <a:gs pos="100000">
                  <a:srgbClr val="cc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课标要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68360" y="1268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阅读写景抒情的散文，展开想象的翅膀，力求身临其境，感受作者心灵的搏动，体会作品所描述的美景。逐步增强对散文的鉴赏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468360" y="2708280"/>
            <a:ext cx="3455640" cy="647280"/>
            <a:chOff x="468360" y="2708280"/>
            <a:chExt cx="3455640" cy="647280"/>
          </a:xfrm>
        </p:grpSpPr>
        <p:sp>
          <p:nvSpPr>
            <p:cNvPr id="164" name="Freeform 10"/>
            <p:cNvSpPr/>
            <p:nvPr/>
          </p:nvSpPr>
          <p:spPr>
            <a:xfrm>
              <a:off x="672120" y="3081240"/>
              <a:ext cx="3048120" cy="27432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468360" y="2708280"/>
              <a:ext cx="3455640" cy="567720"/>
            </a:xfrm>
            <a:prstGeom prst="rect">
              <a:avLst/>
            </a:prstGeom>
            <a:gradFill rotWithShape="0">
              <a:gsLst>
                <a:gs pos="0">
                  <a:srgbClr val="6cd36c"/>
                </a:gs>
                <a:gs pos="100000">
                  <a:srgbClr val="7e9c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41" descr="019as"/>
          <p:cNvPicPr/>
          <p:nvPr/>
        </p:nvPicPr>
        <p:blipFill>
          <a:blip r:embed="rId1"/>
          <a:stretch/>
        </p:blipFill>
        <p:spPr>
          <a:xfrm>
            <a:off x="395280" y="3789360"/>
            <a:ext cx="609480" cy="461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" descr="019as"/>
          <p:cNvPicPr/>
          <p:nvPr/>
        </p:nvPicPr>
        <p:blipFill>
          <a:blip r:embed="rId2"/>
          <a:stretch/>
        </p:blipFill>
        <p:spPr>
          <a:xfrm>
            <a:off x="395280" y="5157720"/>
            <a:ext cx="609480" cy="461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87280" y="3789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结合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4-6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段，分析比喻、拟人、通感等修辞手法的运用并能领会其妙处。</a:t>
            </a:r>
            <a:r>
              <a:rPr b="0" lang="zh-CN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5229360"/>
            <a:ext cx="66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、练习运用情景交融的表达技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227640" y="4297320"/>
            <a:ext cx="2916360" cy="25606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荷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hetangyuesehehua1"/>
          <p:cNvPicPr/>
          <p:nvPr/>
        </p:nvPicPr>
        <p:blipFill>
          <a:blip r:embed="rId2"/>
          <a:stretch/>
        </p:blipFill>
        <p:spPr>
          <a:xfrm>
            <a:off x="6732720" y="2360520"/>
            <a:ext cx="2411280" cy="1830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804000" y="4419720"/>
            <a:ext cx="2340000" cy="20541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309" name="AutoShape 8"/>
          <p:cNvSpPr/>
          <p:nvPr/>
        </p:nvSpPr>
        <p:spPr>
          <a:xfrm>
            <a:off x="0" y="2362320"/>
            <a:ext cx="6705720" cy="3809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161928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71640" y="2421000"/>
            <a:ext cx="54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抽刀断水水更流，借酒消愁愁更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问君能有几多愁，恰似一江春水向东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欲上高楼去避愁，愁还随我上高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剪不断，理还乱，才下眉头，又上心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04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31e8"/>
                </a:solidFill>
                <a:latin typeface="Arial"/>
                <a:ea typeface="华文新魏"/>
              </a:rPr>
              <a:t>【达标检测</a:t>
            </a:r>
            <a:r>
              <a:rPr b="1" lang="zh-CN" sz="4400" spc="-1" strike="noStrike">
                <a:solidFill>
                  <a:srgbClr val="1831e8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1831e8"/>
                </a:solidFill>
                <a:latin typeface="Arial"/>
                <a:ea typeface="华文新魏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14130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下面四句诗，哪一句最符合作者写《荷塘月色》一文的动机和心情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荷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hetangyuesehehua1"/>
          <p:cNvPicPr/>
          <p:nvPr/>
        </p:nvPicPr>
        <p:blipFill>
          <a:blip r:embed="rId2"/>
          <a:stretch/>
        </p:blipFill>
        <p:spPr>
          <a:xfrm>
            <a:off x="6732720" y="2360520"/>
            <a:ext cx="2411280" cy="1830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804000" y="4419720"/>
            <a:ext cx="2340000" cy="20541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317" name="AutoShape 5"/>
          <p:cNvSpPr/>
          <p:nvPr/>
        </p:nvSpPr>
        <p:spPr>
          <a:xfrm>
            <a:off x="0" y="2362320"/>
            <a:ext cx="6705720" cy="3809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0" y="2421000"/>
            <a:ext cx="658800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ff"/>
                </a:solidFill>
                <a:latin typeface="Arial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62064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831e8"/>
                </a:solidFill>
                <a:latin typeface="Arial"/>
                <a:ea typeface="华文新魏"/>
              </a:rPr>
              <a:t>【达标检测</a:t>
            </a:r>
            <a:r>
              <a:rPr b="1" lang="zh-CN" sz="4400" spc="-1" strike="noStrike">
                <a:solidFill>
                  <a:srgbClr val="1831e8"/>
                </a:solidFill>
                <a:latin typeface="Arial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1831e8"/>
                </a:solidFill>
                <a:latin typeface="Arial"/>
                <a:ea typeface="华文新魏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-1260360" y="38725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2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Arial"/>
                <a:ea typeface="华文新魏"/>
              </a:rPr>
              <a:t>“</a:t>
            </a:r>
            <a:r>
              <a:rPr b="0" lang="zh-CN" sz="4000" spc="-1" strike="noStrike">
                <a:solidFill>
                  <a:srgbClr val="006600"/>
                </a:solidFill>
                <a:latin typeface="Arial"/>
                <a:ea typeface="华文新魏"/>
              </a:rPr>
              <a:t>叶子和花仿佛在牛乳中洗过一样，又像笼着轻纱的梦”一句写得很妙，你认为妙在何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荷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71640" y="1916280"/>
            <a:ext cx="7273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比喻。写荷叶荷花“像笼着轻纱的梦”，表现了月下荷叶荷花轻飘柔美的姿容，通过写叶和花的安谧、恬静衬托出月色的朦胧柔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巧用动词。“洗”，写出了叶子和花在月光映照下一种奶白色而又鲜艳欲滴的状态。“笼”，写出了月光的轻柔之美，用“笼”使得景物更加地鲜活有灵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虚实结合。把这片景物描写比喻成梦，突出了荷塘因为有了月光的映洒而特有的朦胧之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27280" y="620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参考答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1268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a04"/>
                </a:solidFill>
                <a:latin typeface="Arial"/>
                <a:ea typeface="华文新魏"/>
              </a:rPr>
              <a:t>（答案可深挖，也可补充，关键是要勤于思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荷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hetangyuesehehua1"/>
          <p:cNvPicPr/>
          <p:nvPr/>
        </p:nvPicPr>
        <p:blipFill>
          <a:blip r:embed="rId2"/>
          <a:stretch/>
        </p:blipFill>
        <p:spPr>
          <a:xfrm>
            <a:off x="6732720" y="2360520"/>
            <a:ext cx="2411280" cy="1830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804000" y="4419720"/>
            <a:ext cx="2340000" cy="20541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328" name="AutoShape 5"/>
          <p:cNvSpPr/>
          <p:nvPr/>
        </p:nvSpPr>
        <p:spPr>
          <a:xfrm>
            <a:off x="0" y="2362320"/>
            <a:ext cx="6705720" cy="3809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2421000"/>
            <a:ext cx="658800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ff"/>
                </a:solidFill>
                <a:latin typeface="Arial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56000" y="62064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【课后巩固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3873600"/>
            <a:ext cx="626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2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708280"/>
            <a:ext cx="66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华文新魏"/>
                <a:ea typeface="华文新魏"/>
              </a:rPr>
              <a:t>写一段描写景物的文字，要求字数不少于</a:t>
            </a:r>
            <a:r>
              <a:rPr b="0" lang="zh-CN" sz="4000" spc="-1" strike="noStrike">
                <a:solidFill>
                  <a:srgbClr val="339933"/>
                </a:solidFill>
                <a:latin typeface="华文新魏"/>
                <a:ea typeface="华文新魏"/>
              </a:rPr>
              <a:t>400</a:t>
            </a:r>
            <a:r>
              <a:rPr b="0" lang="zh-CN" sz="4000" spc="-1" strike="noStrike">
                <a:solidFill>
                  <a:srgbClr val="339933"/>
                </a:solidFill>
                <a:latin typeface="华文新魏"/>
                <a:ea typeface="华文新魏"/>
              </a:rPr>
              <a:t>字，要运用比喻、拟人的修辞手法。注意，尽量能够做到情景交融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4360" y="404640"/>
            <a:ext cx="75499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0066"/>
                </a:solidFill>
                <a:latin typeface="Arial"/>
                <a:ea typeface="黑体"/>
              </a:rPr>
              <a:t>导学案完成情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1413000"/>
          <a:ext cx="8748720" cy="4844880"/>
        </p:xfrm>
        <a:graphic>
          <a:graphicData uri="http://schemas.openxmlformats.org/drawingml/2006/table">
            <a:tbl>
              <a:tblPr/>
              <a:tblGrid>
                <a:gridCol w="736560"/>
                <a:gridCol w="954360"/>
                <a:gridCol w="7057800"/>
              </a:tblGrid>
              <a:tr h="5810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班级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3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班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完成情况反馈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优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小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第</a:t>
                      </a:r>
                      <a:r>
                        <a:rPr b="1" lang="zh-CN" sz="30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8</a:t>
                      </a:r>
                      <a:r>
                        <a:rPr b="1" lang="zh-CN" sz="30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组、第</a:t>
                      </a:r>
                      <a:r>
                        <a:rPr b="1" lang="zh-CN" sz="30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30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组、第</a:t>
                      </a:r>
                      <a:r>
                        <a:rPr b="1" lang="zh-CN" sz="30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zh-CN" sz="30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组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优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个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静雯、黄晓杰、王宇、宁若晨、侯艺萌、闫亚利、张阳阳、张成玉、陈新新、余玥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744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cc0000"/>
                          </a:solidFill>
                          <a:latin typeface="Arial"/>
                          <a:ea typeface="黑体"/>
                        </a:rPr>
                        <a:t>存在问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部分同学预习不认真，不能对问题进行认真思考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些题目审题不清或是根本没有弄清楚题意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zh-C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部分同学书写不规范、字迹潦草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12"/>
          <p:cNvSpPr/>
          <p:nvPr/>
        </p:nvSpPr>
        <p:spPr>
          <a:xfrm>
            <a:off x="6732720" y="2421000"/>
            <a:ext cx="1511280" cy="208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Shenwu_Hehua_026[1]"/>
          <p:cNvPicPr/>
          <p:nvPr/>
        </p:nvPicPr>
        <p:blipFill>
          <a:blip r:embed="rId1"/>
          <a:stretch/>
        </p:blipFill>
        <p:spPr>
          <a:xfrm>
            <a:off x="6804000" y="2133720"/>
            <a:ext cx="1941480" cy="230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27600" y="1125360"/>
            <a:ext cx="789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预习成果反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05264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476360" y="981000"/>
            <a:ext cx="5183280" cy="446400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回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、什么是比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、什么是拟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3429000"/>
            <a:ext cx="417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思考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什么是通感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53964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合作探究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分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84360" y="765000"/>
            <a:ext cx="7632720" cy="5759640"/>
          </a:xfrm>
          <a:prstGeom prst="rect">
            <a:avLst/>
          </a:prstGeom>
          <a:solidFill>
            <a:srgbClr val="ffffff"/>
          </a:solidFill>
          <a:ln cap="rnd" w="7632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内容：</a:t>
            </a:r>
            <a:r>
              <a:rPr b="1" lang="zh-CN" sz="1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第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然段，“层层的叶子中间零星地点缀着些白花，有袅娜地开着的，有羞涩地打着朵的；正如一粒粒的明珠，又如碧天里的星星，又如刚出浴的美人”，运用了什么修辞方法，有何表达效果？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“微风过处，送来缕缕清香，仿佛远处高楼上渺茫的歌声似的。”此句运用了什么样的手法？请简要解析。（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“叶子本是肩并肩密密地挨着，这便宛然有了一道凝碧的波痕。叶子底下是脉脉的流水，遮住了，不能见一些颜色；而叶子却更见风致了。”此句中有没有直接抒发作者感情的词语？表达感情方面用了什么样的技巧？有什么效果？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（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荷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hetangyuesehehua1"/>
          <p:cNvPicPr/>
          <p:nvPr/>
        </p:nvPicPr>
        <p:blipFill>
          <a:blip r:embed="rId2"/>
          <a:stretch/>
        </p:blipFill>
        <p:spPr>
          <a:xfrm>
            <a:off x="6732720" y="2360520"/>
            <a:ext cx="2411280" cy="183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804000" y="4419720"/>
            <a:ext cx="2340000" cy="20541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85" name="AutoShape 5"/>
          <p:cNvSpPr/>
          <p:nvPr/>
        </p:nvSpPr>
        <p:spPr>
          <a:xfrm>
            <a:off x="0" y="2362320"/>
            <a:ext cx="6705720" cy="3809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79280" y="2421000"/>
            <a:ext cx="60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层讨论，先一对一，再组内共同讨论，总结完善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联系课本，注重效率，及时整理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长宏观调控，做好讨论结果反馈及展示点评准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112536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讨论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468360" y="260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31e8"/>
                </a:solidFill>
                <a:latin typeface="Arial"/>
                <a:ea typeface="楷体_GB2312"/>
              </a:rPr>
              <a:t>展示点评 </a:t>
            </a:r>
            <a:r>
              <a:rPr b="1" lang="zh-CN" sz="3200" spc="-1" strike="noStrike">
                <a:solidFill>
                  <a:srgbClr val="1831e8"/>
                </a:solidFill>
                <a:latin typeface="Arial"/>
                <a:ea typeface="楷体_GB2312"/>
              </a:rPr>
              <a:t>(9</a:t>
            </a:r>
            <a:r>
              <a:rPr b="1" lang="zh-CN" sz="3200" spc="-1" strike="noStrike">
                <a:solidFill>
                  <a:srgbClr val="1831e8"/>
                </a:solidFill>
                <a:latin typeface="Arial"/>
                <a:ea typeface="楷体_GB2312"/>
              </a:rPr>
              <a:t>分钟</a:t>
            </a:r>
            <a:r>
              <a:rPr b="1" lang="zh-CN" sz="3200" spc="-1" strike="noStrike">
                <a:solidFill>
                  <a:srgbClr val="1831e8"/>
                </a:solidFill>
                <a:latin typeface="Arial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9640" y="907920"/>
          <a:ext cx="8001000" cy="2736720"/>
        </p:xfrm>
        <a:graphic>
          <a:graphicData uri="http://schemas.openxmlformats.org/drawingml/2006/table">
            <a:tbl>
              <a:tblPr/>
              <a:tblGrid>
                <a:gridCol w="2031840"/>
                <a:gridCol w="1751040"/>
                <a:gridCol w="1909800"/>
                <a:gridCol w="2308320"/>
              </a:tblGrid>
              <a:tr h="93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问  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展  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或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层）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点   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层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非展示同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大声背诵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——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段，体会文中修辞手法的妙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2"/>
          <p:cNvSpPr/>
          <p:nvPr/>
        </p:nvSpPr>
        <p:spPr>
          <a:xfrm>
            <a:off x="2484360" y="4100760"/>
            <a:ext cx="644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展示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⑴书面展示要分点、要有条理；书写要认真、 规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⑵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非展示同学按要求大声有感情地朗读课文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层同学做好拓展。</a:t>
            </a:r>
            <a:r>
              <a:rPr b="1" lang="zh-CN" sz="2000" spc="-1" strike="noStrike">
                <a:solidFill>
                  <a:srgbClr val="ff0066"/>
                </a:solidFill>
                <a:latin typeface="宋体"/>
              </a:rPr>
              <a:t>不浪费一分钟，小组长做好安排和检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点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⑴先点评对错；再点评思路方法，应该注意的问题，力争进行必要的联系拓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⑵</a:t>
            </a:r>
            <a:r>
              <a:rPr b="1" lang="zh-CN" sz="2000" spc="-1" strike="noStrike">
                <a:solidFill>
                  <a:srgbClr val="ff0066"/>
                </a:solidFill>
                <a:latin typeface="宋体"/>
              </a:rPr>
              <a:t>其他同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认真倾听、积极思考、记好笔记、大胆质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荷塘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700360" y="333360"/>
            <a:ext cx="331164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探究问题参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924280"/>
            <a:ext cx="828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答：通感。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①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缕缕清香 ”与“渺茫的歌声”，一个是嗅觉一个是听觉，但在许多方面有相似之处，如时断时续，若有若无，轻淡缥缈，沁人心脾，感觉的有意转移伴随着想象的跳跃十分巧妙；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）② “清香”与“歌声”同属美好事物，把“清香”比喻成远处的“歌声”，烘托出几分优雅和宁静来；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）③变换欣赏角度，有焕然一新，奇趣无穷之感。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197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喻。写静态荷花连用三个比喻，“正如一粒粒的明珠”，“又如碧天里的星星”，“又如刚出浴的美人”，分别写出了淡月辉映下荷花晶莹剔透的闪光，绿叶衬托下荷花忽明忽暗的闪光，以及荷花不染纤尘的美质。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拟人。袅娜——常用来形容女子体态轻柔优美，这写出了荷花柔软妩媚饱满的柔美姿态；羞涩——含苞欲放的娇美情态，有一种“千呼万唤始出来，犹抱琵琶半遮面”的少女的娇羞。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486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句中没有直接抒发作者感情的词语，但是却景中含情，运用了情景交融的表达技巧。“脉脉”说明了作者是饱含深情的，极富人性之美。“风致”本意指美好的容貌和举止，这里写出了荷叶美的姿态。作者将对荷塘月色美景的陶醉之情融入对景物的描写之中，表面句句写景，其实句句含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1219320" y="5311800"/>
            <a:ext cx="73152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909014"/>
                </a:solidFill>
                <a:latin typeface="Tahoma"/>
                <a:ea typeface="隶书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91960" y="189000"/>
            <a:ext cx="10947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总结提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0:22:12Z</dcterms:created>
  <dc:creator>高考资源网-ks5u</dc:creator>
  <dc:description/>
  <dc:language>en-US</dc:language>
  <cp:lastModifiedBy>微软用户</cp:lastModifiedBy>
  <dcterms:modified xsi:type="dcterms:W3CDTF">2012-11-30T01:31:27Z</dcterms:modified>
  <cp:revision>129</cp:revision>
  <dc:subject>盗版必究</dc:subject>
  <dc:title>高考资源网模PPT版</dc:title>
</cp:coreProperties>
</file>