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hammer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suction.wav" ContentType="audio/x-wav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5.jpeg" ContentType="image/jpeg"/>
  <Override PartName="/ppt/media/image31.jpeg" ContentType="image/jpeg"/>
  <Override PartName="/ppt/media/click.wav" ContentType="audio/x-wav"/>
  <Override PartName="/ppt/media/image4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BE6-E331-403B-B28C-98E818D7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92B-EC45-4426-9459-855E32F1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4A6-2C30-4B61-9C13-C9847F7D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E40-37FA-4FEB-B3FF-F2AD5607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E2325-EBFE-458A-AF30-1D58AEB1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2E8DA-3263-4D66-862F-E918574F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5285E-D0BB-4238-B086-FFB774E2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1A547-6875-43EB-A2DD-0EFD94B3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AEF5A-109B-4E47-99CD-90501292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0D9D2-DAB3-4A7D-BA0E-4BAE2A7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F72FD-62B2-45D0-AB77-20E6B4D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214-D852-435B-A1CE-C40A432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0352D-DA1C-4FDB-A1E7-B294ED0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BBFF-2396-4545-AA8B-0BC0799F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522CB-E78E-4024-A025-09A250D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3393C-F5B4-4FAB-BFCB-812E9522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2B6E2-D055-4F6B-865D-8B1A6507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08C-E517-49E9-9935-C21BAFE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CED-ADBE-4BAF-9664-38D43EF5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9E5-BBE4-4423-8FDC-82CA62C0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694-888A-4CF0-85E2-A4C73B98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C45-C038-4A58-8ECA-663F2BC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2A7-0A51-4A81-BD3E-8E9316B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26B-9D5C-4D3E-9D2C-305F41A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9D02-0714-4B8C-91D7-87599725B7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1EBB-6995-494D-B13D-E21BD2759E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课   钢铁长城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38178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209080" cy="582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68360" y="60213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新型履带式两栖装甲输送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二、中国海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中国海军现役兵力共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万人（其中包括海军航空兵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.5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万人，海军岸防部队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.5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万人，海军陆战队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万人）</a:t>
            </a:r>
            <a:br>
              <a:rPr sz="44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在新中国成立前夕，中国人民解放军的第一支海军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--------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ahoma"/>
              </a:rPr>
              <a:t>华东军区海军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建立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36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海军的指挥机构是海军司令部、政治部、后勤部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海军作战单位为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ahoma"/>
              </a:rPr>
              <a:t>北海舰队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ahoma"/>
              </a:rPr>
              <a:t>东海舰队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ahoma"/>
              </a:rPr>
              <a:t>南海舰队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以及海军航空兵和海防部队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0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海军约有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30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余艘主力舰艇（其中潜艇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多艘，驱逐舰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艘、护卫舰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余艘），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55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艘战斗艇（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80-20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艘导弹艇，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00-15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艘鱼雷艇），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50-200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艘辅助船。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北海舰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成立于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960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北海舰队：驻地青岛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驻泊港口：青岛、胶南、旅顺、葫芦岛、威海、成山。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北海舰队目前有三个军级编制的海军基地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旅顺基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青岛基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葫芦岛基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东海舰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东海舰队：驻地上海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驻泊港口：上海、吴淞、舟山、定海、杭州。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东海舰队目前有三个军级编制的海军基地：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   上海基地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    舟山基地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    福建基地（辖宁德、厦门水警区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南海舰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68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驻地湛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驻泊港口：湛江、汕头、广州、海口、榆林、北海、黄浦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南海舰队目前有三个军级编制的海军基地：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湛江基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广州基地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榆林基地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解放军驻香港特别行政区部队的海军基地的舰艇，由南海舰队派驻，作战时也受南海舰队指挥。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311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导弹驱逐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1280" y="181728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现代级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(13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舰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,13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舰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)--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旅海级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(16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舰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)--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旅沪级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(112,11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舰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)--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旅大级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--1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旅洋级（最新型，详情不详）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260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508464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3141720"/>
            <a:ext cx="442800" cy="74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4920" y="5300640"/>
            <a:ext cx="4316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84360" y="6165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36“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杭州”号（俄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、中国陆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6327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陆军现役兵力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3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万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分属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军区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编成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集团军，其中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快速反应集团军（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9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军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陆军有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85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步兵师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装甲及机械化师、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炮兵师（含若干高炮师）、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山地师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5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独立工程兵团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通信团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个独立特种兵团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4788000"/>
            <a:ext cx="3697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616040"/>
            <a:ext cx="9144000" cy="469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56000" y="692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37“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福州”号（俄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283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67“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深圳”舰 ——“中华第一舰”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8353440" cy="387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544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目前中国自行设计建造的最现代化导弹驱逐舰。该舰长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153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米，宽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16.5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米，满载排水量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660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吨，吃水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米，最大航速超过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节，续航力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400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海里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/2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节，具有强大的对海攻击和防空、反潜等综合作战能力。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潜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夏级战略导弹核潜艇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4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汉级攻击核潜艇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5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基洛级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4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武汉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级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明级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5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级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-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76360" y="5661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092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型（夏级）核动力战略导弹潜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2997360"/>
            <a:ext cx="26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5300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715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09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型（汉级）核动力攻击潜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7796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基洛”级（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Kilo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）常规动力攻击潜艇（俄制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251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思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１、说一说我国海军装备的变化特征，这说明了什么问题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47640" y="2205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海军逐渐强大；现代化科技含量不断增加；我国自主研制的军舰逐渐增多。</a:t>
            </a: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789360"/>
            <a:ext cx="810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２、你认为我国海军的逐渐强大有哪些重大作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522936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保卫祖国的海防，抵抗外敌入侵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３、动脑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旧中国国力较弱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海防松弛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无力抵抗外国的进攻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如鸦片战争时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英军用坚船利炮打开了中国的大门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使中国开始沦为半殖民地半封建社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甲午战争中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虽然清朝海军装备了近代武器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但由于清政府的腐败而使北洋水师全军覆灭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签订了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&lt;&lt;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马关条约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&gt;&gt;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大大加深了中国半殖民地化的进程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新中国成立后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海军力量不断壮大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有力地保护了祖国的海防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三、中国空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中国空军现役兵力为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7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万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包括战略部队和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万的防空兵在内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四个空军军司令部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空军第一军（长春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空军第七军（南宁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空军第八军（福州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空军第十军（大同）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全国七大军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6000" y="1905120"/>
            <a:ext cx="251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北京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沈阳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济南军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南京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广州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兰州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成都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35848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91600"/>
            <a:ext cx="82915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2. 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八个空军指挥所分别为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大连指挥所（原空军第三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上海指挥所（原空军第四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唐山指挥所（原空军第六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乌鲁木齐指挥所（原空军第九军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西安指挥所（前空军第十一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昆明指挥所（前昆明军区空军司令部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武汉指挥所（前武汉军区空军指挥所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拉萨指挥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8826480" y="1915920"/>
            <a:ext cx="64152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40000" y="5084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苏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30MKK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战斗机（俄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616572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616572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7380000" y="5589360"/>
            <a:ext cx="1306440" cy="430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56840" y="5084640"/>
            <a:ext cx="13064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6000" cy="3379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796000" y="2492280"/>
            <a:ext cx="273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苏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27SK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战斗机（俄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916360" y="3462480"/>
            <a:ext cx="62276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6920" y="5473440"/>
            <a:ext cx="7272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苏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27UBK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教练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战斗机（俄制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2098800" cy="69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62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700360" y="5229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歼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F-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战斗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1989000"/>
            <a:ext cx="154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1440" cy="3481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816360" y="3505320"/>
            <a:ext cx="5327640" cy="3352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29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歼轰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7(FBC1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飞豹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4920" y="3645000"/>
            <a:ext cx="604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8ⅡM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-8ⅡM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战斗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741240"/>
            <a:ext cx="4211640" cy="2903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692280"/>
            <a:ext cx="4284720" cy="2944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340000" y="4221000"/>
            <a:ext cx="4103640" cy="2548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092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歼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-8ⅡD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F-8ⅡD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）战斗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6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歼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-8Ⅱ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F-8Ⅱ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）战斗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8100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歼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-7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战斗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147600"/>
            <a:ext cx="4500720" cy="250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572000" y="120600"/>
            <a:ext cx="4572000" cy="2443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332000" y="3284640"/>
            <a:ext cx="61214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6012000" cy="3065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484360" y="3438360"/>
            <a:ext cx="5899320" cy="3146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588000" y="549360"/>
            <a:ext cx="23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1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俄制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S-300PMU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中高空、中远程地空导弹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07664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HQ-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低空、超低空、近程地空导弹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5280" y="3311640"/>
            <a:ext cx="5292720" cy="3546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5040000" cy="3259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867280" y="4581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2B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HQ-2B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中高空、中近程地空导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052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61A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HQ-61A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中低空、近程地空导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355680"/>
            <a:ext cx="4464000" cy="311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45673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67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0920" y="558972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飞腾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20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FT-20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反辐射地空导弹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1076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272360" cy="5218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63640" y="5805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轰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空中加油机和歼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8ⅡD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受油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4395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484360" y="530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中国第一架预警机“空警一号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1584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思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77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蒋道平是在什么情况下抗击美军？他的行为为什么能够得到中朝人民的赞扬？你从中受到哪些启发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01480" y="2708280"/>
            <a:ext cx="8642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是在我国空军刚刚诞生，敌人异常强大的情况下的。因为他保护中朝人民的利益，不畏强敌，敢打敢拼，英勇杀敌，取得了辉煌的战果。启发是要敢于正视挑战，勇敢接受考验；要为保护人民利益或提高人民生活水平而奋斗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比较人民空军和海军的发展历程，说出两支军队发展过程中的相同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3499920"/>
            <a:ext cx="77612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是逐渐强大；现代化科技含量不断增加；我国自主研制的武器不断增多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四、中国“第二炮兵”部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也称导弹部队 ，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95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开始组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中国第二炮兵总兵力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万人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编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个师　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按导弹类型编为旅、团、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7632720" cy="4808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7964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DF-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中程地地战略导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6014160"/>
            <a:ext cx="30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射程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: 1,700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英里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921800" cy="5229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7964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-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DF-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）远程地地战略导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664400" cy="5492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149560" y="58017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DF-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洲际地地战略导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201080" cy="542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116000" y="58770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1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DF-1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M-1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近程地地战术导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284720" cy="2973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00720" y="1916280"/>
            <a:ext cx="4321080" cy="299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4356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5373360"/>
            <a:ext cx="79311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1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DF-1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M-9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近程地地战术导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4761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484360" y="6021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射程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:370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英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351640" cy="5622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40880" y="5804640"/>
            <a:ext cx="45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-2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DF-2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中程地地战略导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39680" y="60206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射程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7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公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-3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DF-3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）洲际地地战略导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50920" y="900000"/>
            <a:ext cx="867564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6160" cy="4665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908000" y="551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型洲际导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型洲际导弹特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弹体全长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米 ，直径为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米 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公斤左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射程为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公里。火箭结构为三级固体发动机，可载一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50kT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至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Mt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核弹头或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90kT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IRV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核弹，范围可达美国西岸和欧洲各地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EP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约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3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米左右，是一种目前尚无反制方法的先进地对地导弹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56688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研究中的东风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41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型洲际导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拥有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2,0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千米的射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DF-4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部分技术数据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推进：三级火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推进剂：固体燃料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长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米？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径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米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重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吨？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制导：惯性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首次试射：未知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交付使用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年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头：一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万吨级当量热核弹头或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万吨级当量热核弹头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发射方式：井下发射或机动发射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圆周概率误差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7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发射准备时间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分钟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95280" y="333360"/>
          <a:ext cx="8569440" cy="606096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2448000"/>
                <a:gridCol w="194472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军兵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阶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海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空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导弹部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新中国成立前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成立后的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7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年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9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年代以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95280" y="333360"/>
            <a:ext cx="223200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08560" y="6308640"/>
            <a:ext cx="181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205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支海军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─华东军区海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北海、东海和南海舰队；研制出多种舰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7280" y="5229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代化水平显著提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3440" y="2297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属于陆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28464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参加抗美援朝取得战果；制造出多种机型；并走上国产化道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49417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现代化建设的新飞跃，自行研制加上引进，新型飞机增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97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没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93080" y="3500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１９５７年才组建战略部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53006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具有较强的战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5384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根据本课所学的内容，来说一说“钢铁长城”的含义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647640" y="1989000"/>
            <a:ext cx="849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是指人民军队英勇作战的优良传统与先进的武器装备相结合，构筑了坚固的保卫祖国疆土和安全的防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357336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由新中国的“钢铁长城”，你能到哪些的认识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797360"/>
            <a:ext cx="77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为祖国国防事业的迅速发展而自豪；为祖国先进的科学技术而自豪；为祖国更加繁荣而努力学习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7561080" cy="5297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4000" y="573408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98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式（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96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式）主战坦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7848720" cy="528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68360" y="57340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88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式主战坦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93080" cy="482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5589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式水陆两栖坦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657520"/>
            <a:ext cx="4643280" cy="383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63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19640" y="378936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9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式（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Z55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轮式步兵战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77336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Z52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轮式装甲输送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2:56:29Z</dcterms:created>
  <dc:creator>cym</dc:creator>
  <dc:description/>
  <dc:language>en-US</dc:language>
  <cp:lastModifiedBy>微软用户</cp:lastModifiedBy>
  <dcterms:modified xsi:type="dcterms:W3CDTF">2010-03-14T13:39:22Z</dcterms:modified>
  <cp:revision>29</cp:revision>
  <dc:subject/>
  <dc:title>第14课   钢铁长城</dc:title>
</cp:coreProperties>
</file>