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7.jpeg" ContentType="image/jpeg"/>
  <Override PartName="/ppt/media/voltage.wav" ContentType="audio/x-wav"/>
  <Override PartName="/ppt/media/hammer.wav" ContentType="audio/x-wav"/>
  <Override PartName="/ppt/media/image12.jpeg" ContentType="image/jpeg"/>
  <Override PartName="/ppt/media/projctor.wav" ContentType="audio/x-wav"/>
  <Override PartName="/ppt/media/image6.gif" ContentType="image/gif"/>
  <Override PartName="/ppt/media/image5.jpeg" ContentType="image/jpeg"/>
  <Override PartName="/ppt/media/image8.png" ContentType="image/png"/>
  <Override PartName="/ppt/media/image14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click.wav" ContentType="audio/x-wav"/>
  <Override PartName="/ppt/media/image18.jpeg" ContentType="image/jpeg"/>
  <Override PartName="/ppt/media/image20.jpeg" ContentType="image/jpeg"/>
  <Override PartName="/ppt/media/image15.jpeg" ContentType="image/jpeg"/>
  <Override PartName="/ppt/media/image21.gif" ContentType="image/gif"/>
  <Override PartName="/ppt/media/image19.gif" ContentType="image/gif"/>
  <Override PartName="/ppt/media/image10.png" ContentType="image/png"/>
  <Override PartName="/ppt/media/image17.gif" ContentType="image/gif"/>
  <Override PartName="/ppt/media/image16.png" ContentType="image/png"/>
  <Override PartName="/ppt/media/image13.jpeg" ContentType="image/jpeg"/>
  <Override PartName="/ppt/media/suction.wav" ContentType="audio/x-wav"/>
  <Override PartName="/ppt/media/image2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A9F2-D391-431C-A43B-715FFF1C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4F3-BB20-4B25-AAA7-2DB33DCE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160-3EF1-42D6-B4B1-7732E79D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42D7-EFDB-4779-9652-244FAABA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A0C-D76F-47F8-B8C7-FA8FFFA1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E69-368F-4D74-A6E1-EEFE366E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2E0-A66C-4773-B1FF-7CE73C18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E83-EC25-4F40-9436-ED215495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F56-DA38-40D1-9576-A67992D2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A0F2-2573-456E-AB26-F96065FF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590-2748-4949-9237-5DCAC9BA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365-96A0-43B3-B892-414C8EBF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9E24-7C3F-4A35-B1C9-ABB821E330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6.gif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9.gif"/><Relationship Id="rId3" Type="http://schemas.openxmlformats.org/officeDocument/2006/relationships/slide" Target="slide14.xml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voltage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6.xml"/><Relationship Id="rId4" Type="http://schemas.openxmlformats.org/officeDocument/2006/relationships/slide" Target="slide4.xml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audio" Target="../media/projcto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19280" y="1484280"/>
            <a:ext cx="612144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第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15</a:t>
            </a: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独立自主的和平外交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47520"/>
            <a:ext cx="8713800" cy="67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44360" y="4428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探究历史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76720" y="235080"/>
            <a:ext cx="5616360" cy="52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和平共处五项原则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1953-54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050920" y="1125360"/>
            <a:ext cx="5361120" cy="3807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2124000" y="5445000"/>
            <a:ext cx="640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95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周恩来在会见印度政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代表团时第一次提出和平共处五项原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9640" y="5950080"/>
            <a:ext cx="1008000" cy="35856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50920" y="3933720"/>
            <a:ext cx="4680000" cy="26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4428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探究历史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9640" y="969840"/>
            <a:ext cx="7956720" cy="3035520"/>
            <a:chOff x="539640" y="969840"/>
            <a:chExt cx="7956720" cy="3035520"/>
          </a:xfrm>
        </p:grpSpPr>
        <p:graphicFrame>
          <p:nvGraphicFramePr>
            <p:cNvPr id="99" name=""/>
            <p:cNvGraphicFramePr/>
            <p:nvPr/>
          </p:nvGraphicFramePr>
          <p:xfrm>
            <a:off x="539640" y="969840"/>
            <a:ext cx="4457880" cy="303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9640" y="969840"/>
                      <a:ext cx="4457880" cy="3035520"/>
                    </a:xfrm>
                    <a:prstGeom prst="rect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5076720" y="1257480"/>
              <a:ext cx="3419640" cy="15562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1954</a:t>
              </a:r>
              <a:r>
                <a:rPr b="1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年，</a:t>
              </a:r>
              <a:r>
                <a:rPr b="1" lang="zh-CN" sz="3200" spc="-1" strike="noStrike">
                  <a:solidFill>
                    <a:srgbClr val="ff9933"/>
                  </a:solidFill>
                  <a:latin typeface="华文新魏"/>
                  <a:ea typeface="华文新魏"/>
                </a:rPr>
                <a:t>周恩来</a:t>
              </a:r>
              <a:r>
                <a:rPr b="1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总理访问印度，    与印度总理</a:t>
              </a:r>
              <a:r>
                <a:rPr b="1" lang="zh-CN" sz="3200" spc="-1" strike="noStrike">
                  <a:solidFill>
                    <a:srgbClr val="ff9900"/>
                  </a:solidFill>
                  <a:latin typeface="华文新魏"/>
                  <a:ea typeface="华文新魏"/>
                </a:rPr>
                <a:t>尼赫鲁</a:t>
              </a:r>
              <a:r>
                <a:rPr b="1" lang="zh-CN" sz="32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会谈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-360" y="3357720"/>
            <a:ext cx="4608360" cy="3765960"/>
            <a:chOff x="-360" y="3357720"/>
            <a:chExt cx="4608360" cy="3765960"/>
          </a:xfrm>
        </p:grpSpPr>
        <p:sp>
          <p:nvSpPr>
            <p:cNvPr id="103" name=""/>
            <p:cNvSpPr/>
            <p:nvPr/>
          </p:nvSpPr>
          <p:spPr>
            <a:xfrm rot="5400000">
              <a:off x="721080" y="2635920"/>
              <a:ext cx="3165480" cy="4608360"/>
            </a:xfrm>
            <a:prstGeom prst="horizont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4320" y="3737880"/>
              <a:ext cx="4127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33"/>
                  </a:solidFill>
                  <a:latin typeface="Times New Roman"/>
                  <a:ea typeface="隶书"/>
                </a:rPr>
                <a:t>互相尊重领土主权     互不侵犯                     互不干涉内政             平等互惠                     和平共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 rot="21417600">
            <a:off x="4211280" y="4809600"/>
            <a:ext cx="1008000" cy="419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5076720" y="4654440"/>
            <a:ext cx="367344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标志着我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外交政策的成熟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132000" y="235080"/>
            <a:ext cx="5616720" cy="52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和平共处五项原则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1953-54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834920" y="1697040"/>
            <a:ext cx="59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.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代前半期我国外交的特点是什么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01960" y="2770200"/>
            <a:ext cx="537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年代前半期我国外交的特点是：以独立姿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登上国际舞台。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00960" y="5075280"/>
            <a:ext cx="50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我国外交政策成熟的标志是：和平共处五项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则的提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28520" y="3998880"/>
            <a:ext cx="47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我国外交政策成熟的标志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260360" y="33336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总结历史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互相尊重领土主权     互不侵犯                     互不干涉内政             平等互惠                     和平共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362320"/>
            <a:ext cx="86108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上述材料被称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这一材料是在何时、什么情况下、由谁倡导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后来产生了什么影响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048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和平共处五项原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46483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953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年底，中印就两国在西藏地区的关系问题进行谈判，周恩来在接见印度代表时提出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63244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成为处理国与国之间关系的基本准则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9640" y="533520"/>
            <a:ext cx="7981920" cy="5127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5734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54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日内瓦会议上的周恩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次亮相国际舞台，周恩来所带来的绝对是超乎想象的精彩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_x000b__x000c_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8000" y="11592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探究历史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4000" y="260280"/>
            <a:ext cx="482436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亚非万隆会议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1955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1989000"/>
            <a:ext cx="8280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带着以下的问题看录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请说出这次会议时间、地点和名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这次会议的特点和中心议题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中国为万隆会议做出了怎样的贡献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这次会议的召开具有什么样的历史意义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85080" y="4797360"/>
            <a:ext cx="952560" cy="571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56720" y="5589720"/>
            <a:ext cx="95220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3243240"/>
            <a:ext cx="792000" cy="7642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44520" y="3141720"/>
            <a:ext cx="63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遭遇相同：曾经受到帝国主义的侵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3645000"/>
            <a:ext cx="56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面临问题相同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如何发展国家经济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维护民族独立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促进世界和平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5826240"/>
            <a:ext cx="792000" cy="7642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5646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社会制度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6222960"/>
            <a:ext cx="23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建设道路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4428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探究历史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9381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国代表团是来求团结而不是吵架的”，“是来求同而不是立异的”，“我们的会议应该求同存异 。             ——周恩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4000" y="260280"/>
            <a:ext cx="482436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亚非万隆会议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1955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588000" y="3645000"/>
            <a:ext cx="2241720" cy="29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050920" y="1044720"/>
            <a:ext cx="4572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万隆精神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2362320" cy="2133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044720" y="3141720"/>
            <a:ext cx="727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隶书"/>
              </a:rPr>
              <a:t>亚非人民团结一致，保卫世界和平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隶书"/>
              </a:rPr>
              <a:t>增进各国人民间友谊的精神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隶书"/>
              </a:rPr>
              <a:t>称为“万隆精神”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54800" y="692280"/>
            <a:ext cx="3513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新中国</a:t>
            </a: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新魏"/>
              </a:rPr>
              <a:t>初期的外交成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新魏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新魏"/>
              </a:rPr>
              <a:t>1949-1955</a:t>
            </a: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新魏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8000" y="46080"/>
            <a:ext cx="29512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探究历史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5" name=""/>
          <p:cNvSpPr/>
          <p:nvPr/>
        </p:nvSpPr>
        <p:spPr>
          <a:xfrm rot="19137600">
            <a:off x="899640" y="2852280"/>
            <a:ext cx="432000" cy="287280"/>
          </a:xfrm>
          <a:prstGeom prst="rightArrow">
            <a:avLst>
              <a:gd name="adj1" fmla="val 56130"/>
              <a:gd name="adj2" fmla="val 23071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47640" y="2421000"/>
            <a:ext cx="2303280" cy="1211040"/>
            <a:chOff x="1547640" y="2421000"/>
            <a:chExt cx="2303280" cy="1211040"/>
          </a:xfrm>
        </p:grpSpPr>
        <p:sp>
          <p:nvSpPr>
            <p:cNvPr id="147" name=""/>
            <p:cNvSpPr/>
            <p:nvPr/>
          </p:nvSpPr>
          <p:spPr>
            <a:xfrm>
              <a:off x="1547640" y="2421000"/>
              <a:ext cx="2232000" cy="1211040"/>
            </a:xfrm>
            <a:prstGeom prst="flowChartAlternateProcess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>
              <a:hlinkClick r:id="rId2" action="ppaction://hlinksldjump"/>
            </p:cNvPr>
            <p:cNvSpPr/>
            <p:nvPr/>
          </p:nvSpPr>
          <p:spPr>
            <a:xfrm>
              <a:off x="1763640" y="2479680"/>
              <a:ext cx="2087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和平共处五项原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547640" y="4653000"/>
            <a:ext cx="2232000" cy="1211400"/>
            <a:chOff x="1547640" y="4653000"/>
            <a:chExt cx="2232000" cy="1211400"/>
          </a:xfrm>
        </p:grpSpPr>
        <p:sp>
          <p:nvSpPr>
            <p:cNvPr id="150" name=""/>
            <p:cNvSpPr/>
            <p:nvPr/>
          </p:nvSpPr>
          <p:spPr>
            <a:xfrm>
              <a:off x="1547640" y="4653000"/>
              <a:ext cx="2232000" cy="1211400"/>
            </a:xfrm>
            <a:prstGeom prst="flowChartAlternateProcess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>
              <a:hlinkClick r:id="rId3" action="ppaction://hlinksldjump"/>
            </p:cNvPr>
            <p:cNvSpPr/>
            <p:nvPr/>
          </p:nvSpPr>
          <p:spPr>
            <a:xfrm>
              <a:off x="1763640" y="4724640"/>
              <a:ext cx="1873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万隆会议周恩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rot="2506200">
            <a:off x="899640" y="4941720"/>
            <a:ext cx="432000" cy="287640"/>
          </a:xfrm>
          <a:prstGeom prst="rightArrow">
            <a:avLst>
              <a:gd name="adj1" fmla="val 50000"/>
              <a:gd name="adj2" fmla="val 37547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500720" y="2276640"/>
            <a:ext cx="2232000" cy="1511280"/>
            <a:chOff x="4500720" y="2276640"/>
            <a:chExt cx="2232000" cy="1511280"/>
          </a:xfrm>
        </p:grpSpPr>
        <p:sp>
          <p:nvSpPr>
            <p:cNvPr id="154" name=""/>
            <p:cNvSpPr/>
            <p:nvPr/>
          </p:nvSpPr>
          <p:spPr>
            <a:xfrm>
              <a:off x="4500720" y="2276640"/>
              <a:ext cx="2232000" cy="1511280"/>
            </a:xfrm>
            <a:prstGeom prst="flowChartAlternateProcess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45440" y="2335680"/>
              <a:ext cx="2014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成为处理国与国之间的基本准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995640" y="2852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643280" y="4437000"/>
            <a:ext cx="2232000" cy="1511280"/>
            <a:chOff x="4643280" y="4437000"/>
            <a:chExt cx="2232000" cy="1511280"/>
          </a:xfrm>
        </p:grpSpPr>
        <p:sp>
          <p:nvSpPr>
            <p:cNvPr id="158" name=""/>
            <p:cNvSpPr/>
            <p:nvPr/>
          </p:nvSpPr>
          <p:spPr>
            <a:xfrm>
              <a:off x="4643280" y="4437000"/>
              <a:ext cx="2232000" cy="1511280"/>
            </a:xfrm>
            <a:prstGeom prst="flowChartAlternateProcess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43280" y="4651200"/>
              <a:ext cx="2230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开创了我国外交新局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995640" y="501336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596360" y="2997360"/>
            <a:ext cx="1403280" cy="1944360"/>
            <a:chOff x="7596360" y="2997360"/>
            <a:chExt cx="1403280" cy="1944360"/>
          </a:xfrm>
        </p:grpSpPr>
        <p:sp>
          <p:nvSpPr>
            <p:cNvPr id="162" name=""/>
            <p:cNvSpPr/>
            <p:nvPr/>
          </p:nvSpPr>
          <p:spPr>
            <a:xfrm>
              <a:off x="7596360" y="2997360"/>
              <a:ext cx="1368360" cy="1944360"/>
            </a:xfrm>
            <a:prstGeom prst="flowChartAlternateProcess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67640" y="2997360"/>
              <a:ext cx="1332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为我国赢得良好的外部环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 rot="1987800">
            <a:off x="7019640" y="2997360"/>
            <a:ext cx="460440" cy="287280"/>
          </a:xfrm>
          <a:prstGeom prst="rightArrow">
            <a:avLst>
              <a:gd name="adj1" fmla="val 50000"/>
              <a:gd name="adj2" fmla="val 40069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9279800">
            <a:off x="7020000" y="4941360"/>
            <a:ext cx="460440" cy="287640"/>
          </a:xfrm>
          <a:prstGeom prst="rightArrow">
            <a:avLst>
              <a:gd name="adj1" fmla="val 50000"/>
              <a:gd name="adj2" fmla="val 40019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8000" y="2205000"/>
            <a:ext cx="684000" cy="3743280"/>
          </a:xfrm>
          <a:custGeom>
            <a:avLst/>
            <a:gdLst>
              <a:gd name="textAreaLeft" fmla="*/ 42120 w 684000"/>
              <a:gd name="textAreaRight" fmla="*/ 641880 w 684000"/>
              <a:gd name="textAreaTop" fmla="*/ 42120 h 3743280"/>
              <a:gd name="textAreaBottom" fmla="*/ 3701160 h 3743280"/>
            </a:gdLst>
            <a:ahLst/>
            <a:rect l="textAreaLeft" t="textAreaTop" r="textAreaRight" b="textAreaBottom"/>
            <a:pathLst>
              <a:path w="21600" h="118158">
                <a:moveTo>
                  <a:pt x="4561" y="0"/>
                </a:moveTo>
                <a:arcTo wR="4561" hR="4561" stAng="16200000" swAng="-5400000"/>
                <a:lnTo>
                  <a:pt x="0" y="113597"/>
                </a:lnTo>
                <a:arcTo wR="4561" hR="4561" stAng="10800000" swAng="-5400000"/>
                <a:lnTo>
                  <a:pt x="17039" y="118158"/>
                </a:lnTo>
                <a:arcTo wR="4561" hR="4561" stAng="5400000" swAng="-5400000"/>
                <a:lnTo>
                  <a:pt x="21600" y="4561"/>
                </a:lnTo>
                <a:arcTo wR="4561" hR="4561" stAng="0" swAng="-5400000"/>
                <a:close/>
              </a:path>
            </a:pathLst>
          </a:custGeom>
          <a:gradFill rotWithShape="0">
            <a:gsLst>
              <a:gs pos="0">
                <a:srgbClr val="3b3b00"/>
              </a:gs>
              <a:gs pos="50000">
                <a:srgbClr val="808000"/>
              </a:gs>
              <a:gs pos="100000">
                <a:srgbClr val="3b3b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4" action="ppaction://hlinksldjump"/>
          </p:cNvPr>
          <p:cNvSpPr/>
          <p:nvPr/>
        </p:nvSpPr>
        <p:spPr>
          <a:xfrm>
            <a:off x="-277920" y="2421000"/>
            <a:ext cx="103356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独立自主的和平外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9080" y="10663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隶书"/>
              </a:rPr>
              <a:t>猜一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3048120"/>
            <a:ext cx="133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北伐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3048120"/>
            <a:ext cx="11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淮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304812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总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30481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外交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9051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根据以下提示，猜一人物（三个字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44197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周  恩  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876920" y="3733920"/>
            <a:ext cx="19810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666880" y="838080"/>
            <a:ext cx="4876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华文彩云"/>
              </a:rPr>
              <a:t>想一下“求同存异”在我们平常的生活中适用吗？实际上它存在什么道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 rot="5400000">
            <a:off x="359640" y="2313000"/>
            <a:ext cx="2808360" cy="57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方正舒体"/>
              </a:rPr>
              <a:t>兴趣作业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32004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求同存异”实际上包含了宽容、谦虚、彼此理解、互相尊重的内涵。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6320" y="457560"/>
            <a:ext cx="56502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十世纪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个最伟大的人物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在美国人心目中，以下是二十世纪最伟大的人物：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富兰克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罗斯福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弗拉基米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伊里奇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列宁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温斯顿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丘吉尔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毛泽东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圣雄甘地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约瑟夫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斯大林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周恩来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德怀特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艾森豪威尔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戴高乐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0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伍德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威尔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0920" y="260280"/>
            <a:ext cx="295092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回顾历史</a:t>
            </a:r>
            <a:endParaRPr b="1" lang="en-US" sz="2400" spc="1" strike="noStrike">
              <a:ln w="1260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042920" y="2708280"/>
            <a:ext cx="7272360" cy="26305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54" name=""/>
          <p:cNvSpPr txBox="1"/>
          <p:nvPr/>
        </p:nvSpPr>
        <p:spPr>
          <a:xfrm>
            <a:off x="1042920" y="1268280"/>
            <a:ext cx="712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你能用几个词来概括近代中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外交的基本特征吗？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32000" y="5661000"/>
            <a:ext cx="140004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不平等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92360" y="5661000"/>
            <a:ext cx="14004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不独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651640" y="5589720"/>
            <a:ext cx="172692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无自主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1560" y="954000"/>
            <a:ext cx="11157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隶书"/>
                <a:ea typeface="华文新魏"/>
              </a:rPr>
              <a:t>新中国成立后，你认为我们采取了什么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隶书"/>
                <a:ea typeface="华文新魏"/>
              </a:rPr>
              <a:t>的外交政策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920" y="189000"/>
            <a:ext cx="29509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探究历史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0" name=""/>
          <p:cNvSpPr/>
          <p:nvPr/>
        </p:nvSpPr>
        <p:spPr>
          <a:xfrm>
            <a:off x="4375440" y="4428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快速阅读，提炼要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979640" y="1844640"/>
            <a:ext cx="6950160" cy="3600360"/>
            <a:chOff x="1979640" y="1844640"/>
            <a:chExt cx="6950160" cy="3600360"/>
          </a:xfrm>
        </p:grpSpPr>
        <p:sp>
          <p:nvSpPr>
            <p:cNvPr id="62" name=""/>
            <p:cNvSpPr/>
            <p:nvPr/>
          </p:nvSpPr>
          <p:spPr>
            <a:xfrm>
              <a:off x="1979640" y="1844640"/>
              <a:ext cx="6950160" cy="3600360"/>
            </a:xfrm>
            <a:prstGeom prst="horizont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31520" y="2420640"/>
              <a:ext cx="639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00"/>
                  </a:solidFill>
                  <a:latin typeface="Times New Roman"/>
                  <a:ea typeface="隶书"/>
                </a:rPr>
                <a:t>        </a:t>
              </a:r>
              <a:r>
                <a:rPr b="1" lang="zh-CN" sz="3200" spc="-1" strike="noStrike">
                  <a:solidFill>
                    <a:srgbClr val="800000"/>
                  </a:solidFill>
                  <a:latin typeface="Times New Roman"/>
                  <a:ea typeface="隶书"/>
                </a:rPr>
                <a:t>本政府为代表中华人民共和国全国人民的唯一政府。凡愿遵守平等、互利及互相尊重领土主权等项原则的任何外国政府，本政府均愿与之建立外交关系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3031800">
            <a:off x="4304880" y="5208480"/>
            <a:ext cx="1008000" cy="617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 rot="20907000">
            <a:off x="3348000" y="5805360"/>
            <a:ext cx="4896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隶书"/>
              </a:rPr>
              <a:t>独立 自主 和平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隶书"/>
              <a:ea typeface="隶书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9280" y="2708280"/>
            <a:ext cx="1586160" cy="2162160"/>
          </a:xfrm>
          <a:prstGeom prst="rect">
            <a:avLst/>
          </a:prstGeom>
          <a:ln w="9360">
            <a:solidFill>
              <a:srgbClr val="808000"/>
            </a:solidFill>
            <a:miter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5977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新中国建国初期外交形势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933960" cy="3708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81280" y="22096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宋体"/>
              </a:rPr>
              <a:t>中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365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与中国建交国               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与美国缔结防御条约国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4508640"/>
            <a:ext cx="3808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4508640"/>
            <a:ext cx="380880" cy="2286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48690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请思考：图上反映出建国初，我国外交面临怎样的形势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57913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讨论：假如你是当时的国家领导人，你会怎样去改变这种状况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面对着当时对中国不利的国际形势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中国领导人是怎样做的呢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11280" y="1700280"/>
            <a:ext cx="6337080" cy="1798560"/>
            <a:chOff x="611280" y="1700280"/>
            <a:chExt cx="6337080" cy="1798560"/>
          </a:xfrm>
        </p:grpSpPr>
        <p:sp>
          <p:nvSpPr>
            <p:cNvPr id="77" name=""/>
            <p:cNvSpPr/>
            <p:nvPr/>
          </p:nvSpPr>
          <p:spPr>
            <a:xfrm>
              <a:off x="2916360" y="1700280"/>
              <a:ext cx="863640" cy="720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1280" y="2708280"/>
              <a:ext cx="63370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99"/>
                  </a:solidFill>
                  <a:latin typeface="Tahoma"/>
                </a:rPr>
                <a:t>积极、主动，走向世界交朋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79280" y="1011240"/>
            <a:ext cx="4897440" cy="349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108000" y="458136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49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月，毛泽东主席访问苏联。这是新中国最高领导人的首次出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995640" y="3724200"/>
            <a:ext cx="5040360" cy="30369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82" name=""/>
          <p:cNvSpPr txBox="1"/>
          <p:nvPr/>
        </p:nvSpPr>
        <p:spPr>
          <a:xfrm>
            <a:off x="179280" y="11592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探究历史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364000" y="260280"/>
            <a:ext cx="3383280" cy="2433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5292720" y="278136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毛泽东应邀出席斯大林七十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辰庆祝大会，受到高规格接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50920" y="1413000"/>
            <a:ext cx="4968720" cy="4195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86" name=""/>
          <p:cNvSpPr txBox="1"/>
          <p:nvPr/>
        </p:nvSpPr>
        <p:spPr>
          <a:xfrm>
            <a:off x="252360" y="11592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探究历史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7" name=""/>
          <p:cNvSpPr/>
          <p:nvPr/>
        </p:nvSpPr>
        <p:spPr>
          <a:xfrm>
            <a:off x="5292720" y="2351880"/>
            <a:ext cx="34862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50.2.14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《中苏友好同盟互助条约》签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这是新中国与外国签订的第一个条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人形容中苏关系是“同志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堂兄”的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1:28:32Z</dcterms:created>
  <dc:creator>king</dc:creator>
  <dc:description/>
  <dc:language>en-US</dc:language>
  <cp:lastModifiedBy>Lenovo User</cp:lastModifiedBy>
  <dcterms:modified xsi:type="dcterms:W3CDTF">2010-04-28T03:44:46Z</dcterms:modified>
  <cp:revision>142</cp:revision>
  <dc:subject/>
  <dc:title>PowerPoint 演示文稿</dc:title>
</cp:coreProperties>
</file>