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080A-C2AC-4695-AC1B-5F9BC9245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4FFD-8F49-483D-B42C-0692C76B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5676-F2B2-4434-ADEE-8C09CBA18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81D3-9696-4FB5-969B-4B8E801E7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1E19-8E40-40AB-A038-4C36C410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17BD-8034-4335-8BED-84EF786F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62B6-D81B-4A00-A193-DA002A90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0A14-DCF2-4F80-B2F4-265E5D0C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4BE9-70BB-4E1A-A290-0BFC0CC5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16E2-2C50-4A44-818A-10C570B4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040B-9D6E-4152-893A-CC9FDCE2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1831-BC80-493B-AE01-8AC466BD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9370-7BDE-4CE4-BBA3-7D92020315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34920" y="260280"/>
            <a:ext cx="64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5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课时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拥有财产的权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32000" y="2924280"/>
            <a:ext cx="56102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第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15</a:t>
            </a: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课时  拥有财产的权利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604800" y="235080"/>
            <a:ext cx="23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5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课时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聚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7200" y="1482840"/>
          <a:ext cx="8229600" cy="4825800"/>
        </p:xfrm>
        <a:graphic>
          <a:graphicData uri="http://schemas.openxmlformats.org/drawingml/2006/table">
            <a:tbl>
              <a:tblPr/>
              <a:tblGrid>
                <a:gridCol w="2027160"/>
                <a:gridCol w="6202440"/>
              </a:tblGrid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问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解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2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如何依法保护智力成果权？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2700360" y="2060640"/>
            <a:ext cx="583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国家依法保护未成年人的智力成果权、荣誉权不受侵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公民的智力成果权受到侵害时，要运用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法律武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维护自己的合法权益。【提示】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未成年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要增强维权意识。如果未成年人的智力成果权遭到非法侵害，可以由其父母或其他监护人要求有关机关予以法律保护，要求侵权人承担法律责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尊重他人智力成果权要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积极参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社会对智力成果的保护，尊重他人的脑力劳动，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不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侵害他人智力成果的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604800" y="235080"/>
            <a:ext cx="23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5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课时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拓展提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53240" y="1411920"/>
            <a:ext cx="5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盗版行为有什么危害？（提示：个人、社会、国家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2871360"/>
            <a:ext cx="8086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 ①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对个人来讲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，侵犯了创作者的智力成果权，不尊重他人的劳动成果，这是违法的，也是不道德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对社会来讲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，违背了诚信原则，损害了社会主义精神文明建设，败坏了社会风气。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或不利于营造尊重劳动、尊重知识、尊重人才、尊重创造的社会风气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对国家和民族来讲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，不利于民族创新能力的提高，玷污了民族形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组合 15"/>
          <p:cNvGrpSpPr/>
          <p:nvPr/>
        </p:nvGrpSpPr>
        <p:grpSpPr>
          <a:xfrm>
            <a:off x="826920" y="836640"/>
            <a:ext cx="1766880" cy="520560"/>
            <a:chOff x="826920" y="836640"/>
            <a:chExt cx="1766880" cy="520560"/>
          </a:xfrm>
        </p:grpSpPr>
        <p:grpSp>
          <p:nvGrpSpPr>
            <p:cNvPr id="84" name="Group 3"/>
            <p:cNvGrpSpPr/>
            <p:nvPr/>
          </p:nvGrpSpPr>
          <p:grpSpPr>
            <a:xfrm>
              <a:off x="826920" y="879480"/>
              <a:ext cx="1766880" cy="424080"/>
              <a:chOff x="826920" y="879480"/>
              <a:chExt cx="1766880" cy="424080"/>
            </a:xfrm>
          </p:grpSpPr>
          <p:sp>
            <p:nvSpPr>
              <p:cNvPr id="85" name="TextBox 6"/>
              <p:cNvSpPr/>
              <p:nvPr/>
            </p:nvSpPr>
            <p:spPr>
              <a:xfrm>
                <a:off x="942480" y="879480"/>
                <a:ext cx="1632960" cy="42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180000" bIns="180000" anchor="t">
                <a:noAutofit/>
              </a:bodyPr>
              <a:p>
                <a:pPr>
                  <a:lnSpc>
                    <a:spcPts val="1599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直接连接符 10"/>
              <p:cNvSpPr/>
              <p:nvPr/>
            </p:nvSpPr>
            <p:spPr>
              <a:xfrm flipH="1">
                <a:off x="826920" y="915120"/>
                <a:ext cx="1440" cy="357480"/>
              </a:xfrm>
              <a:prstGeom prst="line">
                <a:avLst/>
              </a:prstGeom>
              <a:ln w="2232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直接连接符 11"/>
              <p:cNvSpPr/>
              <p:nvPr/>
            </p:nvSpPr>
            <p:spPr>
              <a:xfrm flipH="1">
                <a:off x="2592360" y="915120"/>
                <a:ext cx="1440" cy="357480"/>
              </a:xfrm>
              <a:prstGeom prst="line">
                <a:avLst/>
              </a:prstGeom>
              <a:ln w="2232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Text Box 7"/>
            <p:cNvSpPr/>
            <p:nvPr/>
          </p:nvSpPr>
          <p:spPr>
            <a:xfrm>
              <a:off x="1195560" y="836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60093"/>
                  </a:solidFill>
                  <a:latin typeface="Arial"/>
                  <a:ea typeface="黑体"/>
                </a:rPr>
                <a:t>拓展提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404280" y="235080"/>
            <a:ext cx="14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5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课时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15"/>
          <p:cNvGrpSpPr/>
          <p:nvPr/>
        </p:nvGrpSpPr>
        <p:grpSpPr>
          <a:xfrm>
            <a:off x="826920" y="907920"/>
            <a:ext cx="3311640" cy="520560"/>
            <a:chOff x="826920" y="907920"/>
            <a:chExt cx="3311640" cy="520560"/>
          </a:xfrm>
        </p:grpSpPr>
        <p:grpSp>
          <p:nvGrpSpPr>
            <p:cNvPr id="91" name="Group 3"/>
            <p:cNvGrpSpPr/>
            <p:nvPr/>
          </p:nvGrpSpPr>
          <p:grpSpPr>
            <a:xfrm>
              <a:off x="826920" y="950760"/>
              <a:ext cx="2437920" cy="424080"/>
              <a:chOff x="826920" y="950760"/>
              <a:chExt cx="2437920" cy="424080"/>
            </a:xfrm>
          </p:grpSpPr>
          <p:sp>
            <p:nvSpPr>
              <p:cNvPr id="92" name="TextBox 6"/>
              <p:cNvSpPr/>
              <p:nvPr/>
            </p:nvSpPr>
            <p:spPr>
              <a:xfrm>
                <a:off x="986400" y="950760"/>
                <a:ext cx="2253240" cy="42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180000" bIns="180000" anchor="t">
                <a:noAutofit/>
              </a:bodyPr>
              <a:p>
                <a:pPr>
                  <a:lnSpc>
                    <a:spcPts val="1599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直接连接符 10"/>
              <p:cNvSpPr/>
              <p:nvPr/>
            </p:nvSpPr>
            <p:spPr>
              <a:xfrm flipH="1">
                <a:off x="826920" y="986400"/>
                <a:ext cx="2160" cy="357480"/>
              </a:xfrm>
              <a:prstGeom prst="line">
                <a:avLst/>
              </a:prstGeom>
              <a:ln w="2232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直接连接符 11"/>
              <p:cNvSpPr/>
              <p:nvPr/>
            </p:nvSpPr>
            <p:spPr>
              <a:xfrm flipH="1">
                <a:off x="3262680" y="986400"/>
                <a:ext cx="2160" cy="357480"/>
              </a:xfrm>
              <a:prstGeom prst="line">
                <a:avLst/>
              </a:prstGeom>
              <a:ln w="2232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Text Box 7"/>
            <p:cNvSpPr/>
            <p:nvPr/>
          </p:nvSpPr>
          <p:spPr>
            <a:xfrm>
              <a:off x="940680" y="907920"/>
              <a:ext cx="31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60093"/>
                  </a:solidFill>
                  <a:latin typeface="Arial"/>
                  <a:ea typeface="黑体"/>
                </a:rPr>
                <a:t>中考真题演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95280" y="277632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1bcde5"/>
                </a:solidFill>
                <a:latin typeface="Arial"/>
              </a:rPr>
              <a:t>[2012·</a:t>
            </a:r>
            <a:r>
              <a:rPr b="1" lang="zh-CN" sz="2400" spc="-1" strike="noStrike">
                <a:solidFill>
                  <a:srgbClr val="1bcde5"/>
                </a:solidFill>
                <a:latin typeface="Arial"/>
              </a:rPr>
              <a:t>贺州</a:t>
            </a:r>
            <a:r>
              <a:rPr b="1" lang="zh-CN" sz="2400" spc="-1" strike="noStrike">
                <a:solidFill>
                  <a:srgbClr val="1bcde5"/>
                </a:solidFill>
                <a:latin typeface="Arial"/>
              </a:rPr>
              <a:t>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某村女孩小云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时成了孤儿，随大伯一家一起生活。两年后，大伯未经小云同意，私自拆了小云父母遗留的两间旧房子。大伯的行为侵犯了小云对房子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占有权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处分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收益权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使用权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3080" y="335772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42920" y="494172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解析：处分权指依照所有人的意志，通过某种法律行为对财产进行处理，大伯没有征得小云的同意，私自拆房，侵犯了小云对房子的处分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404280" y="235080"/>
            <a:ext cx="14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5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课时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组合 15"/>
          <p:cNvGrpSpPr/>
          <p:nvPr/>
        </p:nvGrpSpPr>
        <p:grpSpPr>
          <a:xfrm>
            <a:off x="826920" y="907920"/>
            <a:ext cx="3311640" cy="520560"/>
            <a:chOff x="826920" y="907920"/>
            <a:chExt cx="3311640" cy="520560"/>
          </a:xfrm>
        </p:grpSpPr>
        <p:grpSp>
          <p:nvGrpSpPr>
            <p:cNvPr id="101" name="Group 3"/>
            <p:cNvGrpSpPr/>
            <p:nvPr/>
          </p:nvGrpSpPr>
          <p:grpSpPr>
            <a:xfrm>
              <a:off x="826920" y="950760"/>
              <a:ext cx="2437920" cy="424080"/>
              <a:chOff x="826920" y="950760"/>
              <a:chExt cx="2437920" cy="424080"/>
            </a:xfrm>
          </p:grpSpPr>
          <p:sp>
            <p:nvSpPr>
              <p:cNvPr id="102" name="TextBox 6"/>
              <p:cNvSpPr/>
              <p:nvPr/>
            </p:nvSpPr>
            <p:spPr>
              <a:xfrm>
                <a:off x="986400" y="950760"/>
                <a:ext cx="2253240" cy="42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180000" bIns="180000" anchor="t">
                <a:noAutofit/>
              </a:bodyPr>
              <a:p>
                <a:pPr>
                  <a:lnSpc>
                    <a:spcPts val="1599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直接连接符 10"/>
              <p:cNvSpPr/>
              <p:nvPr/>
            </p:nvSpPr>
            <p:spPr>
              <a:xfrm flipH="1">
                <a:off x="826920" y="986400"/>
                <a:ext cx="2160" cy="357480"/>
              </a:xfrm>
              <a:prstGeom prst="line">
                <a:avLst/>
              </a:prstGeom>
              <a:ln w="2232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直接连接符 11"/>
              <p:cNvSpPr/>
              <p:nvPr/>
            </p:nvSpPr>
            <p:spPr>
              <a:xfrm flipH="1">
                <a:off x="3262680" y="986400"/>
                <a:ext cx="2160" cy="357480"/>
              </a:xfrm>
              <a:prstGeom prst="line">
                <a:avLst/>
              </a:prstGeom>
              <a:ln w="2232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Text Box 7"/>
            <p:cNvSpPr/>
            <p:nvPr/>
          </p:nvSpPr>
          <p:spPr>
            <a:xfrm>
              <a:off x="940680" y="907920"/>
              <a:ext cx="31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60093"/>
                  </a:solidFill>
                  <a:latin typeface="Arial"/>
                  <a:ea typeface="黑体"/>
                </a:rPr>
                <a:t>中考真题演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395280" y="2410200"/>
            <a:ext cx="813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1bcde5"/>
                </a:solidFill>
                <a:latin typeface="Arial"/>
              </a:rPr>
              <a:t>[2012·</a:t>
            </a:r>
            <a:r>
              <a:rPr b="1" lang="zh-CN" sz="2400" spc="-1" strike="noStrike">
                <a:solidFill>
                  <a:srgbClr val="1bcde5"/>
                </a:solidFill>
                <a:latin typeface="Arial"/>
              </a:rPr>
              <a:t>杭州</a:t>
            </a:r>
            <a:r>
              <a:rPr b="1" lang="zh-CN" sz="2400" spc="-1" strike="noStrike">
                <a:solidFill>
                  <a:srgbClr val="1bcde5"/>
                </a:solidFill>
                <a:latin typeface="Arial"/>
              </a:rPr>
              <a:t>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李某早年与妻子赵某离婚，一直与儿子和父母共同生活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初，李某因交通事故去世。对李某遗产的继承，下列说法正确的是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若李某留有有效遗嘱，须按遗嘱继承　②若李某未留有效遗嘱，可按法定继承　③李某是继承人，儿子、父母是被继承人　④若按法定继承，第一顺序继承人是赵某、儿子和父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 ①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　　　         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 ③④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 ①④                               D. ②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21440" y="213372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404280" y="235080"/>
            <a:ext cx="14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5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课时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组合 15"/>
          <p:cNvGrpSpPr/>
          <p:nvPr/>
        </p:nvGrpSpPr>
        <p:grpSpPr>
          <a:xfrm>
            <a:off x="826920" y="907920"/>
            <a:ext cx="3311640" cy="520560"/>
            <a:chOff x="826920" y="907920"/>
            <a:chExt cx="3311640" cy="520560"/>
          </a:xfrm>
        </p:grpSpPr>
        <p:grpSp>
          <p:nvGrpSpPr>
            <p:cNvPr id="110" name="Group 3"/>
            <p:cNvGrpSpPr/>
            <p:nvPr/>
          </p:nvGrpSpPr>
          <p:grpSpPr>
            <a:xfrm>
              <a:off x="826920" y="950760"/>
              <a:ext cx="2437920" cy="424080"/>
              <a:chOff x="826920" y="950760"/>
              <a:chExt cx="2437920" cy="424080"/>
            </a:xfrm>
          </p:grpSpPr>
          <p:sp>
            <p:nvSpPr>
              <p:cNvPr id="111" name="TextBox 6"/>
              <p:cNvSpPr/>
              <p:nvPr/>
            </p:nvSpPr>
            <p:spPr>
              <a:xfrm>
                <a:off x="986400" y="950760"/>
                <a:ext cx="2253240" cy="42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180000" bIns="180000" anchor="t">
                <a:noAutofit/>
              </a:bodyPr>
              <a:p>
                <a:pPr>
                  <a:lnSpc>
                    <a:spcPts val="1599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直接连接符 10"/>
              <p:cNvSpPr/>
              <p:nvPr/>
            </p:nvSpPr>
            <p:spPr>
              <a:xfrm flipH="1">
                <a:off x="826920" y="986400"/>
                <a:ext cx="2160" cy="357480"/>
              </a:xfrm>
              <a:prstGeom prst="line">
                <a:avLst/>
              </a:prstGeom>
              <a:ln w="2232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直接连接符 11"/>
              <p:cNvSpPr/>
              <p:nvPr/>
            </p:nvSpPr>
            <p:spPr>
              <a:xfrm flipH="1">
                <a:off x="3262680" y="986400"/>
                <a:ext cx="2160" cy="357480"/>
              </a:xfrm>
              <a:prstGeom prst="line">
                <a:avLst/>
              </a:prstGeom>
              <a:ln w="2232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Text Box 7"/>
            <p:cNvSpPr/>
            <p:nvPr/>
          </p:nvSpPr>
          <p:spPr>
            <a:xfrm>
              <a:off x="940680" y="907920"/>
              <a:ext cx="31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60093"/>
                  </a:solidFill>
                  <a:latin typeface="Arial"/>
                  <a:ea typeface="黑体"/>
                </a:rPr>
                <a:t>中考真题演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700360" y="1482480"/>
            <a:ext cx="3634920" cy="5209920"/>
            <a:chOff x="2700360" y="1482480"/>
            <a:chExt cx="3634920" cy="5209920"/>
          </a:xfrm>
        </p:grpSpPr>
        <p:sp>
          <p:nvSpPr>
            <p:cNvPr id="116" name=""/>
            <p:cNvSpPr/>
            <p:nvPr/>
          </p:nvSpPr>
          <p:spPr>
            <a:xfrm>
              <a:off x="3417480" y="1482480"/>
              <a:ext cx="244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bcde5"/>
                  </a:solidFill>
                  <a:latin typeface="Arial"/>
                </a:rPr>
                <a:t>　</a:t>
              </a:r>
              <a:r>
                <a:rPr b="1" lang="zh-CN" sz="2400" spc="-1" strike="noStrike">
                  <a:solidFill>
                    <a:srgbClr val="1bcde5"/>
                  </a:solidFill>
                  <a:latin typeface="Arial"/>
                </a:rPr>
                <a:t>[2012·</a:t>
              </a:r>
              <a:r>
                <a:rPr b="1" lang="zh-CN" sz="2400" spc="-1" strike="noStrike">
                  <a:solidFill>
                    <a:srgbClr val="1bcde5"/>
                  </a:solidFill>
                  <a:latin typeface="Arial"/>
                </a:rPr>
                <a:t>重庆</a:t>
              </a:r>
              <a:r>
                <a:rPr b="1" lang="zh-CN" sz="2400" spc="-1" strike="noStrike">
                  <a:solidFill>
                    <a:srgbClr val="1bcde5"/>
                  </a:solidFill>
                  <a:latin typeface="Arial"/>
                </a:rPr>
                <a:t>]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阅读下面漫画，回答问题。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2700360" y="2381040"/>
              <a:ext cx="3022560" cy="233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2876400" y="5281920"/>
              <a:ext cx="3458880" cy="14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漫画反映了什么社会现象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漫画中的“哥哥”应采取什么行动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面对这一社会现象，你会怎么办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604800" y="235080"/>
            <a:ext cx="23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5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课时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要点探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2277360"/>
            <a:ext cx="84247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答案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] (1)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反映了我国当前还存在侵犯知识产权的社会现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(2)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向有关部门投诉，运用法律手段维护自己的合法权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(3)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增强维权意识，积极</a:t>
            </a:r>
            <a:r>
              <a:rPr b="1" i="1" lang="zh-CN" sz="2400" spc="-1" strike="noStrike">
                <a:solidFill>
                  <a:srgbClr val="333399"/>
                </a:solidFill>
                <a:latin typeface="Arial"/>
              </a:rPr>
              <a:t>宣传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相关法律知识；</a:t>
            </a:r>
            <a:r>
              <a:rPr b="1" i="1" lang="zh-CN" sz="2400" spc="-1" strike="noStrike">
                <a:solidFill>
                  <a:srgbClr val="333399"/>
                </a:solidFill>
                <a:latin typeface="Arial"/>
              </a:rPr>
              <a:t>不买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盗版商品，不做侵犯他人知识产权的事情；</a:t>
            </a:r>
            <a:r>
              <a:rPr b="1" i="1" lang="zh-CN" sz="2400" spc="-1" strike="noStrike">
                <a:solidFill>
                  <a:srgbClr val="333399"/>
                </a:solidFill>
                <a:latin typeface="Arial"/>
              </a:rPr>
              <a:t>举报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盗版侵权行为；等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648000" y="23508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5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课时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要点探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组合 15"/>
          <p:cNvGrpSpPr/>
          <p:nvPr/>
        </p:nvGrpSpPr>
        <p:grpSpPr>
          <a:xfrm>
            <a:off x="1186920" y="907920"/>
            <a:ext cx="2016720" cy="764280"/>
            <a:chOff x="1186920" y="907920"/>
            <a:chExt cx="2016720" cy="764280"/>
          </a:xfrm>
        </p:grpSpPr>
        <p:grpSp>
          <p:nvGrpSpPr>
            <p:cNvPr id="123" name="Group 3"/>
            <p:cNvGrpSpPr/>
            <p:nvPr/>
          </p:nvGrpSpPr>
          <p:grpSpPr>
            <a:xfrm>
              <a:off x="1186920" y="977040"/>
              <a:ext cx="1484280" cy="682920"/>
              <a:chOff x="1186920" y="977040"/>
              <a:chExt cx="1484280" cy="682920"/>
            </a:xfrm>
          </p:grpSpPr>
          <p:sp>
            <p:nvSpPr>
              <p:cNvPr id="124" name="TextBox 6"/>
              <p:cNvSpPr/>
              <p:nvPr/>
            </p:nvSpPr>
            <p:spPr>
              <a:xfrm>
                <a:off x="1284480" y="977040"/>
                <a:ext cx="1371960" cy="682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180000" bIns="180000" anchor="t">
                <a:noAutofit/>
              </a:bodyPr>
              <a:p>
                <a:pPr>
                  <a:lnSpc>
                    <a:spcPts val="1599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直接连接符 10"/>
              <p:cNvSpPr/>
              <p:nvPr/>
            </p:nvSpPr>
            <p:spPr>
              <a:xfrm flipH="1">
                <a:off x="1186920" y="1034280"/>
                <a:ext cx="1080" cy="575640"/>
              </a:xfrm>
              <a:prstGeom prst="line">
                <a:avLst/>
              </a:prstGeom>
              <a:ln w="2232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直接连接符 11"/>
              <p:cNvSpPr/>
              <p:nvPr/>
            </p:nvSpPr>
            <p:spPr>
              <a:xfrm flipH="1">
                <a:off x="2670120" y="1034280"/>
                <a:ext cx="1080" cy="575640"/>
              </a:xfrm>
              <a:prstGeom prst="line">
                <a:avLst/>
              </a:prstGeom>
              <a:ln w="2232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Text Box 7"/>
            <p:cNvSpPr/>
            <p:nvPr/>
          </p:nvSpPr>
          <p:spPr>
            <a:xfrm>
              <a:off x="1255320" y="907920"/>
              <a:ext cx="1948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d60093"/>
                  </a:solidFill>
                  <a:latin typeface="Arial"/>
                  <a:ea typeface="黑体"/>
                </a:rPr>
                <a:t>作业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1187280" y="2205000"/>
            <a:ext cx="56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复习本课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河南中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&gt;P8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选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604800" y="235080"/>
            <a:ext cx="23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5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课时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聚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18"/>
          <p:cNvGrpSpPr/>
          <p:nvPr/>
        </p:nvGrpSpPr>
        <p:grpSpPr>
          <a:xfrm>
            <a:off x="611280" y="907920"/>
            <a:ext cx="1766880" cy="520560"/>
            <a:chOff x="611280" y="907920"/>
            <a:chExt cx="1766880" cy="520560"/>
          </a:xfrm>
        </p:grpSpPr>
        <p:grpSp>
          <p:nvGrpSpPr>
            <p:cNvPr id="45" name="Group 3"/>
            <p:cNvGrpSpPr/>
            <p:nvPr/>
          </p:nvGrpSpPr>
          <p:grpSpPr>
            <a:xfrm>
              <a:off x="611280" y="977760"/>
              <a:ext cx="1766880" cy="423720"/>
              <a:chOff x="611280" y="977760"/>
              <a:chExt cx="1766880" cy="423720"/>
            </a:xfrm>
          </p:grpSpPr>
          <p:sp>
            <p:nvSpPr>
              <p:cNvPr id="46" name="TextBox 6"/>
              <p:cNvSpPr/>
              <p:nvPr/>
            </p:nvSpPr>
            <p:spPr>
              <a:xfrm>
                <a:off x="726840" y="977760"/>
                <a:ext cx="1632960" cy="42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180000" bIns="180000" anchor="t">
                <a:noAutofit/>
              </a:bodyPr>
              <a:p>
                <a:pPr>
                  <a:lnSpc>
                    <a:spcPts val="1599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直接连接符 10"/>
              <p:cNvSpPr/>
              <p:nvPr/>
            </p:nvSpPr>
            <p:spPr>
              <a:xfrm flipH="1">
                <a:off x="611280" y="1013400"/>
                <a:ext cx="1440" cy="357120"/>
              </a:xfrm>
              <a:prstGeom prst="line">
                <a:avLst/>
              </a:prstGeom>
              <a:ln w="2232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直接连接符 11"/>
              <p:cNvSpPr/>
              <p:nvPr/>
            </p:nvSpPr>
            <p:spPr>
              <a:xfrm flipH="1">
                <a:off x="2376720" y="1013400"/>
                <a:ext cx="1440" cy="357120"/>
              </a:xfrm>
              <a:prstGeom prst="line">
                <a:avLst/>
              </a:prstGeom>
              <a:ln w="2232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Text Box 7"/>
            <p:cNvSpPr/>
            <p:nvPr/>
          </p:nvSpPr>
          <p:spPr>
            <a:xfrm>
              <a:off x="962640" y="9079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60093"/>
                  </a:solidFill>
                  <a:latin typeface="Arial"/>
                  <a:ea typeface="黑体"/>
                </a:rPr>
                <a:t>考点聚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10"/>
          <p:cNvSpPr/>
          <p:nvPr/>
        </p:nvSpPr>
        <p:spPr>
          <a:xfrm>
            <a:off x="1638720" y="1484280"/>
            <a:ext cx="33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黑体"/>
                <a:ea typeface="黑体"/>
              </a:rPr>
              <a:t>考点  财产所有权  继承权 智力成果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39640" y="1989000"/>
          <a:ext cx="8280360" cy="4838760"/>
        </p:xfrm>
        <a:graphic>
          <a:graphicData uri="http://schemas.openxmlformats.org/drawingml/2006/table">
            <a:tbl>
              <a:tblPr/>
              <a:tblGrid>
                <a:gridCol w="2232000"/>
                <a:gridCol w="6048360"/>
              </a:tblGrid>
              <a:tr h="978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知道法律保护公民的财产、未成年人的财产继承权和智力成果不受侵犯，学会运用法律保护自己的经济权利。</a:t>
                      </a: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问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解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公民的个人财产有哪些？</a:t>
                      </a: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3616200" y="88884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16360" y="3479760"/>
            <a:ext cx="57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公民的个人财产。根据法律规定，公民的个人财产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包括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公民的合法收入、房屋、储蓄、生活用品、文物、图书资料、林木、牲畜和法律允许公民所有的生产资料以及其他合法财产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【注意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以下财产不属于个人所有，不受法律保护：①施工时发现的所有人不明的埋藏物。②捡拾到的他人遗失物。③采取非法手段获得的财产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604800" y="235080"/>
            <a:ext cx="23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5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课时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聚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413000"/>
          <a:ext cx="8229600" cy="4824360"/>
        </p:xfrm>
        <a:graphic>
          <a:graphicData uri="http://schemas.openxmlformats.org/drawingml/2006/table">
            <a:tbl>
              <a:tblPr/>
              <a:tblGrid>
                <a:gridCol w="2170080"/>
                <a:gridCol w="60595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问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解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财产所有权的含义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公民合法财产所有权受法律保护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法律为什么要保护公民合法财产的所有权？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2771640" y="191628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财产所有权是指所有人依法对自己的财产享有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占有、使用、收益和处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权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2781360"/>
            <a:ext cx="58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国民事法律是保护公民合法财产及其所有权的重要武器。我国刑事法律是保护公民合法财产及其所有权的锐利武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400536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公民的个人所有的合法财产，直接关系到公民本人及其家庭成员的衣、食、住、行，是实现公民其他权利的物质基础。切实保护公民个人所有的合法财产及其所有权，对于维护公民的正常生活，激励其积累财富、创造财富，具有重要意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604800" y="235080"/>
            <a:ext cx="23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5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课时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聚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907920"/>
          <a:ext cx="8229600" cy="5545440"/>
        </p:xfrm>
        <a:graphic>
          <a:graphicData uri="http://schemas.openxmlformats.org/drawingml/2006/table">
            <a:tbl>
              <a:tblPr/>
              <a:tblGrid>
                <a:gridCol w="2027160"/>
                <a:gridCol w="62024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问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解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如何依法维护财产所有权？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2484360" y="141300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所有权的归属发生争议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我们应依法向人民法院提起诉讼，请求确认其所有权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我们的财产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被他人非法占有拒不返还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，可向人民法院提起诉讼，请求法院强令不法占有人返还原物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我们的财产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受到不法侵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已经毁坏或者灭失时，应向人民法院提起诉讼，要求侵权人赔偿损失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国家行政机关及其工作人员，在行使行政职权过程中，当其违法实施没收财产的行政处罚，违法对财产采取查封、扣押、冻结等行政强制措施时，可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向人民法院提起诉讼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要求依法撤销裁决，或予以行政赔偿，以维护自己的财产所有权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604800" y="235080"/>
            <a:ext cx="23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5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课时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聚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413000"/>
          <a:ext cx="8229600" cy="4225680"/>
        </p:xfrm>
        <a:graphic>
          <a:graphicData uri="http://schemas.openxmlformats.org/drawingml/2006/table">
            <a:tbl>
              <a:tblPr/>
              <a:tblGrid>
                <a:gridCol w="2602080"/>
                <a:gridCol w="5627520"/>
              </a:tblGrid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问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解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9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什么是被继承人？什么叫遗产？作为遗产必须具备哪些条件？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3132000" y="2060640"/>
            <a:ext cx="5543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法律上将遗留财产的死者称为被继承人。被继承人遗留的个人合法财产称为遗产。作为遗产必须具备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三个条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必须是公民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死亡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遗留的财产；必须是公民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个人所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财产；必须是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合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财产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604800" y="235080"/>
            <a:ext cx="23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5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课时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聚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197000"/>
          <a:ext cx="8229600" cy="5400720"/>
        </p:xfrm>
        <a:graphic>
          <a:graphicData uri="http://schemas.openxmlformats.org/drawingml/2006/table">
            <a:tbl>
              <a:tblPr/>
              <a:tblGrid>
                <a:gridCol w="1522440"/>
                <a:gridCol w="67071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问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解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什么是法定继承？法定继承人的范围和继承顺序是怎样的？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2195640" y="1654200"/>
            <a:ext cx="64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谓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法定继承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是指既由法律直接规定继承人的范围和继承顺序，又由法律直接规定遗产份额分配原则的继承方式。 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法定继承人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主要包括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被继承人的配偶、子女、父母、兄弟姐妹、祖父母、外祖父母。法定继承人的上述范围，是根据血缘关系、婚姻关系和抚养关系确立的。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继承顺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第一顺序继承人包括：配偶、子女、父母；第二顺序继承人包括：兄弟姐妹、祖父母、外祖父母。继承开始后，由第一顺序继承人继承，第二顺序继承人不继承。没有第一顺序继承人继承或第一顺序继承人放弃继承权的，由第二顺序继承人继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604800" y="235080"/>
            <a:ext cx="23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5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课时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聚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1197000"/>
          <a:ext cx="8229600" cy="5184720"/>
        </p:xfrm>
        <a:graphic>
          <a:graphicData uri="http://schemas.openxmlformats.org/drawingml/2006/table">
            <a:tbl>
              <a:tblPr/>
              <a:tblGrid>
                <a:gridCol w="2602080"/>
                <a:gridCol w="5627520"/>
              </a:tblGrid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问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解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什么叫遗嘱继承？遗嘱继承有什么优点？什么叫遗赠？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3348000" y="2205000"/>
            <a:ext cx="523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遗嘱继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指继承人按照被继承人所立遗嘱，继承被继承人遗产的方式。遗嘱继承的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优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被继承人能够充分按照自己的意愿处分财产。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遗嘱继承优先于法定继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法定继承人以外的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根据遗赠人的意愿获得遗嘱中指定的遗产，这种方式称为遗赠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604800" y="235080"/>
            <a:ext cx="23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5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课时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聚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197000"/>
          <a:ext cx="8229600" cy="4824360"/>
        </p:xfrm>
        <a:graphic>
          <a:graphicData uri="http://schemas.openxmlformats.org/drawingml/2006/table">
            <a:tbl>
              <a:tblPr/>
              <a:tblGrid>
                <a:gridCol w="2602080"/>
                <a:gridCol w="5627520"/>
              </a:tblGrid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问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解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继承权发生争议和受到侵犯时，我们应该怎么办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3276720" y="2133720"/>
            <a:ext cx="496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当继承权发生争议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我们除了严格遵循法律规定外，还要大力传承和弘扬中华民族传统美德，践行社会主义道德，本着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注重情义、互谅互让、和睦团结、协商处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继承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当我们的继承权受到侵犯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不要忍气吞声，要增强维权意识，要学会依靠社会力量，运用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法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武器，维护自己的正当权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604800" y="235080"/>
            <a:ext cx="23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5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课时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聚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1197000"/>
          <a:ext cx="8229600" cy="4464000"/>
        </p:xfrm>
        <a:graphic>
          <a:graphicData uri="http://schemas.openxmlformats.org/drawingml/2006/table">
            <a:tbl>
              <a:tblPr/>
              <a:tblGrid>
                <a:gridCol w="2459160"/>
                <a:gridCol w="5770440"/>
              </a:tblGrid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问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解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智力成果的含义和智力成果权的内容。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3348000" y="1916280"/>
            <a:ext cx="5327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智力成果的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含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主要指依靠人类脑力劳动所创造的劳动成果，表现为科学技术成就、发明创造以及文学艺术作品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智力成果权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称知识产权，通常包括著作权、专利权和商标权，以及反不正当竞争中的商业秘密等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00:49:42Z</dcterms:created>
  <dc:creator>User</dc:creator>
  <dc:description/>
  <dc:language>en-US</dc:language>
  <cp:lastModifiedBy>User</cp:lastModifiedBy>
  <dcterms:modified xsi:type="dcterms:W3CDTF">2013-03-15T01:40:28Z</dcterms:modified>
  <cp:revision>27</cp:revision>
  <dc:subject/>
  <dc:title>幻灯片 1</dc:title>
</cp:coreProperties>
</file>