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9242-D06D-488A-B0C7-598E9A20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B93-BFE7-434E-B220-BB1C89DD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81A5-78E4-4847-BB9D-03AAD006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ACD-0AD7-4372-895B-9AD2F020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47F7-66CF-41C8-8729-56F1773E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39E0-AA05-42B1-ADD5-E6A57C28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4DE8-C462-437D-A830-FA4CA158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9A82-8906-4D61-B2DC-636894BE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AA4C-5AB1-4D29-81CA-6F9BEF74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565E-4F18-4041-AC37-FDFE0FA4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E796-22C4-4494-B6FA-6508B70A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F82-033C-481E-8153-14A56CE0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2953-66FB-4F11-82D9-04A5C348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3733-9EDD-4AC0-850A-AE3A6447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685D-C991-4DEE-B0EA-E9EAADD0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8379-1F81-44AC-9D4A-DB2C5F5C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9E89-86DF-480B-BEE4-A38A573E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31BF8-6824-4980-933A-9EBB1E13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2C687-6B7E-489A-BB22-96CDC5BA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3CC57-27E6-478A-A117-32430ADD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44A18-CD1B-41CA-9E4A-45663929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1DEFA-9EC8-4E9D-8BCB-DB800C42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069D-C3E6-4EEF-A38A-96E32E82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21C7D-5CD1-4AAE-A672-D8BFBAC9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F0E72-48E4-4A9A-850E-0C69D1D2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3B3F7-CEA0-47BA-B761-264C5DD8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2D61D-1231-4E25-A340-2EFB8F8F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65B54-5EFE-44C6-ADCF-4C887507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B1BA8-C578-40AD-8859-4716A68B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2F834-4BD1-44FC-9AC7-AABDF71D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1F3A-B927-4CA2-A9EF-6257AF53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F914-6089-4537-A4A7-D121F907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7DB-7175-4D22-8597-24A0FC00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BA5-6B1E-4E73-9E35-E5C0F5C8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324-136D-40BF-895D-7D3AC212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685-E00D-416C-A034-A99E00D1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7103-C51C-4461-A033-488E6F168B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9BC2-9C1D-465E-BBB0-3ACFBF0CC38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A68D-9498-436E-8327-9207B5A4E32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5.xm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5.xm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627360" cy="5181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86200" y="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春秋时期，齐国和楚国都是大国。有一回，齐王派大夫晏子出使楚国。楚王知道晏子身材矮小，就叫人把城门旁边开了一个五尺来高的洞。晏子来到楚国。楚王叫人把城门关了，让晏子从这个洞钻进去。晏子看了看，对接待他的人说：“这是个狗洞，不是城门。只有访问‘狗国’，才从狗洞进去。我在这儿等一会儿。你们先去问个明白，楚国到底是个什么样的国家？”接待的人立刻把晏子的话传给了楚王。楚王只好吩咐大开城门，把晏子迎接进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53737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晏子使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34920" y="60534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问：晏子为什么坚持从大门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9480" y="843120"/>
            <a:ext cx="78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个爱搞恶作剧的学生向老师背后撒墨水，老师没有说什么，只是给他写了首小诗。“土地宽容了种子，拥有了收获；大海宽容了江河，拥有了浩瀚；天空宽容了彩霞，拥有了美丽；人生宽容了遗憾，拥有了未来。”学生看后，深思良久，主动向老师承认了错误。对老师更加敬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6093000"/>
            <a:ext cx="6112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030560" y="7650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个乡下人把陶罐拿到田里装了泥土，并种进了一棵梅花，又是年初一，花开了，他悄悄地把花送回那仇人的门口。在这一天，仇人羞愧地来到这位乡下人家里作揖说：“老兄，我输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3995640" cy="5940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72360" y="6093000"/>
            <a:ext cx="6112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822400" y="692280"/>
            <a:ext cx="599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　　（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）自尊要适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　　（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）适度的自尊有助于我们面对批评，改正错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　　（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）过度的自尊，则使我们过于敏感，作茧自缚，体验不到生活中的乐趣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71640" y="2637000"/>
            <a:ext cx="7345440" cy="11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彼此尊重才能赢得尊重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知道如何维护自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 明白自尊与尊重他人是相互关联，密不可分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知道如何尊重他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55640" y="112536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主学习——相信自己，我能行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2565360"/>
            <a:ext cx="73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：阅读课本内容，完成自学自测，相互批改纠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50760" y="307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3860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合作探究——小组合作，探究质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5280" y="549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胆展示，精彩点评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9280" y="1700280"/>
          <a:ext cx="8568000" cy="4562280"/>
        </p:xfrm>
        <a:graphic>
          <a:graphicData uri="http://schemas.openxmlformats.org/drawingml/2006/table">
            <a:tbl>
              <a:tblPr/>
              <a:tblGrid>
                <a:gridCol w="1511280"/>
                <a:gridCol w="720720"/>
                <a:gridCol w="792360"/>
                <a:gridCol w="1368360"/>
                <a:gridCol w="1511280"/>
                <a:gridCol w="1297080"/>
                <a:gridCol w="1366920"/>
              </a:tblGrid>
              <a:tr h="24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题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活动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活动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活动四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活动四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活动四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活动四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展示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点评补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由补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6588000" y="6372360"/>
            <a:ext cx="976320" cy="296640"/>
          </a:xfrm>
          <a:prstGeom prst="rightArrow">
            <a:avLst>
              <a:gd name="adj1" fmla="val 100000"/>
              <a:gd name="adj2" fmla="val 690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653560" y="191628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谈谈本节课你的收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404640"/>
            <a:ext cx="1042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彼此尊重才能赢得尊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692280"/>
            <a:ext cx="503280" cy="4897440"/>
          </a:xfrm>
          <a:custGeom>
            <a:avLst/>
            <a:gdLst>
              <a:gd name="textAreaLeft" fmla="*/ 321480 w 503280"/>
              <a:gd name="textAreaRight" fmla="*/ 503640 w 503280"/>
              <a:gd name="textAreaTop" fmla="*/ 127440 h 4897440"/>
              <a:gd name="textAreaBottom" fmla="*/ 4770000 h 489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260280"/>
            <a:ext cx="22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维护人格最重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47628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自尊的人最看重的自己的人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34936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自尊者豁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2920" y="4437000"/>
            <a:ext cx="15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善于尊重他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56000" y="3860640"/>
            <a:ext cx="287280" cy="2521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357336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基本表现：对人有礼貌尊重他人的劳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00360" y="4653000"/>
            <a:ext cx="64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善于站在对方角度看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71640" y="5300640"/>
            <a:ext cx="63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善于欣赏接纳他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595008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不做有损他人人格的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050920" y="1197000"/>
            <a:ext cx="504216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rcRect l="19071" t="0" r="0" b="0"/>
          <a:stretch/>
        </p:blipFill>
        <p:spPr>
          <a:xfrm>
            <a:off x="0" y="404640"/>
            <a:ext cx="4932360" cy="5904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580000" y="1268280"/>
            <a:ext cx="3095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59280" y="47628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武则天常听众大臣说狄仁杰为人宽厚，于是，她故意要试狄仁杰，就问他想不想知道谁在背后说过他的坏话，狄仁杰坦然得答道：“如果臣有过错，臣便改正；至于有人到朝廷讲臣的不是，臣不想知道是谁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72360" y="6093000"/>
            <a:ext cx="611280" cy="59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1:29:12Z</dcterms:created>
  <dc:creator>xh</dc:creator>
  <dc:description/>
  <dc:language>en-US</dc:language>
  <cp:lastModifiedBy>User</cp:lastModifiedBy>
  <dcterms:modified xsi:type="dcterms:W3CDTF">2013-03-05T07:08:35Z</dcterms:modified>
  <cp:revision>26</cp:revision>
  <dc:subject/>
  <dc:title>小憨教学资源网</dc:title>
</cp:coreProperties>
</file>